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1.png" ContentType="image/png"/>
  <Override PartName="/ppt/media/image13.png" ContentType="image/png"/>
  <Override PartName="/ppt/media/type.wav" ContentType="audio/x-wav"/>
  <Override PartName="/ppt/media/image6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D7C5-69DE-4B49-BF84-D48110CA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2981-5ED4-49BD-8CAC-445815ABB7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395-7E00-40D7-82DB-311245A64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61E-E51F-4F38-B8E3-9FF95D1EA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087F-7AC8-45DD-8FE5-6CA50EAE3D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8160-C473-4C13-A2C6-C66E72546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9B2B-FDDC-4EDF-BDBB-92FE388593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DD1F-8B5D-4739-91CD-BEF9B0B14A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5385-FFD8-472A-A76D-153894660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519-650B-4301-8F12-A7D0C1609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227-EFA3-45FA-BEA7-04A9692B3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0D4-F945-43D1-84AC-8899472C7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DD7C-5BA5-4B96-86EF-E84E1025DC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B362-CA1D-436A-A2CD-AE4F1A8A4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911-C752-496E-B624-26CD99B01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F91-B6EA-4760-B18D-E25D11075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F4E7-8864-4E67-A726-85BD0880C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C7A8-45D3-4362-B5CD-458DE97F4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58E5-DF89-4BC1-918D-688E98592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CE1-69D3-470D-990E-A866FB55A1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30BF-77A9-4951-93E0-9E7889E54F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A79-CFAC-4754-983E-AE20D25DB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5CC9-639D-4654-AC59-EB862AD96F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F42-F9B5-4012-AF28-614ACFBBE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894-C5E4-4AC3-8C07-C6277CEF8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8B8-F3CC-4C99-8B46-D7FDFD893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242-0EBB-477E-9C8C-30313F076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5D6-E66F-4FBE-8B73-84869616D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F2F-07CC-4999-B820-24C990AB85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353-8EC8-4B77-B8C1-7C357E5C7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7E6-2DED-4307-BB29-B961C63BE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D5D-A025-4EF8-8846-69CA6A2A1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AD9-AC1D-44E6-A2C0-8C251462A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DE2-96C0-4468-BD2B-60A17D93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96C-F5EF-43EB-8109-15D2985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2C9-74BB-4AEE-8AF0-23B77301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2F9-3FC2-4EE0-93FB-3E746CE2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D58-8E76-451E-897D-536C48B8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C764-EF9C-493B-AD81-E02444E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D62-AA88-4069-B650-F6D500D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52E-6CBC-4B0C-B61C-CBA64F07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08EC-78FE-4762-9C14-5D081E01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C1DD-224C-42F9-B8F0-78DAD5A3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1F31-6E6A-4122-968B-B932F40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165-1957-4808-9BAE-AF091FA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2C7-3B3E-4FB8-B4A6-1542659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F67A-5F7D-4768-8384-EE0AE1C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7C81-B3A1-4A0A-AC9E-530FEC4C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5FD8-D762-4DA9-B027-630E96F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DE3-8123-4916-A69E-24F5E156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A4-69FA-4EFD-82C2-9F3A9F3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392-8D8D-4C1D-A102-D968F2B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0C6-542F-4F0E-B621-CB37A2F7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BBE-54A5-4992-902F-7E74FC7C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291-D893-47AA-84FD-78121A0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E55-6128-48EF-B1CE-277DEAE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A09-3C0B-4EBA-9757-CD4760D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CFF-F779-4CA2-B79B-9E8BBFCCCB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759-4D62-40CD-B898-49489F5B6C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png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png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928800" y="4929120"/>
            <a:ext cx="74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71720" y="1928880"/>
            <a:ext cx="721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Окислительно-восстановительные реа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2560" y="642960"/>
            <a:ext cx="90010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з окислителей практическую значимость имеют </a:t>
            </a: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перманганат калия и дихромат кал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. На их использовании основаны такие методы количественного анализа, как перманганатометрия, хроматометрия и йодометр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з восстановителей широко применяются </a:t>
            </a: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иодид калия, сульфиды.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ни используются в аналитической химии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ажнейшие восстанов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ростые вещества –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етал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ладают только восстановительными свойств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a, K, Mg, Al, Zn, Fe) –</a:t>
            </a:r>
            <a:r>
              <a:rPr b="0" lang="en-US" sz="2000" spc="-1" strike="noStrike">
                <a:solidFill>
                  <a:srgbClr val="04f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4f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M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становительная активность металлов обычно оценивается электродным потенциалом, по значениям которых они располагаются в ряд, называемый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ядом напряжений металлов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аллы с меньшим потенциалом являются более активными, а с большим потенциалом менее активными (металлы, расположенные после водород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-142920"/>
            <a:ext cx="9144000" cy="67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ff3300"/>
                </a:solidFill>
                <a:latin typeface="Arial"/>
              </a:rPr>
              <a:t>Простые вещества элементов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IV</a:t>
            </a:r>
            <a:r>
              <a:rPr b="0" lang="ru-RU" sz="2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VII </a:t>
            </a:r>
            <a:r>
              <a:rPr b="0" lang="ru-RU" sz="2600" spc="-1" strike="noStrike">
                <a:solidFill>
                  <a:srgbClr val="ff3300"/>
                </a:solidFill>
                <a:latin typeface="Arial"/>
              </a:rPr>
              <a:t>групп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неметалл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большей степени проявляют окислительные свойства. За исключением фтора, они могут проявлять и восстановительные свойства (при взаимодействии с более сильными окислителями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 них наиболее часто в качестве восстановителей выступают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одород, углерод, фосфор, сер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Соединения неметаллов в низшей (отрицательной) степени окисл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например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000080" y="3357720"/>
          <a:ext cx="69976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357720"/>
                    <a:ext cx="6997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Прямоугольник 3"/>
          <p:cNvSpPr/>
          <p:nvPr/>
        </p:nvSpPr>
        <p:spPr>
          <a:xfrm>
            <a:off x="0" y="4929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642960" y="5786280"/>
          <a:ext cx="7651800" cy="6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786280"/>
                    <a:ext cx="7651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идриды металлов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и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рупп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tt-RU" sz="2800" spc="-1" strike="noStrike">
                <a:solidFill>
                  <a:srgbClr val="ffff00"/>
                </a:solidFill>
                <a:latin typeface="Arial"/>
              </a:rPr>
              <a:t>Катионы металлов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в низшей положительной степени окисл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u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M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–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u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M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которые классы органических соединений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1527120" y="785880"/>
          <a:ext cx="56386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785880"/>
                    <a:ext cx="563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3003480" y="4100400"/>
          <a:ext cx="3137040" cy="24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3480" y="4100400"/>
                    <a:ext cx="31370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кислительно-восстановительная двой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щества, в которых атомы элементов находятся в промежуточной степени окисления, в зависимости от условий реакций, проявляют окислительные или восстановительные свойства, 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сстановление                                     Оки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1285920" y="2786040"/>
          <a:ext cx="135900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786040"/>
                    <a:ext cx="1359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5715000" y="2714760"/>
          <a:ext cx="267984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714760"/>
                    <a:ext cx="26798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642960" y="3643200"/>
          <a:ext cx="2692440" cy="81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960" y="3643200"/>
                    <a:ext cx="2692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929200" y="3643200"/>
          <a:ext cx="2311560" cy="73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29200" y="3643200"/>
                    <a:ext cx="2311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428760" y="4714920"/>
          <a:ext cx="3060720" cy="888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760" y="4714920"/>
                    <a:ext cx="3060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5715000" y="4714920"/>
          <a:ext cx="2908440" cy="888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5000" y="4714920"/>
                    <a:ext cx="29084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1000080" y="5857920"/>
          <a:ext cx="1828800" cy="674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5857920"/>
                    <a:ext cx="1828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143760" y="5929200"/>
          <a:ext cx="2122200" cy="674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43760" y="5929200"/>
                    <a:ext cx="2122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0792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епенью окисл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нимают условный заряд на атоме в молекуле, вычисленный  исходя из предложения, что молекула состоит из и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сло оттянутых от атома связующих электронных пар соответствует значению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ложительной степени окисл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емента, а значени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трицательной степени окисления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числу притянутых электронных па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, в молекул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лектроотрицательный атом фтора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4) притягивает к себе электронную пару, т.е. фтор заряжается отрицательно. Для завершения (заполнения) валентного электронного слоя ему не хватает одного электрона, поэтому у него степень окисления принимается равной «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ом водорода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2) отдает электрон. У него степень окисления равна   «+1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ри определении степени окисления элементов пользуются следующими правилами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мма степеней окисления элементов, составляющих молекулу равна нулю, т.е. молекула в целом электронейтральна, например: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тепень окисления элемента в его простом веществе равна нулю, например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единениях фтор всегда проявляет степень окисления «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ь окисления кислорода в соединениях обычно равна  «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» (кроме О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ь окисления водорода в гидридах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H</a:t>
            </a:r>
            <a:r>
              <a:rPr b="0" lang="ru-R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др.) «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», в остальных случаях «+1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и окисления элемент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- I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групп положительны и соответствуют номеру группы, например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у меди, серебра, золота, ртути – за счет «провала» электрона в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лой проявляются и другие степени окисления); Максимальная положительная степень окисления элемента совпадает с номером группы в периодической табл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альная отрицательная степень окисления элемента равна максимальной степени окисления минус восемь, например, для фосфора: +5 – 8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я вышеуказанные правила, степень окисления элементов определяют следующим об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1 + х + 4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= 0;     отсюда  х = +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молекула условно делится на два полюса. Тог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1 + х = 4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;        отсюда х = +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(+1) + 2х + 7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= 0; отсюда х = 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х + 3 (2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= 0; отсюда х = +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ычно степень окисления указывают сверху символа элемента со знаком «+» или   «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, например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т.д. При указании заряда иона принято знак (+ или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ставить после цифры, например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0" y="0"/>
          <a:ext cx="50472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047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0" y="0"/>
          <a:ext cx="50472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047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Object 8"/>
          <p:cNvGraphicFramePr/>
          <p:nvPr/>
        </p:nvGraphicFramePr>
        <p:xfrm>
          <a:off x="0" y="0"/>
          <a:ext cx="50472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5047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3"/>
          <p:cNvGraphicFramePr/>
          <p:nvPr/>
        </p:nvGraphicFramePr>
        <p:xfrm>
          <a:off x="428760" y="1857240"/>
          <a:ext cx="143496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760" y="1857240"/>
                    <a:ext cx="1434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4"/>
          <p:cNvGraphicFramePr/>
          <p:nvPr/>
        </p:nvGraphicFramePr>
        <p:xfrm>
          <a:off x="214200" y="2786040"/>
          <a:ext cx="1625760" cy="81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200" y="2786040"/>
                    <a:ext cx="1625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5"/>
          <p:cNvGraphicFramePr/>
          <p:nvPr/>
        </p:nvGraphicFramePr>
        <p:xfrm>
          <a:off x="142920" y="3714840"/>
          <a:ext cx="1752480" cy="71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920" y="3714840"/>
                    <a:ext cx="1752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0"/>
          <p:cNvGraphicFramePr/>
          <p:nvPr/>
        </p:nvGraphicFramePr>
        <p:xfrm>
          <a:off x="285840" y="785880"/>
          <a:ext cx="13842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840" y="785880"/>
                    <a:ext cx="138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ются два метода составления уравнений ОВ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электронного балан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полуреакций (ионно-электронный метод) А.М.Василь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од электронного баланс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 на равенстве числа отданных восстановителем и принятых окислителем электронов. Сравниваем степени окисления атомов в исходных и конечных веществах. Так, 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пень окисления изменяют только марганец и желез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5e = M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e = F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279360" y="4643280"/>
          <a:ext cx="88646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4643280"/>
                    <a:ext cx="8864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0" y="0"/>
            <a:ext cx="9144000" cy="9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поставить коэффициенты в уравнении реакции, необходимо найти кратное для чисел, показывающих повышение и понижение степеней окисл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ганец, принимая электрон, восстанавливается, поэтому соединение марганца (+7) </a:t>
            </a: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KMnO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окисл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Железо отдает электрон, окисляется, поэтому соединение железа (+2) </a:t>
            </a: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FeSO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восстанов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сновные коэффициенты уравнения – коэффициенты при окислителе и восстановителе – это 1 и 5. Однако, в результате реакции образуется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Fe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S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молекула которого содержит  два атома железа (+3), поэтому основные коэффициенты следует удво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2786040" y="1357200"/>
            <a:ext cx="2938320" cy="92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2428920" y="5500800"/>
            <a:ext cx="2968560" cy="9270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ая соединительная линия 8"/>
          <p:cNvSpPr/>
          <p:nvPr/>
        </p:nvSpPr>
        <p:spPr>
          <a:xfrm flipH="1">
            <a:off x="5428800" y="5500800"/>
            <a:ext cx="1800" cy="857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План лекци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сновные положения электронной теории О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ипы О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ажнейшие окислители и восстанов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оставление уравнений ОВ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) электронный бала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ионно-электронный 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ВР в заданиях билетов ЕГ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дбор коэффициентов в уравнениях ОВР в неорганической и органической хи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Object 4"/>
          <p:cNvGraphicFramePr/>
          <p:nvPr/>
        </p:nvGraphicFramePr>
        <p:xfrm>
          <a:off x="1378080" y="538200"/>
          <a:ext cx="6959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538200"/>
                    <a:ext cx="695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"/>
          <p:cNvGraphicFramePr/>
          <p:nvPr/>
        </p:nvGraphicFramePr>
        <p:xfrm>
          <a:off x="428760" y="4071960"/>
          <a:ext cx="780408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4071960"/>
                    <a:ext cx="7804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"/>
          <p:cNvGraphicFramePr/>
          <p:nvPr/>
        </p:nvGraphicFramePr>
        <p:xfrm>
          <a:off x="581040" y="5283360"/>
          <a:ext cx="784872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" y="5283360"/>
                    <a:ext cx="78487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5"/>
          <p:cNvSpPr/>
          <p:nvPr/>
        </p:nvSpPr>
        <p:spPr>
          <a:xfrm>
            <a:off x="32400" y="-4356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tt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енные коэффициенты подставляют в уравнение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0" y="60739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Для проверки правильности подобранных коэффициентов подсчитывают </a:t>
            </a:r>
            <a:r>
              <a:rPr b="0" lang="ru-RU" sz="1800" spc="-1" strike="noStrike">
                <a:solidFill>
                  <a:srgbClr val="ffff00"/>
                </a:solidFill>
                <a:latin typeface="SL_Times New Roman"/>
                <a:ea typeface="Times New Roman"/>
              </a:rPr>
              <a:t>баланс кислорода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13"/>
          <p:cNvSpPr/>
          <p:nvPr/>
        </p:nvSpPr>
        <p:spPr>
          <a:xfrm>
            <a:off x="3737520" y="3151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1"/>
          <p:cNvSpPr/>
          <p:nvPr/>
        </p:nvSpPr>
        <p:spPr>
          <a:xfrm>
            <a:off x="0" y="1000080"/>
            <a:ext cx="90010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         </a:t>
            </a: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Далее </a:t>
            </a:r>
            <a:r>
              <a:rPr b="0" lang="tt-RU" sz="1800" spc="-1" strike="noStrike">
                <a:solidFill>
                  <a:srgbClr val="ffff00"/>
                </a:solidFill>
                <a:latin typeface="SL_Times New Roman"/>
                <a:ea typeface="Times New Roman"/>
              </a:rPr>
              <a:t>подбирают коэффициенты </a:t>
            </a: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для других веществ, не участвующих в перераспределении электронов, соблюдая следующую последовательность: сначала для атомов металлов, затем для кислотных остатков и гидроксильных групп, в предпоследнюю очередь для атомов водорода и затем для атомов кисло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     </a:t>
            </a: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В рассматриваемом примере число атомов калия равно. В правой части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18 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SL_Times New Roman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L_Times New Roman"/>
                <a:ea typeface="Times New Roman"/>
              </a:rPr>
              <a:t>2-</a:t>
            </a:r>
            <a:r>
              <a:rPr b="0" lang="tt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- ионов, а в левой ча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только 11. Для баланса сульфат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ионов, перед 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H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SL_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SO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SL_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идущей на солеобразование (связывание  катионов металлов), записывают 8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0" y="43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  <a:ea typeface="Times New Roman"/>
              </a:rPr>
              <a:t>Далее по балансу атомов водорода определяют число молей 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Ионно-электронный метод</a:t>
            </a:r>
            <a:br>
              <a:rPr sz="4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0" y="92844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сти метода полуреакций заключаются в следующ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учитывает реальное существование ионов в водных растворах, следовательно, необходимо оценить заряд иона в целом, не определяя заряд на атоме ( степень окисления ). Так, в раствор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держатся ионы пермангана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не ион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7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указывает на характер водной среды (кислая, нейтральная, щелочная), в которой следует провести процессы окисления и восстановления и , в целом, данную окислительно – восстановительную реакцию. Например, перманганат- ио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восстановления превратился в элементарный ио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M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5"/>
          <p:cNvCxnSpPr/>
          <p:nvPr/>
        </p:nvCxnSpPr>
        <p:spPr>
          <a:xfrm>
            <a:off x="4000680" y="5785920"/>
            <a:ext cx="42912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ы кислорода должны быть перераспределены в системе так, чтобы образовалась вода (наименее диссоциированное соединение), для этого следует в реакционную смесь ввести достаточное количество ионов водорода :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nO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+ 8Н 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Mn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+ 4Н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ожно было поставить знак равенства, уравниваем заряды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nO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+ 8Н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+ 5е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n</a:t>
            </a:r>
            <a:r>
              <a:rPr b="0" lang="ru-RU" sz="2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+ 4Н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или частное уравнение стадии восстановления, протекающей в сильнокислой сре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>
            <a:off x="4000680" y="3429000"/>
            <a:ext cx="429120" cy="21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5"/>
          <p:cNvGraphicFramePr/>
          <p:nvPr/>
        </p:nvGraphicFramePr>
        <p:xfrm>
          <a:off x="222120" y="1500120"/>
          <a:ext cx="86997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500120"/>
                    <a:ext cx="8699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4"/>
          <p:cNvGraphicFramePr/>
          <p:nvPr/>
        </p:nvGraphicFramePr>
        <p:xfrm>
          <a:off x="4214880" y="2000160"/>
          <a:ext cx="47624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4880" y="2000160"/>
                    <a:ext cx="4762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7"/>
          <p:cNvGraphicFramePr/>
          <p:nvPr/>
        </p:nvGraphicFramePr>
        <p:xfrm>
          <a:off x="6875640" y="2714760"/>
          <a:ext cx="16254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5640" y="2714760"/>
                    <a:ext cx="1625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 txBox="1"/>
          <p:nvPr/>
        </p:nvSpPr>
        <p:spPr>
          <a:xfrm>
            <a:off x="-360" y="0"/>
            <a:ext cx="9286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онно-электронны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ан на составлении частных уравнений окисления и восстановления ионов (молекул) с последующим суммированием их в общее уравнение. Например, для реа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нная схема выглядит в ви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астное уравнение окис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нов восстанов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астное уравнение восстано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нов окисл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выводе общего уравнения проводя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аланс электрон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" name="Object 12"/>
          <p:cNvGraphicFramePr/>
          <p:nvPr/>
        </p:nvGraphicFramePr>
        <p:xfrm>
          <a:off x="2428920" y="3643200"/>
          <a:ext cx="39114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3643200"/>
                    <a:ext cx="3911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2000160" y="4714920"/>
          <a:ext cx="5092920" cy="101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00160" y="4714920"/>
                    <a:ext cx="5092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Object 2"/>
          <p:cNvGraphicFramePr/>
          <p:nvPr/>
        </p:nvGraphicFramePr>
        <p:xfrm>
          <a:off x="1285920" y="1000080"/>
          <a:ext cx="65149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000080"/>
                    <a:ext cx="6514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ее устанавливают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аланс атомов и зарядо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щем уравн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 качестве среды взята серная кислота, то уравнение реакции можно записать в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оздания в растворе кислой среды используют разбавленную серную кислоту. Азотная и соляная кислоты используются для подкисления редко. Это объясняется окислительными свойствами азотной кислоты и восстановительными свойствами соляной кислоты. Щелочную среду создают растворами щелоч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Object 1"/>
          <p:cNvGraphicFramePr/>
          <p:nvPr/>
        </p:nvGraphicFramePr>
        <p:xfrm>
          <a:off x="214200" y="2857680"/>
          <a:ext cx="8585280" cy="42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2857680"/>
                    <a:ext cx="858528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28400" y="0"/>
            <a:ext cx="871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стальными металлами и некотор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таллами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восстанавливается д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збавленная азот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станавливается д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образу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сидов азота, в которой преобладает окс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о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I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Object 2"/>
          <p:cNvGraphicFramePr/>
          <p:nvPr/>
        </p:nvGraphicFramePr>
        <p:xfrm>
          <a:off x="642960" y="5357880"/>
          <a:ext cx="7327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57880"/>
                    <a:ext cx="732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4"/>
          <p:cNvGraphicFramePr/>
          <p:nvPr/>
        </p:nvGraphicFramePr>
        <p:xfrm>
          <a:off x="1500120" y="6143760"/>
          <a:ext cx="58165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6143760"/>
                    <a:ext cx="5816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1000080" y="1428840"/>
          <a:ext cx="704232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0080" y="1428840"/>
                    <a:ext cx="7042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1428840" y="2286000"/>
          <a:ext cx="627516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8840" y="2286000"/>
                    <a:ext cx="62751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льно разбавленная азот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ые металл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, Al, 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ильно разбавленную азотную кислоту восстанавливают до аммиака (образуется нитрат аммон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яется 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 (II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e (III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станавли-вается до аммиака или  азо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створения золота, платины, палладия, осмия, иридия, рутения, иридия и родия применяется «царская водка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214200" y="2071800"/>
          <a:ext cx="86868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071800"/>
                    <a:ext cx="8686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3"/>
          <p:cNvGraphicFramePr/>
          <p:nvPr/>
        </p:nvGraphicFramePr>
        <p:xfrm>
          <a:off x="500040" y="3929040"/>
          <a:ext cx="81280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929040"/>
                    <a:ext cx="8128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4"/>
          <p:cNvGraphicFramePr/>
          <p:nvPr/>
        </p:nvGraphicFramePr>
        <p:xfrm>
          <a:off x="1714680" y="5572080"/>
          <a:ext cx="56638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5572080"/>
                    <a:ext cx="5663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1285920" y="6143760"/>
          <a:ext cx="661680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6143760"/>
                    <a:ext cx="66168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збавленная сер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бавленная серная кислота проявляет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кислительные свойств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тношению к активным металлам (стоящим в ряду напряжений до водорода) за счёт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онов водо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бавленная серная кислота с металлами, стоящими в ряду напряжений после водорода,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е взаимодейству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3235320" y="2441520"/>
          <a:ext cx="2197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5320" y="2441520"/>
                    <a:ext cx="2197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2527200" y="3395520"/>
          <a:ext cx="3899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7200" y="3395520"/>
                    <a:ext cx="3899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4"/>
          <p:cNvGraphicFramePr/>
          <p:nvPr/>
        </p:nvGraphicFramePr>
        <p:xfrm>
          <a:off x="2082960" y="4467240"/>
          <a:ext cx="49780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4467240"/>
                    <a:ext cx="49780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онцентрированная сер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ительные свойства концентрированной серной кислоты определяются сульфат-ионом. Продуктами его восстановления в зависимости от силы восстановителя являются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ычных условиях она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ассивирует железо, хром и алюми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еагирует с ними только при нагре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елочные и щелочно-земельные металлы, магний  восстанавливают сульфат-ион до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роводо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лучае цинка, в зависимости от условий, кром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озможно образование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р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Object 2"/>
          <p:cNvGraphicFramePr/>
          <p:nvPr/>
        </p:nvGraphicFramePr>
        <p:xfrm>
          <a:off x="500040" y="2928960"/>
          <a:ext cx="81532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928960"/>
                    <a:ext cx="8153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3"/>
          <p:cNvGraphicFramePr/>
          <p:nvPr/>
        </p:nvGraphicFramePr>
        <p:xfrm>
          <a:off x="1714680" y="4714920"/>
          <a:ext cx="58165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714920"/>
                    <a:ext cx="5816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1714680" y="6215040"/>
          <a:ext cx="533376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6215040"/>
                    <a:ext cx="5333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онцентрированная серная кислот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стальными металлами (за исключение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, Pt, Pd, Rh, Os, Ir, Ru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некоторыми неметаллам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, P, S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гирует с образованием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S+2H</a:t>
            </a:r>
            <a:r>
              <a:rPr b="0" lang="en-US" sz="2800" spc="-1" strike="noStrike" baseline="-25000">
                <a:solidFill>
                  <a:srgbClr val="d9d9d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d9d9d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=3SO</a:t>
            </a:r>
            <a:r>
              <a:rPr b="0" lang="en-US" sz="2800" spc="-1" strike="noStrike" baseline="-25000">
                <a:solidFill>
                  <a:srgbClr val="d9d9d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+2H</a:t>
            </a:r>
            <a:r>
              <a:rPr b="0" lang="en-US" sz="2800" spc="-1" strike="noStrike" baseline="-25000">
                <a:solidFill>
                  <a:srgbClr val="d9d9d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1739880" y="2038320"/>
          <a:ext cx="56642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2038320"/>
                    <a:ext cx="5664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3"/>
          <p:cNvGraphicFramePr/>
          <p:nvPr/>
        </p:nvGraphicFramePr>
        <p:xfrm>
          <a:off x="1822320" y="2895480"/>
          <a:ext cx="54993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2895480"/>
                    <a:ext cx="549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2222640" y="3753000"/>
          <a:ext cx="513072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2640" y="3753000"/>
                    <a:ext cx="5130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714680" y="4681440"/>
          <a:ext cx="5816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14680" y="4681440"/>
                    <a:ext cx="5816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кислительно-восстановительные реакции (ОВР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природные (круговорот элементов) и производственные процессы (получение металлов, синтез различных веществ), коррозия металлов, превращение веществ, в целом сама биологическая жизнь являются окислительно-восстановительны-ми процесс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В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реакции переноса электронов от восстановителей к окисл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0" y="642960"/>
            <a:ext cx="9144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ВР в заданиях билетов ЕГ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пень окисления химических элементов (код 2.3), окислительно-восстановительные реакции (код 3.7) –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лементы содержания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проверяются 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И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 ЕГ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базовом уровне сложности (в части 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овышенном уровне сложности (в части 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ысоком уров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ложности (в части 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азовом и повышенном уровнях проверяются умения определять степень окисления химических элементов по формулам их соединений, наличие окислительно-восстановительных реакций, окислительные и восстановительные свойства веществ, коэффициенты перед символами окислителей и восстановителей и др., 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епень окисления, равную +3, железо имеет в соедин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Fe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2) Fe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3) F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4)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ысшую степень окисления марганец проявляет в соедин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2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3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4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S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реакции оксида марганца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) с углеродом окислителем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4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fc1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становите соответ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химической формулой соединения и степенью окисления фосфора в 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ИМИЧЕСКАЯ ФОРМУЛА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ЕПЕНЬ ОКИСЛЕНИЯ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СФО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1) 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2) +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3) 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4) –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71720" y="5643720"/>
          <a:ext cx="6310080" cy="961920"/>
        </p:xfrm>
        <a:graphic>
          <a:graphicData uri="http://schemas.openxmlformats.org/drawingml/2006/table">
            <a:tbl>
              <a:tblPr/>
              <a:tblGrid>
                <a:gridCol w="1738080"/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fc1c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становите соответствие</a:t>
            </a:r>
            <a:r>
              <a:rPr b="0" lang="ru-RU" sz="2400" spc="-1" strike="noStrike">
                <a:solidFill>
                  <a:srgbClr val="04f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 схемой химической реакции и изменением степени окисления окислителя в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ХЕМА РЕАКЦИИ                                               ИЗМЕНЕНИЕ СТЕП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ИСЛЕНИЯ  ОКИСЛИТЕ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Cu + 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tt-RU" sz="2400" spc="-1" strike="noStrike" baseline="-25000">
                <a:solidFill>
                  <a:srgbClr val="ffffff"/>
                </a:solidFill>
                <a:latin typeface="Arial"/>
              </a:rPr>
              <a:t>(ко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ц</a:t>
            </a:r>
            <a:r>
              <a:rPr b="0" lang="tt-RU" sz="2400" spc="-1" strike="noStrike" baseline="-25000">
                <a:solidFill>
                  <a:srgbClr val="ffffff"/>
                </a:solidFill>
                <a:latin typeface="Arial"/>
              </a:rPr>
              <a:t>.)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    1) Cu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CuO +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u +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Na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     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+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214280" y="5429160"/>
          <a:ext cx="6096240" cy="736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fc1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становите соответ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схемой химической реакции и веществом - окислителем в каждой из н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ХЕМА РЕАКЦИИ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КИСЛ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1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)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CuO +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u +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) 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Na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   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00120" y="550080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 заданиям </a:t>
            </a: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высокого уровня сложности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веряются умения составлять уравнения ОВР(С1,С2), производить расчёты по этим уравнениям(С4), например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од электронного балан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ставьте уравнение следующей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KI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 ……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nS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…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K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окислитель и восстанов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2.  Даны водные растворы: хлорида железа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Йодида натрия, бихромата натрия, серной кислоты и гидроксида цезия. Приведите уравнения четырех возможных реакций между эт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4.   Сероводород, выделившийся при взаимодействии избытка концентрированной серной кислоты с 1,44 г магния, пропустили через 160 г 1,5 %-ного раствора брома. Определите массу выпавшего при этом осадка и массовую долю кислоты в образовавшемся раств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0"/>
            <a:ext cx="898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 ионного обмена протекают без изменения степени окисления элементо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лучае образования малодиссоциирующего вещества, газа, осадка, например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Cl + NaOH = NaCl +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+ BaC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Ba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 FeC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+ 2HCl = 2 NaCl +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+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ислительно-восстановительные реакции протекают с изменением степени окисления элементов, 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сновные положения теории О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исл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это отдача электронов частицей (атомом, ионом, молекулой), сопровождающаяся повышением ее степени окисления, 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и вещества называются восстанов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Восстановлени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то присоединение частицей (атомом, ионом, молекулой) электронов, приводящее к понижению ее степени окисления, 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и вещества, содержащие такие структурные единицы, называются окисл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ы окисления и восстановления протекают одновременно. Число электронов, отданных восстановителем, равно числу электронов, принятых окисл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714680" y="2214720"/>
          <a:ext cx="467352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214720"/>
                    <a:ext cx="46735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1285920" y="3857760"/>
          <a:ext cx="60451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3857760"/>
                    <a:ext cx="60451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1071720" y="5286240"/>
          <a:ext cx="64767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5286240"/>
                    <a:ext cx="647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ипы О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элементы, изменяющие степень окисления, находятся в составе разных молекул, то такие окислительно-восстановительные реакции называются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жмолекулярны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ВР, 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луча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нутримолекулярн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кислительно-восстановительной реакции, элементы, изменяющие степень окисления, находятся в составе одного и того же вещества, наприме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, в которых степень окисления изменяет один и тот же элемент в одном и том же веществе, относятся к реакциям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амоокисления – самовосстановления (диспропорционирования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если в разных веществах , то к реакциям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онпропорционирова-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+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S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2714760" y="2214720"/>
          <a:ext cx="3085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214720"/>
                    <a:ext cx="308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2428920" y="3786120"/>
          <a:ext cx="379728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3786120"/>
                    <a:ext cx="3797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1857240" y="5500800"/>
          <a:ext cx="52070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500800"/>
                    <a:ext cx="5207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ажнейшие окислители и восстанов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142640"/>
            <a:ext cx="9144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ом элемента в своей положительной высшей степени окисления проявля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лько окислительные свой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олько восстанавливается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ом в своей низшей степени окисления не может принимать электроны и проявля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лько восстановительные свойств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олько окисляется)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ом элемента, имеющий промежуточную степень окисления, может проявлять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окислительные, так и восстановительные свой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им на примере азота 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лько               окислитель – восстановитель                      то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сстановитель                   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кислитель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188640"/>
            <a:ext cx="91440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ажнейшие окисл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неметаллы по отношению к простым веществам (к металлам, к неметаллам с меньшей электроотрицательностью) являются окислителями. Из них наиболе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ильными окислителями являются галогены, кислород, озон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ни могут окислять и сложные вещества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ислоты-окислит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за счет аниона(концентрированная серная кислота и азотная кислота любой концентраци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857160" y="2357280"/>
          <a:ext cx="6845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357280"/>
                    <a:ext cx="6845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1000080" y="3929040"/>
          <a:ext cx="699768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3929040"/>
                    <a:ext cx="69976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. Кислородсодержащие соли элементов в высокой степени окисления, 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Object 2"/>
          <p:cNvGraphicFramePr/>
          <p:nvPr/>
        </p:nvGraphicFramePr>
        <p:xfrm>
          <a:off x="428760" y="928800"/>
          <a:ext cx="83692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28800"/>
                    <a:ext cx="83692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762120" y="3568680"/>
          <a:ext cx="7619760" cy="271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68680"/>
                    <a:ext cx="761976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тион водород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заимодействии с активными металлами (стоящими в ряду напряжений от магния до водорода), например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в общем вид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тионы металлов в более высокой степени окис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2746440" y="1427040"/>
          <a:ext cx="368280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1427040"/>
                    <a:ext cx="36828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3940200" y="2286000"/>
          <a:ext cx="1905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0200" y="2286000"/>
                    <a:ext cx="190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438120" y="4697280"/>
          <a:ext cx="826776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4697280"/>
                    <a:ext cx="82677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4:48:40Z</dcterms:created>
  <dc:creator>Dom</dc:creator>
  <dc:description/>
  <dc:language>en-US</dc:language>
  <cp:lastModifiedBy>Полиграф</cp:lastModifiedBy>
  <dcterms:modified xsi:type="dcterms:W3CDTF">2012-11-07T16:50:05Z</dcterms:modified>
  <cp:revision>327</cp:revision>
  <dc:subject/>
  <dc:title>ОТДЕЛЕНИЕ ДОВУЗОВСКОГО ОБРАЗОВАНИЯ  КАЗАНСКОГО ГОСУДАРСТВЕННОГО МЕДИЦИНСКОГО УНИВЕРСИТЕТА</dc:title>
</cp:coreProperties>
</file>