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0890-D478-43A3-B7A6-411EA0831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A7D1-4E6A-403C-809C-66F35E7C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933C-CD12-45C3-B34A-D17F0B6EE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08F2-3F98-4D69-828C-CEA121FC9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FED9-F6EB-4CBB-9881-DC78B49B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DA7F-F6C2-40AB-A342-8C0AA66F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B197-0DAF-44A6-97D4-2769210E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855C-1AFE-414C-855C-DA7A2540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9BCC-52BE-4338-8E0F-04BFAB51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BD78-33F6-4FF5-8982-5C7E67D6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0AED-1ACA-403C-A4EF-3E669146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0403-340C-4709-ADE7-B35B4F1D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C79B-AF42-4196-A37D-5615DE4D4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67564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87280" y="20520"/>
            <a:ext cx="741708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0T03:52:02Z</dcterms:created>
  <dc:creator>ученик</dc:creator>
  <dc:description/>
  <dc:language>en-US</dc:language>
  <cp:lastModifiedBy>ученик</cp:lastModifiedBy>
  <dcterms:modified xsi:type="dcterms:W3CDTF">2009-02-20T03:53:29Z</dcterms:modified>
  <cp:revision>1</cp:revision>
  <dc:subject/>
  <dc:title>Слайд 1</dc:title>
</cp:coreProperties>
</file>