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36D-5CBF-48FB-B689-CA0033E9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6AF-AF94-459D-A36A-A2FB6516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8B2-01FF-4878-A01D-10102124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5F9-1CEF-42F6-9BBA-D9C37703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D678-7283-45B7-A1AC-BCF3993C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5B7C-D5DE-4671-9A17-E583D941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2E1D-59EF-4787-B724-64B77CA0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E653-0C34-4319-B88E-6D071FA0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A245-D8F7-4542-9773-0F1F2095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7DB5-5B89-4574-A977-93158C74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7A33-FB7C-403F-A3CE-94AF121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20A-32BB-44B5-892C-A9BCCA4B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786C-4111-433D-A52B-A321FB3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5241-013A-4EC7-A012-99858B03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EAAF-87BC-46E4-A7D1-4614D6E1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CFB0-28F4-4E1A-8FCF-C8D21D31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2A63-8092-4AAD-B01A-6BF29EB0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282-D6D2-492B-87AA-1A0FB1AF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6DF-F3B4-4687-84F6-373B6444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8DD-EADC-42E4-90EE-25343932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F5F-93DE-4FFD-AD61-C9433C21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CC3-C484-4E1B-BD66-E5E0EE71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549-2B13-43F9-89E2-2BCE9B1A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72C-BA7F-420B-9EE6-1A5E60B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C38F-96A5-4C7B-8FB4-610525276E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EA1F-A861-4D18-8E33-D955052005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sh, help, get up, go, play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_______ at 6 o`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________your fac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_________ football in summ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_______ to school at 8 o`cloc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_______TV every da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you______ your moth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7:47:23Z</dcterms:created>
  <dc:creator>Наталья Александровн</dc:creator>
  <dc:description/>
  <dc:language>en-US</dc:language>
  <cp:lastModifiedBy>ученик</cp:lastModifiedBy>
  <dcterms:modified xsi:type="dcterms:W3CDTF">2009-03-11T03:00:36Z</dcterms:modified>
  <cp:revision>4</cp:revision>
  <dc:subject/>
  <dc:title>wash, get up, go, play </dc:title>
</cp:coreProperties>
</file>