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DEE-7A60-4A2B-95DC-388640AF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C82-6AF8-46EB-9DD2-975086A1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3A5-A125-4BE7-A36F-CA0172DD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646-59CD-4D9F-8575-2D99587E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766-3B8F-4A44-852F-B4C2C940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9CAD-384A-4F6A-8FF0-86893513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D4E2-CF9A-45AF-B9CB-6EA54456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D3B4-FF27-4092-AAB1-77A4010F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21F6-0249-4119-BDF1-0C6C4B3D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5CD8-8E82-41DB-9A97-0A52A0B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EEF-37D1-4147-BEC4-94833643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084-9F16-4BF5-AF52-8349431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9655-FCF3-4BCC-977B-8AE1681E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FBF6-F6D2-4BF7-9A3C-C926E35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6DD9-C381-4C4B-BA66-28EB82B0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AD60-1FAB-4E59-8B74-01CFB659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2768-BDB8-473F-A8CC-23B3851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EC9-87EF-4694-A210-76640E5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09B-85D3-4A26-9890-ED587278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C09-16DA-451B-BBF3-54F7B91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269-14D3-4E90-B48C-C7BCF4D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8D4-D50D-4D40-BCBA-3619E5F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B6A-AB13-4A47-935D-E8D54DD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3C3-EE10-4EC5-8D50-CB7D216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AF5-ED7D-44D4-A3B1-447F5ACA1A8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0A3B-8755-4D2A-9699-27A1433179C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7372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d47d"/>
                </a:solidFill>
                <a:latin typeface="Berlin Sans FB Demi"/>
              </a:rPr>
              <a:t>Городское</a:t>
            </a:r>
            <a:br>
              <a:rPr sz="4400"/>
            </a:br>
            <a:r>
              <a:rPr b="1" lang="ru-RU" sz="4400" spc="-1" strike="noStrike">
                <a:solidFill>
                  <a:srgbClr val="f7d47d"/>
                </a:solidFill>
                <a:latin typeface="Berlin Sans FB Demi"/>
              </a:rPr>
              <a:t>методическое </a:t>
            </a:r>
            <a:br>
              <a:rPr sz="4400"/>
            </a:br>
            <a:r>
              <a:rPr b="1" lang="ru-RU" sz="4400" spc="-1" strike="noStrike">
                <a:solidFill>
                  <a:srgbClr val="f7d47d"/>
                </a:solidFill>
                <a:latin typeface="Berlin Sans FB Demi"/>
              </a:rPr>
              <a:t>объединение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Berlin Sans FB Demi"/>
              </a:rPr>
              <a:t>                                   </a:t>
            </a:r>
            <a:r>
              <a:rPr b="1" lang="ru-RU" sz="2000" spc="-1" strike="noStrike">
                <a:solidFill>
                  <a:srgbClr val="f7d47d"/>
                </a:solidFill>
                <a:latin typeface="Berlin Sans FB Demi"/>
              </a:rPr>
              <a:t>Составила Г. В. Ломага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Times New Roman"/>
              </a:rPr>
              <a:t>Цель и задачи городских  методических объединений</a:t>
            </a:r>
            <a:br>
              <a:rPr sz="2400"/>
            </a:br>
            <a:r>
              <a:rPr b="1" lang="en-US" sz="2400" spc="-1" strike="noStrike">
                <a:solidFill>
                  <a:srgbClr val="f7d47d"/>
                </a:solidFill>
                <a:latin typeface="Times New Roman"/>
              </a:rPr>
              <a:t>Цель:</a:t>
            </a:r>
            <a:r>
              <a:rPr b="0" lang="en-US" sz="2400" spc="-1" strike="noStrike">
                <a:solidFill>
                  <a:srgbClr val="f7d47d"/>
                </a:solidFill>
                <a:latin typeface="Times New Roman"/>
              </a:rPr>
              <a:t> Совершенствование качества дошкольного образования через повышение профессионального мастерства педагого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773360"/>
            <a:ext cx="7386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Обеспечение роста профессиональной компетентности руководителей, педагогических работников, их интеллектуального и культурного уровня, развитие творческой инициатив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Освоение нового содержания дошкольного образования, современных педагогических технологий и методов педагогической деятельности в плане развивающего и коррекционного образования детей дошкольного возраст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Выявление и обобщение позитивного педагогического опыта по направлениям инновационной деятельности образовательного учрежд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Содействие формированию профессиональной компетентности через участие педагогов в профессиональных конкурсах, мастер-классах, дискуссионных клуба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Расширение компетентной области педагогов в вопросах планирования воспитательно-образовательной работы ДО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Times New Roman"/>
              </a:rPr>
              <a:t>Основные формы работы в методическом объединении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заседания методических объединений по вопросам методики обучения и воспита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круглые столы, совещания и семинары по учебно-методическим вопросам, творческие отчеты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открытые мероприятия, мастер-классы, взаимопосеще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лекции, доклады, совещания и дискуссии по методике обучения и воспитания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изучение и реализация в учебно-воспитательном процессе требований руководящих документов, передового педагогического опыт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d47d"/>
                </a:solidFill>
                <a:latin typeface="Times New Roman"/>
              </a:rPr>
              <a:t>Документация городского методического объединения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иказ об открытии методического объединения и назначении на должность его руководител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ожение о методическом объединени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анк данных о педагогах методического объединения, их темы самообразовани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лан работы ГМО составляется руководителем методического объединения, рассматривается на заседании методического объединения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токолы заседаний ГМО с указанием повестки дня, принятым решением, количеством присутствующих педагогов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нализ работы методических объединений за прошедший учебный год и план работы на текущий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рафик проведения заседаний, открытых мероприят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Обязанности и права  ГМО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980640"/>
            <a:ext cx="7386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842040" indent="-453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обязан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изучать, обобщать и использовать в практике передовой педагогический опыт работы воспитателей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повышать уровень профессиональной компетентности членов ГМО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изучать нормативную и методическую документацию по вопросам образовани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организовывать взаимопосещения педагогов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обобщать и распространять передовой опыт воспитателей, работающих в методическом объединен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организовывать работу по накоплению методического материа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ознакомление с методическими разработками различных авторов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анализировать причины неудач в работе методического объединения и отдельных воспитателей (если таковые имелись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готовить и выпускать методические материалы по итогам работы городских методических объединений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65680" indent="-388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onotype Corsiva"/>
              </a:rPr>
              <a:t>информировать и пропагандировать педагогический опыт в средствах массовой информаци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Обязанности и права руководителя ГМО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воевременно изучать нормативно-правовые документы, касающиеся обновления содержания дошкольного образования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овышать уровень профессиональной компетентности членов ГМО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овершенствовать психолого-педагогическую подготовку воспитателей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ланировать, своевременно готовить и проводить заседания ГМО (открытые мероприятия, семинары, конференции и других формы)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ганизовывать взаимодействие педагогов между собой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оводить анализ деятельности методического объединения, своевременно составлять документацию о работе методических объединений и проведенных мероприятиях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консультировать педагогов по вопросам воспитательно-образовательной  работы педагогов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иглашать на заседания методического объединения специалистов других ГМО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формировать и пропагандировать педагогический опыт в средствах массовой информации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редактировать методические материалы по итогам работы ГМ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Bernard MT Condensed"/>
              </a:rPr>
              <a:t>Руководитель методического объединения имеет право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вносить коррективы и предложения в работу ГМО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готовить предложения и рекомендовать педагогов для повышения квалификационного разряд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выдвигать предложения об улучшении учебно-воспитательного процесса в дошкольных образовательных учреждениях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рекомендовать воспитателям различные формы организации их деятельност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обращаться за консультациями по проблемам учебной деятельности и воспитани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участвовать в конкурсном движении различного уровн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требовать от членов ГМО необходимую информацию в пределах своей компетен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Magneto"/>
              </a:rPr>
              <a:t>повышать квалификаци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1628280"/>
            <a:ext cx="7476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Monotype Corsiva"/>
              </a:rPr>
              <a:t>Успехов в работе…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7T01:08:16Z</dcterms:created>
  <dc:creator>Галина</dc:creator>
  <dc:description/>
  <dc:language>en-US</dc:language>
  <cp:lastModifiedBy>Галина</cp:lastModifiedBy>
  <dcterms:modified xsi:type="dcterms:W3CDTF">2013-06-07T10:24:00Z</dcterms:modified>
  <cp:revision>8</cp:revision>
  <dc:subject/>
  <dc:title>Городское методическое  объедин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