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D7B-AE30-457F-9C65-EB454B9E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DFA-9980-4ED4-BAAA-624D689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A6BA0-F3CE-4E7F-9801-AF9F8DB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510CA-8BC9-4EF7-BA9A-82472B6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B3E4F-E663-48D0-8F29-9CB5620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8702D-71F2-43AE-A2B3-D01F4EC0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51923-B4F9-479F-93F6-C3B8190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CE30-B6DE-4F53-B926-0BD5EDF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0DD52-8542-4D4D-9E9A-E2ACEF8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0CD44-7906-423A-9CDF-4653F2FA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3006E-615E-477D-AAD5-1D65EC93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DE240-2D46-4AE7-A465-00E851E3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00E-F9F8-425B-A670-59E14F92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5E5D2-7448-438F-8E9A-46C84D7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0F6C3-9AB8-4D61-ADD6-B48D0777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88ECB-7ED0-41F2-8636-A4F4F4A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3D615-323F-4CD4-A10B-5B25F1ED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179DA-8400-43FB-9AEA-7B73E10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C20F6-9E5D-4784-BD51-62096B0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49282-0D40-4392-AE3D-0FFDE040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DCE30-B25B-4EA0-906E-E49A90E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6BA5-5883-4B5F-9A15-571FA6F8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41AF0-F65A-4A1F-9B6C-33E30BA7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0A9-9DD6-46F4-A31A-963ACA77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5A15-F877-47A9-B604-9EE84ECA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EDD3E-4AFF-4D7F-9FE5-71F5F473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93E0-AB64-4494-98FD-E3818870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4F752-4E0F-4FCE-9F8B-4DBC570C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0F20B-1C8A-4B15-8CBD-EA03ACC6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6DB84-76C0-44FD-9312-0637B93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3BF7-C4C8-4B34-9D3B-A7A8B901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4BDF1-B153-446E-BFF1-CEBFF70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24FC3-6559-4BB0-971D-3EA794F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BED4-AC65-4E86-8841-D119C47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716-DCDF-4D4C-9BAF-ACC4EDEF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90899-0D95-4A04-B228-8F8FD06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1745D-E533-4E40-AF19-67AE31CD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D58B1-13E5-48A9-8D41-64985199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8487-FC6C-4757-91A8-24AD2C2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B8E-9263-45AF-BE15-6F47A925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78D8-A0F8-4DD0-96A7-546058F5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4E71-0E21-46DF-A130-D6703113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DF72-4C53-4724-BC92-8B71643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5CC7-F5A5-4D3A-AFC0-F522F1F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5EE-327C-43C1-BB07-8A8492F4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FCF3-8311-43FB-BBE7-A7DEEDD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04C3-E673-4796-88F9-BC1F810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D37F-FFE2-41FF-9776-A31D5369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105D-3BB7-45F0-B9C3-5C0D067E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88C-9916-494B-95AB-96CDF02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E9E1-1A2C-46C8-89E6-8730A38B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B50F-8A4F-415B-B694-3EBC4D59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E8C7-4BE5-47CC-8582-351C7D5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15A9-B927-4690-B218-CBDB2CF2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10D2-67A9-4357-A15C-4B9770ED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06C-453E-474B-B3DC-4835CB5B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895A-E940-4486-AA2D-5455422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3DE1-C94B-4740-B3AE-DB80B42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7A4E-AD16-422F-A771-E4CCF18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F8A2-9A09-4CFF-8C73-944DAB6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2EB5-6741-4C39-BB9D-A205478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61F2-75AD-42E6-BF68-CE8CDF4C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CE2E-1D68-4EBC-8B26-23B75E35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400C-37D9-426A-A4AE-31A39D1B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F73A-0554-4B9F-BB05-21D29BB3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6CA4-CBF2-4D1E-83BD-A7B8EEA8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C92-C1E1-4CB8-AAAE-57C9A31C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1B23-BC65-48D8-BA57-48F5187F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B74A-571B-40ED-A194-31A4AFE1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D85A-D388-4C2C-9288-42B0B4C4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2998-D0A2-491E-BF39-739825CD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0D9F-83FE-4A96-A8E7-2351396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B44B2-8CF3-41A7-9E14-9AA4D93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B075-F18C-4404-8796-2D088E49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A14B-1E6B-4434-8C33-499436E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0C6B-42E3-40E0-83FC-12A1D0CB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BBA2E-2595-46CB-9E70-7CEBC071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77B-A608-4FB0-9295-5B2D5784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E4DE6-0F97-4B0A-B325-D6D0CA5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BC2E2-7A08-4736-A851-1AC98671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940A4-6259-4DEB-9E0A-4AAFF57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8F27D-FAF7-47F2-ACDA-F1F4023A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81608-BB11-4EA3-A73C-2424ECC8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3D46A-DDE4-4232-B036-FF8679C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10E5B-DDF4-4D22-8736-D3E74A2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B2170-C9B1-4057-8B87-1F9615D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6C956-D97F-4B51-B237-3429452C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F82AD-AC2C-4548-8761-600C8C28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E90-3423-4D3C-9786-0F03FE7E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7E3FC-8021-4557-BE5C-AEE38904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BA60-89A2-49A0-9771-8298173A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1447-0CAC-4A96-A8BA-3FA2E558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2E8A1-D7DA-4D52-A9DB-F0E6461C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3046-1A5C-44E3-8BAB-7A2F29D4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73CE-FB91-4DB4-B28D-8CBA57B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3FAF-C4C0-4391-8177-0BA7FD0A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0F867-6E45-4AF5-8697-976403AA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69BD-8E56-4E69-BA16-0EAE8E0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DCFE-DF2E-4485-961A-F259BF1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6AC-8123-4D76-8108-12E2064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A7EA-24D5-4A8E-AF3D-0DC671F9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9D81-6033-409F-9859-72B904AA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F0B6-B962-4934-ABC0-F8A00F8A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30F42-AC47-4B2E-BDFE-D1DB1494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63F27-6546-49FD-B3CC-12A04A7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76429-6C8E-41FE-9F05-A9849382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6871C-6319-4382-A84C-4B13A1DE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8DE9C-D8B1-4311-9B8B-2D2A1E56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5854D-4CC4-4DA5-B931-FBA5EC41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41D10-2F55-42DD-9421-E9BE382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DB0-3DF5-41D9-BB83-2AD4EE71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EBD0F-EB5A-4095-82D4-BE58DC3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C4B00-B680-45B3-86DE-D1C3BF3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C22C5-03F4-46D1-A18D-771BDC45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6DC22-FD02-4C37-B5ED-8CDAC347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0F9BA-9197-468F-8C7A-103F3B96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2035A-5989-4B6E-A0F2-7AD5B51E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06A8-3E00-4D3D-9B2F-E7093A79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CC11-0313-4F37-9B62-B1978132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E961-7105-40A0-90D1-4108E954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8E98-C41F-4DE9-A79B-488F333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611-8F81-4DE0-8B1A-10C5BD2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60CF-6304-4C96-B883-0B1BCF5F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73670-C8B1-48A9-B880-DDC62C0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B942-22AA-447B-85F0-672773C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F5E0-3421-4929-BDE6-355BEA2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D277B-45BB-413E-8D16-F24DD4CF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B7C1A-D6B1-4AF6-A2F4-B10EE9DA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3101-F5B2-4CFD-9896-0967E436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30081-C498-4DBA-9D17-FF00A610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67450-6A8F-4FEC-A97A-51ED0A5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5E72B-3577-46F7-A786-E1479D69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15A5-7F73-4682-A3C1-79100A6930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C35F-1373-4318-B8C1-8F2E2F4648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1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B8B-9BD7-4B7A-9262-4100D4D64B4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ED6-22E0-4281-889C-1D8EE2D333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8BC0-3A08-4789-B3D7-C1C88E0A0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6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0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6183-E985-4023-BFAC-7019E284408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611-6F33-43DA-8BD9-A885210FDF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5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5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5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9A50-1326-4413-A9D0-86D0D4A29F4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480E-D13E-4921-AEA1-62DDFFE5BA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7C5-599A-4F5D-B56C-24BEDE128E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87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91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16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6363-A135-425F-B779-9B4D2B617C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яснительная записк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кольку наглядно-образные компоненты мышления играют исключительно важную роль в жизни человека, то использование их в изучении оказывается чрезвычайно эффективным. Компьютерная графика позволяет детям незаметно осваивать учебный материа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а вызывает живой интерес, позволяет учителю поддерживать внимание детей в течении ур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рок проводится в 5 классе при закреплении материала п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ме «Проценты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Это третий урок по данной теме, но тема процентов трудная и использование игры на уроке позволяет активизировать большую часть ребят в течении всего уро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ИКТ позволяет увеличить объем материала, изученного на уроке, увеличить количество разобранных задач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                 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195640" y="1196640"/>
            <a:ext cx="47592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Picture 4" descr="0_5f7d_5c99c7e8_L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6946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6"/>
          <p:cNvSpPr/>
          <p:nvPr/>
        </p:nvSpPr>
        <p:spPr>
          <a:xfrm>
            <a:off x="4002840" y="285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Arial"/>
              </a:rPr>
              <a:t>Задача2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928800" y="857160"/>
            <a:ext cx="785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В библиотеке Цветочного городка 36% всех книг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составляют учебники. Справочников и словарей- в 3 раза меньше, чем учебников. Остальные книги- художественная литература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Ответьте на вопросы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1) Что принято за 100% 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2) Какой процент от всех книг составляют справочники и словари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d1ff"/>
                </a:solidFill>
                <a:latin typeface="Arial"/>
              </a:rPr>
              <a:t>3) Какой процент от всех книг составляет художественная литература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e0e0"/>
                </a:solidFill>
                <a:latin typeface="Tahoma"/>
              </a:rPr>
              <a:t>Пончик предложил Незнайке 2 булочки, а остальные съел сам. Какой процент всех булочек съел Незнайка, если у Пончика было 10 булочек? Сколько процентов составляет обед Понч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6300720" y="142560"/>
            <a:ext cx="284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ff82"/>
                </a:solidFill>
                <a:latin typeface="Arial"/>
              </a:rPr>
              <a:t>Испытание на Луне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ff82"/>
                </a:solidFill>
                <a:latin typeface="Arial"/>
              </a:rPr>
              <a:t>Задача 4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ff82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82ff82"/>
                </a:solidFill>
                <a:latin typeface="Arial"/>
              </a:rPr>
              <a:t>письменно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ff82"/>
                </a:solidFill>
                <a:latin typeface="Arial"/>
              </a:rPr>
              <a:t>Сравнить: 5% от 70 и 70% от 5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95640" y="277920"/>
            <a:ext cx="3097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Picture 4" descr="2138488"/>
          <p:cNvPicPr/>
          <p:nvPr/>
        </p:nvPicPr>
        <p:blipFill>
          <a:blip r:embed="rId1"/>
          <a:stretch/>
        </p:blipFill>
        <p:spPr>
          <a:xfrm>
            <a:off x="0" y="0"/>
            <a:ext cx="10080720" cy="81374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7"/>
          <p:cNvSpPr/>
          <p:nvPr/>
        </p:nvSpPr>
        <p:spPr>
          <a:xfrm>
            <a:off x="3643200" y="3571920"/>
            <a:ext cx="456264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debeb"/>
                </a:solidFill>
                <a:latin typeface="Arial"/>
              </a:rPr>
              <a:t>1. №1580,№1582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debeb"/>
                </a:solidFill>
                <a:latin typeface="Arial"/>
              </a:rPr>
              <a:t>2. принести транспортир.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2791440" y="714240"/>
            <a:ext cx="579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e0ff"/>
                </a:solidFill>
                <a:latin typeface="Arial"/>
              </a:rPr>
              <a:t>Возвращение на землю</a:t>
            </a:r>
            <a:br>
              <a:rPr sz="4000"/>
            </a:br>
            <a:r>
              <a:rPr b="0" lang="ru-RU" sz="4000" spc="-1" strike="noStrike">
                <a:solidFill>
                  <a:srgbClr val="c2e0ff"/>
                </a:solidFill>
                <a:latin typeface="Arial"/>
              </a:rPr>
              <a:t>Домашнее задание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1042920" y="2083320"/>
            <a:ext cx="810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) Что нового узнали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Что хорошо получается в решении задач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На сколько процентов вы удовлетворены своей работой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2411280" y="836640"/>
            <a:ext cx="499428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Земле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862560" y="800640"/>
            <a:ext cx="7853760" cy="4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ема урока: Процент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ип уро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: урок обобщения и систематизации зна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и урок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Образовательные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общение и систематизация знаний учащихся о процентах, выявление уровня знаний, умений и навыков учащихся при решении задач по тем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звитие познавательного интереса к математик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звитие умений организации учебного труд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ирование логического и системного мышле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ирование мыслительных операций- анализа, обобщ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Воспитательны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ание воли и настойчивости  для достижения конечных результат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ание рациональной организации бюджета времен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ддержание на высоком уровне общей работоспособности для уче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imagelogo"/>
          <p:cNvPicPr/>
          <p:nvPr/>
        </p:nvPicPr>
        <p:blipFill>
          <a:blip r:embed="rId2"/>
          <a:stretch/>
        </p:blipFill>
        <p:spPr>
          <a:xfrm>
            <a:off x="6659640" y="4653000"/>
            <a:ext cx="2484360" cy="22971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468360" y="620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утешествие с Незнайкой на Луну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2627280" y="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нты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3024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3672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0" name="Picture 4" descr="0_1c4_3568b4c8_L"/>
          <p:cNvPicPr/>
          <p:nvPr/>
        </p:nvPicPr>
        <p:blipFill>
          <a:blip r:embed="rId1"/>
          <a:stretch/>
        </p:blipFill>
        <p:spPr>
          <a:xfrm>
            <a:off x="179280" y="115920"/>
            <a:ext cx="10510920" cy="73454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5"/>
          <p:cNvSpPr/>
          <p:nvPr/>
        </p:nvSpPr>
        <p:spPr>
          <a:xfrm>
            <a:off x="1042920" y="2565360"/>
            <a:ext cx="4562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1.Объясните,  что такое 1 процент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2.Как найти 1% числа, если все число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равно 850 ?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3.Найдите все число, если 1% его равен 8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132000" y="692280"/>
            <a:ext cx="448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66ff66"/>
                </a:solidFill>
                <a:latin typeface="Arial"/>
              </a:rPr>
              <a:t>Отбор в космонавты (Ответить на вопрос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8" descr="тап"/>
          <p:cNvPicPr/>
          <p:nvPr/>
        </p:nvPicPr>
        <p:blipFill>
          <a:blip r:embed="rId1"/>
          <a:stretch/>
        </p:blipFill>
        <p:spPr>
          <a:xfrm>
            <a:off x="9144000" y="0"/>
            <a:ext cx="973080" cy="973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65"/>
          <p:cNvSpPr/>
          <p:nvPr/>
        </p:nvSpPr>
        <p:spPr>
          <a:xfrm>
            <a:off x="2197080" y="33336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000"/>
            </a:b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80"/>
          <p:cNvSpPr/>
          <p:nvPr/>
        </p:nvSpPr>
        <p:spPr>
          <a:xfrm>
            <a:off x="1692360" y="476280"/>
            <a:ext cx="482436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тн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числите: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%    от      245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 %    от      150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%    от      700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5%   от      800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%   от      750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0%   от      20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готовка к полету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проверка домашнего задани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щадь одной комнаты12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она составляет 25% площади всей кварти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дите площадь всей кварти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Picture 4" descr="ть шоенг"/>
          <p:cNvPicPr/>
          <p:nvPr/>
        </p:nvPicPr>
        <p:blipFill>
          <a:blip r:embed="rId1"/>
          <a:stretch/>
        </p:blipFill>
        <p:spPr>
          <a:xfrm>
            <a:off x="4643280" y="2563920"/>
            <a:ext cx="4069080" cy="40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559080" y="351000"/>
            <a:ext cx="82036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спосо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=48(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-площадь всей кварти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 спосо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12:25=0, 48(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-составляет 1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0, 48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00=48(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-площадь всей кварти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вет:48 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468360" y="45720"/>
            <a:ext cx="8124840" cy="67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99"/>
                </a:solidFill>
                <a:latin typeface="Arial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т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письменно в тетрадях)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а1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Цветочного городка до космодрома Незнайка за три часа проехал 87км. В первый час он проехал 35% всего пути, во второй- 38%, а в третий - остальной путь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ьте на следующие вопросы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что принято за 100% и известна ли эта величина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какая величина приходится на 1%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сколько километров Незнайка проехал за первый час; 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сколько километров Незнайка проехал во второй час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сколько километров Незнайка проехал за третий час ?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1547640" y="115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Заполнить таблиц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26920" y="1628640"/>
          <a:ext cx="7272360" cy="4907160"/>
        </p:xfrm>
        <a:graphic>
          <a:graphicData uri="http://schemas.openxmlformats.org/drawingml/2006/table">
            <a:tbl>
              <a:tblPr/>
              <a:tblGrid>
                <a:gridCol w="6223320"/>
                <a:gridCol w="10490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Сотая часть числа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%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Десятая часть числа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ятая часть числа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Четвертая часть числа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оловина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ри четверти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реть числа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8:09:35Z</dcterms:created>
  <dc:creator>учитель</dc:creator>
  <dc:description/>
  <dc:language>en-US</dc:language>
  <cp:lastModifiedBy>Admin</cp:lastModifiedBy>
  <dcterms:modified xsi:type="dcterms:W3CDTF">2013-03-21T14:32:32Z</dcterms:modified>
  <cp:revision>22</cp:revision>
  <dc:subject/>
  <dc:title>Слайд 1</dc:title>
</cp:coreProperties>
</file>