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png" ContentType="image/png"/>
  <Override PartName="/ppt/media/image5.jpeg" ContentType="image/jpeg"/>
  <Override PartName="/ppt/media/image26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ECA-2083-407F-A0A5-6B4EE8FE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F59-F64D-4199-AB91-8E631F5B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F1800-240F-46B0-BAAE-1981233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A890D-54F6-48D9-BC0C-68790F8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A8CA-51B7-47D6-9C49-19F9E68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3E8FE-FB73-4217-A33F-36F6C7E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954F7-333C-43CC-B0E0-EB99153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38087-5523-4ED8-9CA2-6D7CF2F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48CFB-0EAC-4406-9EE4-23CB7B2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C4D27-6F9C-4D05-B03B-BD69CFAB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FDB94-92C0-4C8E-9411-C5F5C745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01997-CD1E-486C-B0C4-375F1D31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D1F-CB45-4222-A803-23CF458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88592-04F4-4809-A5F9-1B06A8E3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D1B7B-0343-4186-A285-CDDE064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85C55-3FAE-4905-981A-087E9E9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E548-9394-446D-8A97-E17666C8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0CDBC-3AE8-4CFB-B183-6CF852A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48B8A-5B5B-43DC-A1AD-276A479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DEF82-89FE-472E-9951-CF583B7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F708C-89A6-46CB-8D58-173A7BA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C2BAC-C1A3-4187-9EA0-495BE2FB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7462C-EBAE-4EC5-996B-0146A4DD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72B-DCAD-444D-B98C-017EB58C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622CA-AA54-4076-93FA-5622B9BC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DEDB0-AAC3-4F52-90FB-64548DDC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59544-EBE4-401B-8BF7-2582DF6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78FF5-4247-43F8-93A9-7635D35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03301-FE5F-4797-8EE0-7490502D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A42A8-CECE-475D-B061-2D05612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2395-8A65-4DE4-AB46-0C872BEE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7E91-8CC7-428B-92C3-2E478C1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96A6C-4032-4DDF-94F4-A8657E3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C5BE-C322-4331-9DC2-7240D75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FDE6-7AA9-4B2C-9F72-B0B452AB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76962-7F0D-43AC-ABE2-BE10B1F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781A8-DB0E-4C42-BD55-BC0D055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9541-5311-4731-BCDA-D0C342C3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3595A-1821-4D7F-A835-A062DA77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84EB6-AAAC-4AA3-9142-71FC9A00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1E1E3-5D76-46A9-A0C9-720A5A6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1D65-974E-48D2-8E46-C20CDBE2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7BD63-9D1B-4245-B603-A1F7EF6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ACAA7-2669-4166-A856-179B6D47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DD2DB-445A-455D-B1ED-D538DD1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65F2-34C0-4371-A1A4-4CE5B89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7A898-3CBC-4C55-B544-A7508C7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EC251-A44C-42C9-BA27-55E23F5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E50F1-5E66-42D5-A026-07F3D26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6F36C-54F1-415E-A831-7259BEC4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E2AD6-C2D3-4660-9487-1FD91562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2FA7-597F-438C-85B7-61B4ED9F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75B7-7F7B-4286-93B8-A4578EB0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BA65-6892-43E9-8F06-C3FAAE90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DCBC-E101-4554-B680-FC906CB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7C5A-FF9C-4DAA-9342-EE2716AE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127-115C-4BD5-AD97-8196799F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F6D1-E83F-41B6-B9C9-39716B3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C989-4ED0-49FD-B19A-54E076C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E80-C0D4-4625-B5B8-920FC311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33C-CB13-4C72-A6AC-C524E39E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92DA-9640-45D2-A782-EB43807E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9887-3071-40C2-BA60-83ECD839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8E39-E673-4C1B-8936-F276EBB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B313-F3F2-4D8B-B626-01B6F6A2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2A19-C1A7-4D81-8445-9F22B7FF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4294-9BAD-40BF-B876-4B86DA8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EE7-3E50-42B7-BE3A-7BF86896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C22E-D0ED-4A35-89C6-E137341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E24C-9E15-4AF8-8476-45A9E63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47BC-0730-4FD1-A2DD-CC6373C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DDDA-9410-419F-9CAB-E56ECBE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ED88-3EF2-4016-A7E1-1E8749C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077F-D7DF-4D9E-B829-3976C01C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E515-73E0-4F68-AFF4-B05D4A49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3FEA-873C-4E22-8163-39DFDE67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3DFA-8DB5-4463-B354-A123E52D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B685-4E70-475A-994A-4B72B132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CEB-6B7E-44A2-8654-DBA381A0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10CB-C037-423D-BF97-3759B0E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3314-5125-4587-B1D0-48B12B7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99F3B-4755-4ED1-8777-95D097CA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9ED0-285E-474F-840E-F955625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7195-D578-494C-A370-FDE7C0A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D0E4-AF78-4CA5-BDF3-B1C6776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9A9E-0AFA-4623-8CBB-EF96FF3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CBFA-DCE3-4EBD-995B-6281A59C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9954-0B8D-41E9-AFE1-B34489AE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A1B89-73E9-4209-BDF8-4E142407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BD8-0D2C-4200-A4B9-4B567652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32691-E627-46C5-AA43-93A3A788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53293-53C1-4C86-A6B4-18374D59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CF850-8779-4FB7-A31F-52DF49A0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4B972-7558-404C-A4A7-60C45754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FB7E3-2590-41D3-9D5B-8160BD9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B835D-2CD5-4510-919A-2F85B88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B70B9-F153-41E9-B012-9BD451F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EDFD7-5A7C-481F-AEB3-A573018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F6FBA-EC64-442E-8F30-BD6D8490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42A04-3880-4E0C-B81A-9B0CE861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AA5-FA2D-49EA-A622-4D387ED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D6270-F6B0-458E-8A61-403905A1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57EB-49EB-44BF-94EF-8E07723F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5032-3A31-46FE-B347-81EE4D7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C3C2-41A9-48BF-9F35-410016D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2E42-5D83-42BE-A9B2-A9170331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6792-4245-4AA4-96C6-1BA052C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66C8B-4994-4CFA-8140-2FA579F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1590-5E19-4723-A412-3117B888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3E4B5-3B84-4D75-A522-A1452A4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079B-1E84-40FA-961D-53782E9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552-4C17-4A94-ADDA-F4C7FEDF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2CCA-9AF9-402B-B3DE-DEF848F9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D357-2BC5-4C74-889E-EDCE4BA7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7F633-C41B-4B47-B418-70D3D55A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69474-3213-43DD-B8EA-949D0FAD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0D15-0D91-4A65-9B75-75327B01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E9B0-74F7-433E-8180-6BE14F0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D87E-B53F-4D89-9227-F8723155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64DD-F230-463A-859B-2CDB338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857D0-0FF8-49D3-B0FB-901BD687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86CD-BB95-44D1-B3A7-75CDC17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F66-3F4E-4881-B1E6-92E2B67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928C-4BAA-4129-A456-5D06BACF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8FE0-6C8A-447A-924C-0AA3A1F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0147-8EAF-4FC5-994A-047D345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A628-E177-46CE-A809-4A727851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66A3-4B3F-4FFF-801F-9C77501B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6139F-6557-464B-8BD7-2127BAD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4467-C7C6-41D8-8F18-42578182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020F4-CF8C-4CEE-B37D-02C14B7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79EAE-AEB7-41CC-A0D0-36C557DC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FBDFA-E662-4407-B6AD-7CE56EE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CDF-305B-4D84-9C68-3DD88AC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1652-4E9D-4ED5-8A29-2EB68236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0F638-5EDE-4B32-B238-0DCD190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6174F-436D-45BC-874E-587FAE2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4D123-DC7A-4769-A2C7-5839BDC0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3298B-47D5-485C-B672-D9E8474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2C629-F855-47E4-9978-747A7129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0CDD8-FE0D-4449-9819-225DFD50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4AD1F-D52E-489F-A667-3378A64B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861E6-17A7-4CD3-9AB2-70BDF918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634A4-7B51-4D3A-8E9B-833FB34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B67E-AC08-4292-96C9-E851E93220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F06B-4F95-4984-9DE2-85614EF1F8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2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F5DA-4487-43B7-9519-9104EBC5E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6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3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ADD-AA93-4579-BBB3-B8C57E7144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DBD4-6E3A-464B-B566-A5740A11A9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9017-38B4-4655-954B-C5DC09B2B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3AA2-7046-4DE0-B202-EDE3F9DDDB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DDC2-3168-4349-A290-04B2088EAC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5A4D-B65F-4EFC-ADB9-014CC548C1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48D-4802-410A-A4A9-84349C724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D1C6-A3C3-4454-91B3-5A22B1F8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3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E39-204D-4471-8012-A22FD97275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jpeg"/><Relationship Id="rId3" Type="http://schemas.openxmlformats.org/officeDocument/2006/relationships/slide" Target=""/><Relationship Id="rId4" Type="http://schemas.openxmlformats.org/officeDocument/2006/relationships/image" Target="../media/image28.jpeg"/><Relationship Id="rId5" Type="http://schemas.openxmlformats.org/officeDocument/2006/relationships/slide" Target=""/><Relationship Id="rId6" Type="http://schemas.openxmlformats.org/officeDocument/2006/relationships/image" Target="../media/image29.jpeg"/><Relationship Id="rId7" Type="http://schemas.openxmlformats.org/officeDocument/2006/relationships/hyperlink" Target="http://images.google.ru/imgres?imgurl=http://www.obuv-ag.ru/images/press/sypagi1lg.jpg&amp;imgrefurl=http://www.obuv-ag.ru/press_11.phtml&amp;usg=__HUJOgIVla5oRRGpPfLTlvLDwtfE=&amp;h=500&amp;w=500&amp;sz=23&amp;hl=ru&amp;start=11&amp;tbnid=b79KE_YZOijonM:&amp;tbnh=130&amp;tbnw=130&amp;prev=/images%3Fq%3D%25D1%2580%25D0%25B5%25D0%25B7%25D0%25B8%25D0%25BD%25D0%25BE%25D0%25B2%25D1%258B%25D0%25B5%2B%25D1%2581%25D0%25B0%25D0%25BF%25D0%25BE%25D0%25B3%25D0%25B8%26gbv%3D2%26hl%3Dru%26safe%3Dactive" TargetMode="External"/><Relationship Id="rId8" Type="http://schemas.openxmlformats.org/officeDocument/2006/relationships/image" Target="../media/image30.jpeg"/><Relationship Id="rId9" Type="http://schemas.openxmlformats.org/officeDocument/2006/relationships/slide" Target="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sch4.edu.vn.ua/uploads/posts/2008-04/1209150190_18.jpg&amp;imgrefurl=http://sch4.edu.vn.ua/mineral.html&amp;usg=__ybq0juSTUGiitPL0qFNuDGG3D0w=&amp;h=245&amp;w=315&amp;sz=19&amp;hl=ru&amp;start=6&amp;tbnid=685rc1pFpOZ_HM:&amp;tbnh=91&amp;tbnw=117&amp;prev=/images%3Fq%3D%25D0%25B3%25D0%25BB%25D0%25B0%25D1%2583%25D0%25B1%25D0%25B5%25D1%2580%25D0%25BE%25D0%25B2%25D0%25B0%2B%25D1%2581%25D0%25BE%25D0%25BB%25D1%258C%26gbv%3D2%26hl%3Dru%26safe%3Dactive%26sa%3DG" TargetMode="External"/><Relationship Id="rId2" Type="http://schemas.openxmlformats.org/officeDocument/2006/relationships/image" Target="../media/image14.jpeg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slide" Target="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692360" y="2060640"/>
            <a:ext cx="547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а</a:t>
            </a:r>
            <a:endParaRPr b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лотропия с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Пласти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зинообразная масса темно-коричнев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4046400"/>
            <a:ext cx="6335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лучение пластической сер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46320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3" dur="1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из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47516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е кристаллическ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водит электрический 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ая тепл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створяется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ие кристаллы серы водой не смачиваются и поддерживаются на плаву мелкими пузырьками воздуха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л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076720" y="2249640"/>
            <a:ext cx="3610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9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а-типичный химически активный неметалл, способный взаимодействовать с металлами, неметаллами, сложными вещест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основании учебника (стр.76) составьте электронный баланс для предложенных уравн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1e          Na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+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в-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2e          S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к-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916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9564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2692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092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318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орение с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36480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68360" y="907560"/>
            <a:ext cx="40384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 + S       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– 2e     Cu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+ 2e  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к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43280" y="981000"/>
            <a:ext cx="4500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+ 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S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– 4e 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*2    2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ок-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68360" y="3715920"/>
            <a:ext cx="40384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S       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    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e*2     2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+ 2e  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к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642920" y="3715920"/>
            <a:ext cx="4038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+ 3 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S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– 6e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e*2     2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-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95640" y="119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87280" y="206064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042920" y="479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0036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84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771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411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9564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19640" y="2133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00720" y="1268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16720" y="22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020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76720" y="479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59640" y="4005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43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77080" y="602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+ 2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      3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                  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– 4e    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в-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+6                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+ 2e     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ок-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116000" y="2492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1280" y="148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48436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716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е название получила от </a:t>
            </a:r>
            <a:r>
              <a:rPr b="1" i="1" lang="ru-RU" sz="3200" spc="-1" strike="noStrike">
                <a:solidFill>
                  <a:srgbClr val="ff9900"/>
                </a:solidFill>
                <a:latin typeface="Tahoma"/>
              </a:rPr>
              <a:t>санкритского слова «сира»- светло-желтый</a:t>
            </a:r>
            <a:r>
              <a:rPr b="1" i="1" lang="ru-RU" sz="32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лась в Древнем Египте- для изготовления красок, косметических средств, а также для отбеливания тка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187280" y="765000"/>
            <a:ext cx="705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много истории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ласти применения с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5157720"/>
            <a:ext cx="874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и применения серы описаны в романе А. Дюма «Граф Монте-Крис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4248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ласти применения се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248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Производ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о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ма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148428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3645000"/>
            <a:ext cx="2376720" cy="20286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80000" y="4149720"/>
            <a:ext cx="2879640" cy="238428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1557360"/>
            <a:ext cx="2376360" cy="20160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1280" y="4270320"/>
            <a:ext cx="3529080" cy="25876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11"/>
          <a:stretch/>
        </p:blipFill>
        <p:spPr>
          <a:xfrm>
            <a:off x="7537320" y="5084640"/>
            <a:ext cx="1606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2556000" y="4869000"/>
            <a:ext cx="2952720" cy="198900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ласти применения с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6429240" y="1628640"/>
            <a:ext cx="2714760" cy="23814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6084720" y="3481560"/>
            <a:ext cx="3059280" cy="29653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68360" y="1341360"/>
            <a:ext cx="4390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ра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зрывчат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ека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осметических преп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ст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«суса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олота»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n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4427640" y="3213000"/>
            <a:ext cx="2808360" cy="193068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3240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Древнем Риме- для лечения кожных заболе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Древней Греции- для дезинфекции вещей и воздуха в помещ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редние века- век алхими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ьная составная ча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философского камн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3635280" cy="31114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3240000" cy="2603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564000" y="4437000"/>
            <a:ext cx="55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тхом завете так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минается сера: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лавленной с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жигали грешников. Запах горящей серы олицетворял запах 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5183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улкан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м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ный цв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ренков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592360" cy="2147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3779640" cy="27370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324000" y="0"/>
            <a:ext cx="828036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ироде сера встречается в 3-х фор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4360" y="981000"/>
            <a:ext cx="410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родная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20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20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388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Сульфидна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397320" cy="26542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736720" cy="22068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0" y="4700520"/>
            <a:ext cx="3059280" cy="21574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3276720" y="429264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3348000" y="1773360"/>
            <a:ext cx="2808360" cy="23050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6084720" y="386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ный блес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40360" y="609300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нковая обм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6720" y="623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овар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9640" y="486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р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92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о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06064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цовый блес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78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ульфатна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.Глауберова с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ип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2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.Горькая с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7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13000"/>
            <a:ext cx="3851280" cy="29955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407664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4437000"/>
            <a:ext cx="33130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инофрагмент «Сера в природе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1739880" y="1600200"/>
            <a:ext cx="566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0" dur="1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лотропия с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402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бическ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дое кристалл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о лимонно-желт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в. непол. с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476280"/>
            <a:ext cx="2879640" cy="2114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429000"/>
            <a:ext cx="2690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лотропия с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агревании до 96,5 переходит в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зматическую(моноклинну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ные темно-желтые игольчатые криста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411280" y="4489560"/>
            <a:ext cx="48247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2:54:50Z</dcterms:created>
  <dc:creator>Серебрякова</dc:creator>
  <dc:description/>
  <dc:language>en-US</dc:language>
  <cp:lastModifiedBy>Серебрякова</cp:lastModifiedBy>
  <dcterms:modified xsi:type="dcterms:W3CDTF">2013-01-07T15:14:02Z</dcterms:modified>
  <cp:revision>17</cp:revision>
  <dc:subject/>
  <dc:title>Тренировочные задания  блок «Вещество»</dc:title>
</cp:coreProperties>
</file>