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599-43C0-47CE-9A6F-6CB64924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6FF-F444-459A-BD9E-C3E85EE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D03-840E-4BF2-8A5A-B2319443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649-2863-44A1-AEE2-3D31F0DB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A915-58D5-4234-B29E-B9F658D3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0B5A-2529-4CCB-BE18-B94FFDC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E86-53B2-4F27-8942-A5E9444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0112-C74D-480A-9DBD-1BE91B45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9E0-4402-437B-B5EB-5F2A1DBA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6ECE-48BC-4429-950F-AAE8F67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6D5B-ADE8-448D-A181-248A6ED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5AE-7FAC-477C-BAA7-157C38A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54A-A616-42A1-AA47-EE1A642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0109-27E5-49B3-B953-9138972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AB9C-F325-45CE-B2E6-E1834D1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DAC3-FFCD-4AC3-AC43-574BC093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6C62-54B8-47C9-ABEB-E3EB1F82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38C-8457-496C-A529-F9C5222C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CE1-4AC3-4B59-9DA4-FA4DC510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0E5-A9B8-4C2A-BD28-8CF8BDF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47C-557D-4FAA-AE06-064F264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147-4123-4B76-A4AF-5A050A7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22D-C525-4A11-B6CA-4906EA20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43B-A268-4F6A-9E97-3266F48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41F2-8B92-4FD7-8C86-751307B8A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2E3B-8427-4B81-8CF6-C21881ED39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4"/>
          <p:cNvSpPr/>
          <p:nvPr/>
        </p:nvSpPr>
        <p:spPr>
          <a:xfrm>
            <a:off x="285840" y="571680"/>
            <a:ext cx="85010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яя эксперименталь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о брошенное горизонтальн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ашева Кюннэ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: Тимофеева Н.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Вывод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ая скорость мяча, брошенного горизонтально, зависит от дальности броска и времени ,а конечная скорость  от начальной скор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Foto Sunny Juber2676"/>
          <p:cNvPicPr/>
          <p:nvPr/>
        </p:nvPicPr>
        <p:blipFill>
          <a:blip r:embed="rId1"/>
          <a:stretch/>
        </p:blipFill>
        <p:spPr>
          <a:xfrm>
            <a:off x="5429160" y="2143080"/>
            <a:ext cx="24224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Исследовать тело брошенное горизонтально, найти начальную и конечную скорость мяча, брошенного горизонталь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оры: простая метровка, секундомер, и бейсбольный мя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сли тело брошено горизонтальн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506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формулы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=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+g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=gt²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=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 flipV="1">
            <a:off x="1042920" y="220464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1042920" y="429264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rc 12"/>
          <p:cNvSpPr/>
          <p:nvPr/>
        </p:nvSpPr>
        <p:spPr>
          <a:xfrm>
            <a:off x="1042920" y="2781360"/>
            <a:ext cx="1800360" cy="1511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826920" y="278136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5"/>
          <p:cNvSpPr/>
          <p:nvPr/>
        </p:nvSpPr>
        <p:spPr>
          <a:xfrm rot="16200000">
            <a:off x="1834920" y="350028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83880 h 1800360"/>
              <a:gd name="textAreaBottom" fmla="*/ 171648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0"/>
                  <a:pt x="10800" y="3219"/>
                </a:cubicBezTo>
                <a:lnTo>
                  <a:pt x="10800" y="7581"/>
                </a:lnTo>
                <a:cubicBezTo>
                  <a:pt x="10800" y="9191"/>
                  <a:pt x="5400" y="10800"/>
                  <a:pt x="0" y="10800"/>
                </a:cubicBezTo>
                <a:cubicBezTo>
                  <a:pt x="5400" y="10800"/>
                  <a:pt x="10800" y="12410"/>
                  <a:pt x="10800" y="14019"/>
                </a:cubicBezTo>
                <a:lnTo>
                  <a:pt x="10800" y="18381"/>
                </a:lnTo>
                <a:cubicBezTo>
                  <a:pt x="10800" y="199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17280" y="4529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 rot="16200000">
            <a:off x="-81720" y="3406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736920" y="200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311328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1042920" y="2781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189440" y="227664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627280" y="3573360"/>
            <a:ext cx="216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284508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 flipV="1">
            <a:off x="2627280" y="3573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269800" y="3789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2557440" y="3213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2627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2"/>
          <p:cNvSpPr/>
          <p:nvPr/>
        </p:nvSpPr>
        <p:spPr>
          <a:xfrm flipV="1">
            <a:off x="5651640" y="2133720"/>
            <a:ext cx="576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3"/>
          <p:cNvSpPr/>
          <p:nvPr/>
        </p:nvSpPr>
        <p:spPr>
          <a:xfrm flipH="1" flipV="1">
            <a:off x="5651640" y="2133720"/>
            <a:ext cx="576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4"/>
          <p:cNvSpPr/>
          <p:nvPr/>
        </p:nvSpPr>
        <p:spPr>
          <a:xfrm flipV="1">
            <a:off x="3924360" y="2060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3564000" y="20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3564000" y="2060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3544920" y="1647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3925800" y="2133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3421080" y="22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1"/>
          <p:cNvSpPr/>
          <p:nvPr/>
        </p:nvSpPr>
        <p:spPr>
          <a:xfrm>
            <a:off x="3780000" y="2421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42"/>
          <p:cNvSpPr/>
          <p:nvPr/>
        </p:nvSpPr>
        <p:spPr>
          <a:xfrm flipH="1">
            <a:off x="3708000" y="2492280"/>
            <a:ext cx="14292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3349440" y="328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44"/>
          <p:cNvSpPr/>
          <p:nvPr/>
        </p:nvSpPr>
        <p:spPr>
          <a:xfrm>
            <a:off x="5796000" y="3500280"/>
            <a:ext cx="647640" cy="649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45"/>
          <p:cNvSpPr/>
          <p:nvPr/>
        </p:nvSpPr>
        <p:spPr>
          <a:xfrm>
            <a:off x="6659640" y="3500280"/>
            <a:ext cx="649080" cy="649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46"/>
          <p:cNvSpPr/>
          <p:nvPr/>
        </p:nvSpPr>
        <p:spPr>
          <a:xfrm flipV="1">
            <a:off x="7380360" y="3573360"/>
            <a:ext cx="50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813800" y="3141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6084720" y="422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9"/>
          <p:cNvSpPr/>
          <p:nvPr/>
        </p:nvSpPr>
        <p:spPr>
          <a:xfrm>
            <a:off x="5151600" y="458136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²=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+(gt)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найти угол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y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x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gt /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0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/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0y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 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1258920" y="242100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3348000" y="2421000"/>
            <a:ext cx="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1258920" y="2421000"/>
            <a:ext cx="208908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744920" y="361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2465280" y="17413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544920" y="31813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rc 15"/>
          <p:cNvSpPr/>
          <p:nvPr/>
        </p:nvSpPr>
        <p:spPr>
          <a:xfrm flipV="1" rot="10571400">
            <a:off x="2626920" y="3788640"/>
            <a:ext cx="720720" cy="287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2771640" y="3284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>
            <a:off x="6659640" y="3141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652720" y="3500280"/>
            <a:ext cx="2140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+(gt)²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6659640" y="472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5581080" y="5013360"/>
            <a:ext cx="20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(gt)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25"/>
          <p:cNvSpPr/>
          <p:nvPr/>
        </p:nvSpPr>
        <p:spPr>
          <a:xfrm>
            <a:off x="5580000" y="3357720"/>
            <a:ext cx="216072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6"/>
          <p:cNvSpPr/>
          <p:nvPr/>
        </p:nvSpPr>
        <p:spPr>
          <a:xfrm>
            <a:off x="5508720" y="4941720"/>
            <a:ext cx="2160360" cy="72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ой пример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8" descr="Foto Sunny Juber2665"/>
          <p:cNvPicPr/>
          <p:nvPr/>
        </p:nvPicPr>
        <p:blipFill>
          <a:blip r:embed="rId1"/>
          <a:stretch/>
        </p:blipFill>
        <p:spPr>
          <a:xfrm>
            <a:off x="5643720" y="1643040"/>
            <a:ext cx="1849320" cy="3357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моя сестра , она поможет мне провести экспериментальну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8144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вый х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ряем высоту, с которого брошен мяч. Зафиксируем дан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=9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=0,9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Foto Sunny Juber2669"/>
          <p:cNvPicPr/>
          <p:nvPr/>
        </p:nvPicPr>
        <p:blipFill>
          <a:blip r:embed="rId1"/>
          <a:stretch/>
        </p:blipFill>
        <p:spPr>
          <a:xfrm>
            <a:off x="5572080" y="1143000"/>
            <a:ext cx="2109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Второй ход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саем мяч и на секундомере измеряем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фиксируем дан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= 1,2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7" descr="Foto Sunny Juber2673"/>
          <p:cNvPicPr/>
          <p:nvPr/>
        </p:nvPicPr>
        <p:blipFill>
          <a:blip r:embed="rId1"/>
          <a:stretch/>
        </p:blipFill>
        <p:spPr>
          <a:xfrm>
            <a:off x="5072040" y="264312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69116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Ход трет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ряем метровкой длину между мячом и челове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фиксиру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н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= 170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,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Foto Sunny Juber2674"/>
          <p:cNvPicPr/>
          <p:nvPr/>
        </p:nvPicPr>
        <p:blipFill>
          <a:blip r:embed="rId1"/>
          <a:stretch/>
        </p:blipFill>
        <p:spPr>
          <a:xfrm>
            <a:off x="4214880" y="2500200"/>
            <a:ext cx="35240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д четверты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ак, получаем такое уравн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а:      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=0,9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=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* t         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L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=1,7m                               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,7 / 1,2= 1,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/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= 1,2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²=V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+(gt)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1,96+144=145,96=12,04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2124000" y="1773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284720" y="1773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285840" y="3929040"/>
            <a:ext cx="17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8:00:48Z</dcterms:created>
  <dc:creator>admin</dc:creator>
  <dc:description/>
  <dc:language>en-US</dc:language>
  <cp:lastModifiedBy>Admin</cp:lastModifiedBy>
  <dcterms:modified xsi:type="dcterms:W3CDTF">2001-12-31T15:21:16Z</dcterms:modified>
  <cp:revision>6</cp:revision>
  <dc:subject/>
  <dc:title>Тело брошено горизонтально</dc:title>
</cp:coreProperties>
</file>