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A194A-4070-4BF7-A25D-45566705C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E17B7-3B75-4552-9AC2-B47DB50A2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C5140-7E17-4DEF-9B27-ADA7742F5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70829-AA19-4550-8E86-AC22F3D72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BE0F5-F91B-426C-A39A-D657044D0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C6945-CFD1-4220-BACB-8B1D0F18F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89269-921C-463B-B48D-30DD05FF0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A7316-F83B-47BA-9ABD-53C05DB92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F564A-88EB-4368-982B-AFCA2D61B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F026D-FF03-44B7-A1AB-EBC3272F5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482A1-CC50-4340-A1D5-99FF3BC51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598D9-E019-4365-8629-D1EB0A745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3A5F7-D90A-4F06-B9C3-C87033CE23E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2.xml"/><Relationship Id="rId3" Type="http://schemas.openxmlformats.org/officeDocument/2006/relationships/slide" Target="slide15.xm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900000" y="1700280"/>
            <a:ext cx="7417080" cy="20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cc0000"/>
                </a:solidFill>
                <a:latin typeface="Tahoma"/>
              </a:rPr>
              <a:t>ЦЕНТРАЛЬНАЯ СИММЕТРИЯ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8"/>
          <p:cNvSpPr/>
          <p:nvPr/>
        </p:nvSpPr>
        <p:spPr>
          <a:xfrm>
            <a:off x="1258920" y="5589720"/>
            <a:ext cx="741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Прямоугольник 3"/>
          <p:cNvSpPr/>
          <p:nvPr/>
        </p:nvSpPr>
        <p:spPr>
          <a:xfrm>
            <a:off x="4286160" y="4675320"/>
            <a:ext cx="4214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ыполнила Хрюнова 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верила Гуськова Е. 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2"/>
          <p:cNvSpPr/>
          <p:nvPr/>
        </p:nvSpPr>
        <p:spPr>
          <a:xfrm>
            <a:off x="442800" y="103320"/>
            <a:ext cx="8244000" cy="13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Verdana"/>
              </a:rPr>
              <a:t>Построение отрезка, симметричного данному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35"/>
          <p:cNvSpPr/>
          <p:nvPr/>
        </p:nvSpPr>
        <p:spPr>
          <a:xfrm>
            <a:off x="6300720" y="6093000"/>
            <a:ext cx="180036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3300"/>
                </a:solidFill>
                <a:latin typeface="Verdana"/>
              </a:rPr>
              <a:t>Определен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AutoShape 36"/>
          <p:cNvSpPr/>
          <p:nvPr/>
        </p:nvSpPr>
        <p:spPr>
          <a:xfrm>
            <a:off x="8388360" y="6093000"/>
            <a:ext cx="431640" cy="360360"/>
          </a:xfrm>
          <a:custGeom>
            <a:avLst/>
            <a:gdLst>
              <a:gd name="textAreaLeft" fmla="*/ 23040 w 431640"/>
              <a:gd name="textAreaRight" fmla="*/ 408600 w 431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68" h="21600">
                <a:moveTo>
                  <a:pt x="0" y="0"/>
                </a:moveTo>
                <a:lnTo>
                  <a:pt x="25868" y="0"/>
                </a:lnTo>
                <a:lnTo>
                  <a:pt x="25868" y="21600"/>
                </a:lnTo>
                <a:lnTo>
                  <a:pt x="0" y="21600"/>
                </a:lnTo>
                <a:close/>
              </a:path>
              <a:path fill="lightenLess" w="25868" h="21600">
                <a:moveTo>
                  <a:pt x="0" y="0"/>
                </a:moveTo>
                <a:lnTo>
                  <a:pt x="25868" y="0"/>
                </a:lnTo>
                <a:lnTo>
                  <a:pt x="24468" y="1400"/>
                </a:lnTo>
                <a:lnTo>
                  <a:pt x="1400" y="1400"/>
                </a:lnTo>
                <a:close/>
              </a:path>
              <a:path fill="darken" w="25868" h="21600">
                <a:moveTo>
                  <a:pt x="25868" y="0"/>
                </a:moveTo>
                <a:lnTo>
                  <a:pt x="25868" y="21600"/>
                </a:lnTo>
                <a:lnTo>
                  <a:pt x="24468" y="20200"/>
                </a:lnTo>
                <a:lnTo>
                  <a:pt x="24468" y="1400"/>
                </a:lnTo>
                <a:close/>
              </a:path>
              <a:path fill="darkenLess" w="25868" h="21600">
                <a:moveTo>
                  <a:pt x="258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68" y="20200"/>
                </a:lnTo>
                <a:close/>
              </a:path>
              <a:path fill="lighten" w="258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68" h="21600">
                <a:moveTo>
                  <a:pt x="12934" y="3837"/>
                </a:moveTo>
                <a:lnTo>
                  <a:pt x="15510" y="6448"/>
                </a:lnTo>
                <a:lnTo>
                  <a:pt x="15510" y="4707"/>
                </a:lnTo>
                <a:lnTo>
                  <a:pt x="17286" y="4707"/>
                </a:lnTo>
                <a:lnTo>
                  <a:pt x="17286" y="8224"/>
                </a:lnTo>
                <a:lnTo>
                  <a:pt x="19897" y="10800"/>
                </a:lnTo>
                <a:lnTo>
                  <a:pt x="18243" y="10800"/>
                </a:lnTo>
                <a:lnTo>
                  <a:pt x="18243" y="17989"/>
                </a:lnTo>
                <a:lnTo>
                  <a:pt x="7625" y="17989"/>
                </a:lnTo>
                <a:lnTo>
                  <a:pt x="7625" y="10800"/>
                </a:lnTo>
                <a:lnTo>
                  <a:pt x="5971" y="10800"/>
                </a:lnTo>
                <a:close/>
              </a:path>
              <a:path fill="darkenLess" w="25868" h="21600">
                <a:moveTo>
                  <a:pt x="15510" y="6448"/>
                </a:moveTo>
                <a:lnTo>
                  <a:pt x="15510" y="4707"/>
                </a:lnTo>
                <a:lnTo>
                  <a:pt x="17286" y="4707"/>
                </a:lnTo>
                <a:lnTo>
                  <a:pt x="17286" y="8224"/>
                </a:lnTo>
                <a:close/>
              </a:path>
              <a:path fill="darkenLess" w="25868" h="21600">
                <a:moveTo>
                  <a:pt x="12012" y="14299"/>
                </a:moveTo>
                <a:lnTo>
                  <a:pt x="13857" y="14299"/>
                </a:lnTo>
                <a:lnTo>
                  <a:pt x="13857" y="17989"/>
                </a:lnTo>
                <a:lnTo>
                  <a:pt x="18243" y="17989"/>
                </a:lnTo>
                <a:lnTo>
                  <a:pt x="18243" y="10800"/>
                </a:lnTo>
                <a:lnTo>
                  <a:pt x="7625" y="10800"/>
                </a:lnTo>
                <a:lnTo>
                  <a:pt x="7625" y="17989"/>
                </a:lnTo>
                <a:lnTo>
                  <a:pt x="12012" y="1798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AutoShape 37">
            <a:hlinkClick r:id="" action="ppaction://hlinkshowjump?jump=previousslide"/>
          </p:cNvPr>
          <p:cNvSpPr/>
          <p:nvPr/>
        </p:nvSpPr>
        <p:spPr>
          <a:xfrm>
            <a:off x="5638680" y="6095880"/>
            <a:ext cx="446040" cy="357480"/>
          </a:xfrm>
          <a:custGeom>
            <a:avLst/>
            <a:gdLst>
              <a:gd name="textAreaLeft" fmla="*/ 23040 w 446040"/>
              <a:gd name="textAreaRight" fmla="*/ 423000 w 446040"/>
              <a:gd name="textAreaTop" fmla="*/ 23040 h 357480"/>
              <a:gd name="textAreaBottom" fmla="*/ 334440 h 357480"/>
            </a:gdLst>
            <a:ahLst/>
            <a:rect l="textAreaLeft" t="textAreaTop" r="textAreaRight" b="textAreaBottom"/>
            <a:pathLst>
              <a:path w="26946" h="21600">
                <a:moveTo>
                  <a:pt x="0" y="0"/>
                </a:moveTo>
                <a:lnTo>
                  <a:pt x="26946" y="0"/>
                </a:lnTo>
                <a:lnTo>
                  <a:pt x="26946" y="21600"/>
                </a:lnTo>
                <a:lnTo>
                  <a:pt x="0" y="21600"/>
                </a:lnTo>
                <a:close/>
              </a:path>
              <a:path fill="lightenLess" w="26946" h="21600">
                <a:moveTo>
                  <a:pt x="0" y="0"/>
                </a:moveTo>
                <a:lnTo>
                  <a:pt x="26946" y="0"/>
                </a:lnTo>
                <a:lnTo>
                  <a:pt x="25546" y="1400"/>
                </a:lnTo>
                <a:lnTo>
                  <a:pt x="1400" y="1400"/>
                </a:lnTo>
                <a:close/>
              </a:path>
              <a:path fill="darken" w="26946" h="21600">
                <a:moveTo>
                  <a:pt x="26946" y="0"/>
                </a:moveTo>
                <a:lnTo>
                  <a:pt x="26946" y="21600"/>
                </a:lnTo>
                <a:lnTo>
                  <a:pt x="25546" y="20200"/>
                </a:lnTo>
                <a:lnTo>
                  <a:pt x="25546" y="1400"/>
                </a:lnTo>
                <a:close/>
              </a:path>
              <a:path fill="darkenLess" w="26946" h="21600">
                <a:moveTo>
                  <a:pt x="269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46" y="20200"/>
                </a:lnTo>
                <a:close/>
              </a:path>
              <a:path fill="lighten" w="269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46" h="21600">
                <a:moveTo>
                  <a:pt x="6466" y="7493"/>
                </a:moveTo>
                <a:lnTo>
                  <a:pt x="9974" y="7493"/>
                </a:lnTo>
                <a:lnTo>
                  <a:pt x="9974" y="12828"/>
                </a:lnTo>
                <a:cubicBezTo>
                  <a:pt x="9974" y="13751"/>
                  <a:pt x="10775" y="14482"/>
                  <a:pt x="11810" y="14482"/>
                </a:cubicBezTo>
                <a:lnTo>
                  <a:pt x="13473" y="14482"/>
                </a:lnTo>
                <a:cubicBezTo>
                  <a:pt x="14509" y="14482"/>
                  <a:pt x="15309" y="13751"/>
                  <a:pt x="15309" y="12828"/>
                </a:cubicBezTo>
                <a:lnTo>
                  <a:pt x="15309" y="7493"/>
                </a:lnTo>
                <a:lnTo>
                  <a:pt x="13473" y="7493"/>
                </a:lnTo>
                <a:lnTo>
                  <a:pt x="16980" y="3985"/>
                </a:lnTo>
                <a:lnTo>
                  <a:pt x="20653" y="7493"/>
                </a:lnTo>
                <a:lnTo>
                  <a:pt x="18817" y="7493"/>
                </a:lnTo>
                <a:lnTo>
                  <a:pt x="18817" y="12828"/>
                </a:lnTo>
                <a:cubicBezTo>
                  <a:pt x="18817" y="15596"/>
                  <a:pt x="16241" y="18155"/>
                  <a:pt x="13473" y="18155"/>
                </a:cubicBezTo>
                <a:lnTo>
                  <a:pt x="11810" y="18155"/>
                </a:lnTo>
                <a:cubicBezTo>
                  <a:pt x="9043" y="18155"/>
                  <a:pt x="6466" y="15596"/>
                  <a:pt x="6466" y="12828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Freeform 41"/>
          <p:cNvSpPr/>
          <p:nvPr/>
        </p:nvSpPr>
        <p:spPr>
          <a:xfrm>
            <a:off x="576360" y="1785960"/>
            <a:ext cx="2361960" cy="766800"/>
          </a:xfrm>
          <a:custGeom>
            <a:avLst/>
            <a:gdLst>
              <a:gd name="textAreaLeft" fmla="*/ 0 w 2361960"/>
              <a:gd name="textAreaRight" fmla="*/ 2362320 w 2361960"/>
              <a:gd name="textAreaTop" fmla="*/ 0 h 766800"/>
              <a:gd name="textAreaBottom" fmla="*/ 767160 h 766800"/>
            </a:gdLst>
            <a:ahLst/>
            <a:rect l="textAreaLeft" t="textAreaTop" r="textAreaRight" b="textAreaBottom"/>
            <a:pathLst>
              <a:path w="1488" h="483">
                <a:moveTo>
                  <a:pt x="0" y="483"/>
                </a:moveTo>
                <a:lnTo>
                  <a:pt x="1488" y="0"/>
                </a:lnTo>
              </a:path>
            </a:pathLst>
          </a:custGeom>
          <a:noFill/>
          <a:ln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Oval 42"/>
          <p:cNvSpPr/>
          <p:nvPr/>
        </p:nvSpPr>
        <p:spPr>
          <a:xfrm>
            <a:off x="533520" y="251460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Oval 43"/>
          <p:cNvSpPr/>
          <p:nvPr/>
        </p:nvSpPr>
        <p:spPr>
          <a:xfrm>
            <a:off x="2895480" y="17524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Oval 44"/>
          <p:cNvSpPr/>
          <p:nvPr/>
        </p:nvSpPr>
        <p:spPr>
          <a:xfrm>
            <a:off x="2286000" y="36576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Freeform 45"/>
          <p:cNvSpPr/>
          <p:nvPr/>
        </p:nvSpPr>
        <p:spPr>
          <a:xfrm>
            <a:off x="1795320" y="1828800"/>
            <a:ext cx="1100160" cy="3747960"/>
          </a:xfrm>
          <a:custGeom>
            <a:avLst/>
            <a:gdLst>
              <a:gd name="textAreaLeft" fmla="*/ 0 w 1100160"/>
              <a:gd name="textAreaRight" fmla="*/ 1100520 w 1100160"/>
              <a:gd name="textAreaTop" fmla="*/ 0 h 3747960"/>
              <a:gd name="textAreaBottom" fmla="*/ 3748320 h 3747960"/>
            </a:gdLst>
            <a:ahLst/>
            <a:rect l="textAreaLeft" t="textAreaTop" r="textAreaRight" b="textAreaBottom"/>
            <a:pathLst>
              <a:path w="693" h="2361">
                <a:moveTo>
                  <a:pt x="693" y="0"/>
                </a:moveTo>
                <a:lnTo>
                  <a:pt x="0" y="2361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Freeform 46"/>
          <p:cNvSpPr/>
          <p:nvPr/>
        </p:nvSpPr>
        <p:spPr>
          <a:xfrm>
            <a:off x="533520" y="2590920"/>
            <a:ext cx="3695760" cy="2238120"/>
          </a:xfrm>
          <a:custGeom>
            <a:avLst/>
            <a:gdLst>
              <a:gd name="textAreaLeft" fmla="*/ 0 w 3695760"/>
              <a:gd name="textAreaRight" fmla="*/ 3696120 w 3695760"/>
              <a:gd name="textAreaTop" fmla="*/ 0 h 2238120"/>
              <a:gd name="textAreaBottom" fmla="*/ 2238480 h 2238120"/>
            </a:gdLst>
            <a:ahLst/>
            <a:rect l="textAreaLeft" t="textAreaTop" r="textAreaRight" b="textAreaBottom"/>
            <a:pathLst>
              <a:path w="2328" h="1410">
                <a:moveTo>
                  <a:pt x="0" y="0"/>
                </a:moveTo>
                <a:lnTo>
                  <a:pt x="2328" y="141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Oval 48"/>
          <p:cNvSpPr/>
          <p:nvPr/>
        </p:nvSpPr>
        <p:spPr>
          <a:xfrm>
            <a:off x="4191120" y="480060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Oval 49"/>
          <p:cNvSpPr/>
          <p:nvPr/>
        </p:nvSpPr>
        <p:spPr>
          <a:xfrm>
            <a:off x="1752480" y="55627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Line 50"/>
          <p:cNvSpPr/>
          <p:nvPr/>
        </p:nvSpPr>
        <p:spPr>
          <a:xfrm flipV="1">
            <a:off x="1828800" y="4800240"/>
            <a:ext cx="2438280" cy="762120"/>
          </a:xfrm>
          <a:prstGeom prst="line">
            <a:avLst/>
          </a:prstGeom>
          <a:ln w="349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Line 51"/>
          <p:cNvSpPr/>
          <p:nvPr/>
        </p:nvSpPr>
        <p:spPr>
          <a:xfrm>
            <a:off x="2590920" y="2514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Line 52"/>
          <p:cNvSpPr/>
          <p:nvPr/>
        </p:nvSpPr>
        <p:spPr>
          <a:xfrm>
            <a:off x="1981080" y="45720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Line 53"/>
          <p:cNvSpPr/>
          <p:nvPr/>
        </p:nvSpPr>
        <p:spPr>
          <a:xfrm flipH="1">
            <a:off x="1143000" y="2895480"/>
            <a:ext cx="7632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Line 54"/>
          <p:cNvSpPr/>
          <p:nvPr/>
        </p:nvSpPr>
        <p:spPr>
          <a:xfrm flipH="1">
            <a:off x="1218960" y="2971800"/>
            <a:ext cx="7596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Line 56"/>
          <p:cNvSpPr/>
          <p:nvPr/>
        </p:nvSpPr>
        <p:spPr>
          <a:xfrm flipH="1">
            <a:off x="3047760" y="4038480"/>
            <a:ext cx="7596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Line 57"/>
          <p:cNvSpPr/>
          <p:nvPr/>
        </p:nvSpPr>
        <p:spPr>
          <a:xfrm flipH="1">
            <a:off x="3124080" y="4114800"/>
            <a:ext cx="7632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58"/>
          <p:cNvSpPr/>
          <p:nvPr/>
        </p:nvSpPr>
        <p:spPr>
          <a:xfrm>
            <a:off x="2971800" y="16002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59"/>
          <p:cNvSpPr/>
          <p:nvPr/>
        </p:nvSpPr>
        <p:spPr>
          <a:xfrm>
            <a:off x="1219320" y="541008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60"/>
          <p:cNvSpPr/>
          <p:nvPr/>
        </p:nvSpPr>
        <p:spPr>
          <a:xfrm>
            <a:off x="2438280" y="32767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61"/>
          <p:cNvSpPr/>
          <p:nvPr/>
        </p:nvSpPr>
        <p:spPr>
          <a:xfrm>
            <a:off x="228600" y="22096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62"/>
          <p:cNvSpPr/>
          <p:nvPr/>
        </p:nvSpPr>
        <p:spPr>
          <a:xfrm>
            <a:off x="4191120" y="48006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ectangle 63"/>
          <p:cNvSpPr/>
          <p:nvPr/>
        </p:nvSpPr>
        <p:spPr>
          <a:xfrm>
            <a:off x="5965200" y="2362320"/>
            <a:ext cx="186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. АО = А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64"/>
          <p:cNvSpPr/>
          <p:nvPr/>
        </p:nvSpPr>
        <p:spPr>
          <a:xfrm>
            <a:off x="5791320" y="33526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2. ВО = В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65"/>
          <p:cNvSpPr/>
          <p:nvPr/>
        </p:nvSpPr>
        <p:spPr>
          <a:xfrm>
            <a:off x="5867280" y="4191120"/>
            <a:ext cx="327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3. А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– искомый отрезо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500"/>
                            </p:stCondLst>
                            <p:childTnLst>
                              <p:par>
                                <p:cTn id="2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1500"/>
                            </p:stCondLst>
                            <p:childTnLst>
                              <p:par>
                                <p:cTn id="2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2000"/>
                            </p:stCondLst>
                            <p:childTnLst>
                              <p:par>
                                <p:cTn id="2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0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2500"/>
                            </p:stCondLst>
                            <p:childTnLst>
                              <p:par>
                                <p:cTn id="2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3000"/>
                            </p:stCondLst>
                            <p:childTnLst>
                              <p:par>
                                <p:cTn id="2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8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35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4000"/>
                            </p:stCondLst>
                            <p:childTnLst>
                              <p:par>
                                <p:cTn id="2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6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00"/>
                            </p:stCondLst>
                            <p:childTnLst>
                              <p:par>
                                <p:cTn id="2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0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000"/>
                            </p:stCondLst>
                            <p:childTnLst>
                              <p:par>
                                <p:cTn id="2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5500"/>
                            </p:stCondLst>
                            <p:childTnLst>
                              <p:par>
                                <p:cTn id="2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6000"/>
                            </p:stCondLst>
                            <p:childTnLst>
                              <p:par>
                                <p:cTn id="2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6500"/>
                            </p:stCondLst>
                            <p:childTnLst>
                              <p:par>
                                <p:cTn id="2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7000"/>
                            </p:stCondLst>
                            <p:childTnLst>
                              <p:par>
                                <p:cTn id="2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0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500"/>
                            </p:stCondLst>
                            <p:childTnLst>
                              <p:par>
                                <p:cTn id="2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4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000"/>
                            </p:stCondLst>
                            <p:childTnLst>
                              <p:par>
                                <p:cTn id="2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8500"/>
                            </p:stCondLst>
                            <p:childTnLst>
                              <p:par>
                                <p:cTn id="2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000"/>
                            </p:stCondLst>
                            <p:childTnLst>
                              <p:par>
                                <p:cTn id="2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6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9500"/>
                            </p:stCondLst>
                            <p:childTnLst>
                              <p:par>
                                <p:cTn id="2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10000"/>
                            </p:stCondLst>
                            <p:childTnLst>
                              <p:par>
                                <p:cTn id="2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6" nodeType="after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98" dur="75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11100"/>
                            </p:stCondLst>
                            <p:childTnLst>
                              <p:par>
                                <p:cTn id="300" nodeType="after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02" dur="75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07" dur="75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2"/>
          <p:cNvSpPr/>
          <p:nvPr/>
        </p:nvSpPr>
        <p:spPr>
          <a:xfrm>
            <a:off x="533520" y="228600"/>
            <a:ext cx="8243640" cy="13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Verdana"/>
              </a:rPr>
              <a:t>Построение треугольника, симметричного данному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50"/>
          <p:cNvSpPr/>
          <p:nvPr/>
        </p:nvSpPr>
        <p:spPr>
          <a:xfrm>
            <a:off x="6372360" y="6093000"/>
            <a:ext cx="180000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3300"/>
                </a:solidFill>
                <a:latin typeface="Verdana"/>
              </a:rPr>
              <a:t>Определен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AutoShape 51"/>
          <p:cNvSpPr/>
          <p:nvPr/>
        </p:nvSpPr>
        <p:spPr>
          <a:xfrm>
            <a:off x="8388360" y="6093000"/>
            <a:ext cx="431640" cy="360360"/>
          </a:xfrm>
          <a:custGeom>
            <a:avLst/>
            <a:gdLst>
              <a:gd name="textAreaLeft" fmla="*/ 23040 w 431640"/>
              <a:gd name="textAreaRight" fmla="*/ 408600 w 431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68" h="21600">
                <a:moveTo>
                  <a:pt x="0" y="0"/>
                </a:moveTo>
                <a:lnTo>
                  <a:pt x="25868" y="0"/>
                </a:lnTo>
                <a:lnTo>
                  <a:pt x="25868" y="21600"/>
                </a:lnTo>
                <a:lnTo>
                  <a:pt x="0" y="21600"/>
                </a:lnTo>
                <a:close/>
              </a:path>
              <a:path fill="lightenLess" w="25868" h="21600">
                <a:moveTo>
                  <a:pt x="0" y="0"/>
                </a:moveTo>
                <a:lnTo>
                  <a:pt x="25868" y="0"/>
                </a:lnTo>
                <a:lnTo>
                  <a:pt x="24468" y="1400"/>
                </a:lnTo>
                <a:lnTo>
                  <a:pt x="1400" y="1400"/>
                </a:lnTo>
                <a:close/>
              </a:path>
              <a:path fill="darken" w="25868" h="21600">
                <a:moveTo>
                  <a:pt x="25868" y="0"/>
                </a:moveTo>
                <a:lnTo>
                  <a:pt x="25868" y="21600"/>
                </a:lnTo>
                <a:lnTo>
                  <a:pt x="24468" y="20200"/>
                </a:lnTo>
                <a:lnTo>
                  <a:pt x="24468" y="1400"/>
                </a:lnTo>
                <a:close/>
              </a:path>
              <a:path fill="darkenLess" w="25868" h="21600">
                <a:moveTo>
                  <a:pt x="258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68" y="20200"/>
                </a:lnTo>
                <a:close/>
              </a:path>
              <a:path fill="lighten" w="258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68" h="21600">
                <a:moveTo>
                  <a:pt x="12934" y="3837"/>
                </a:moveTo>
                <a:lnTo>
                  <a:pt x="15510" y="6448"/>
                </a:lnTo>
                <a:lnTo>
                  <a:pt x="15510" y="4707"/>
                </a:lnTo>
                <a:lnTo>
                  <a:pt x="17286" y="4707"/>
                </a:lnTo>
                <a:lnTo>
                  <a:pt x="17286" y="8224"/>
                </a:lnTo>
                <a:lnTo>
                  <a:pt x="19897" y="10800"/>
                </a:lnTo>
                <a:lnTo>
                  <a:pt x="18243" y="10800"/>
                </a:lnTo>
                <a:lnTo>
                  <a:pt x="18243" y="17989"/>
                </a:lnTo>
                <a:lnTo>
                  <a:pt x="7625" y="17989"/>
                </a:lnTo>
                <a:lnTo>
                  <a:pt x="7625" y="10800"/>
                </a:lnTo>
                <a:lnTo>
                  <a:pt x="5971" y="10800"/>
                </a:lnTo>
                <a:close/>
              </a:path>
              <a:path fill="darkenLess" w="25868" h="21600">
                <a:moveTo>
                  <a:pt x="15510" y="6448"/>
                </a:moveTo>
                <a:lnTo>
                  <a:pt x="15510" y="4707"/>
                </a:lnTo>
                <a:lnTo>
                  <a:pt x="17286" y="4707"/>
                </a:lnTo>
                <a:lnTo>
                  <a:pt x="17286" y="8224"/>
                </a:lnTo>
                <a:close/>
              </a:path>
              <a:path fill="darkenLess" w="25868" h="21600">
                <a:moveTo>
                  <a:pt x="12012" y="14299"/>
                </a:moveTo>
                <a:lnTo>
                  <a:pt x="13857" y="14299"/>
                </a:lnTo>
                <a:lnTo>
                  <a:pt x="13857" y="17989"/>
                </a:lnTo>
                <a:lnTo>
                  <a:pt x="18243" y="17989"/>
                </a:lnTo>
                <a:lnTo>
                  <a:pt x="18243" y="10800"/>
                </a:lnTo>
                <a:lnTo>
                  <a:pt x="7625" y="10800"/>
                </a:lnTo>
                <a:lnTo>
                  <a:pt x="7625" y="17989"/>
                </a:lnTo>
                <a:lnTo>
                  <a:pt x="12012" y="1798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AutoShape 52">
            <a:hlinkClick r:id="" action="ppaction://hlinkshowjump?jump=previousslide"/>
          </p:cNvPr>
          <p:cNvSpPr/>
          <p:nvPr/>
        </p:nvSpPr>
        <p:spPr>
          <a:xfrm>
            <a:off x="5724360" y="6095880"/>
            <a:ext cx="447840" cy="357480"/>
          </a:xfrm>
          <a:custGeom>
            <a:avLst/>
            <a:gdLst>
              <a:gd name="textAreaLeft" fmla="*/ 23040 w 447840"/>
              <a:gd name="textAreaRight" fmla="*/ 424800 w 447840"/>
              <a:gd name="textAreaTop" fmla="*/ 23040 h 357480"/>
              <a:gd name="textAreaBottom" fmla="*/ 334440 h 357480"/>
            </a:gdLst>
            <a:ahLst/>
            <a:rect l="textAreaLeft" t="textAreaTop" r="textAreaRight" b="textAreaBottom"/>
            <a:pathLst>
              <a:path w="27054" h="21600">
                <a:moveTo>
                  <a:pt x="0" y="0"/>
                </a:moveTo>
                <a:lnTo>
                  <a:pt x="27054" y="0"/>
                </a:lnTo>
                <a:lnTo>
                  <a:pt x="27054" y="21600"/>
                </a:lnTo>
                <a:lnTo>
                  <a:pt x="0" y="21600"/>
                </a:lnTo>
                <a:close/>
              </a:path>
              <a:path fill="lightenLess" w="27054" h="21600">
                <a:moveTo>
                  <a:pt x="0" y="0"/>
                </a:moveTo>
                <a:lnTo>
                  <a:pt x="27054" y="0"/>
                </a:lnTo>
                <a:lnTo>
                  <a:pt x="25654" y="1400"/>
                </a:lnTo>
                <a:lnTo>
                  <a:pt x="1400" y="1400"/>
                </a:lnTo>
                <a:close/>
              </a:path>
              <a:path fill="darken" w="27054" h="21600">
                <a:moveTo>
                  <a:pt x="27054" y="0"/>
                </a:moveTo>
                <a:lnTo>
                  <a:pt x="27054" y="21600"/>
                </a:lnTo>
                <a:lnTo>
                  <a:pt x="25654" y="20200"/>
                </a:lnTo>
                <a:lnTo>
                  <a:pt x="25654" y="1400"/>
                </a:lnTo>
                <a:close/>
              </a:path>
              <a:path fill="darkenLess" w="27054" h="21600">
                <a:moveTo>
                  <a:pt x="270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54" y="20200"/>
                </a:lnTo>
                <a:close/>
              </a:path>
              <a:path fill="lighten" w="270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54" h="21600">
                <a:moveTo>
                  <a:pt x="6521" y="7493"/>
                </a:moveTo>
                <a:lnTo>
                  <a:pt x="10028" y="7493"/>
                </a:lnTo>
                <a:lnTo>
                  <a:pt x="10028" y="12828"/>
                </a:lnTo>
                <a:cubicBezTo>
                  <a:pt x="10028" y="13751"/>
                  <a:pt x="10829" y="14482"/>
                  <a:pt x="11865" y="14482"/>
                </a:cubicBezTo>
                <a:lnTo>
                  <a:pt x="13527" y="14482"/>
                </a:lnTo>
                <a:cubicBezTo>
                  <a:pt x="14563" y="14482"/>
                  <a:pt x="15364" y="13751"/>
                  <a:pt x="15364" y="12828"/>
                </a:cubicBezTo>
                <a:lnTo>
                  <a:pt x="15364" y="7493"/>
                </a:lnTo>
                <a:lnTo>
                  <a:pt x="13527" y="7493"/>
                </a:lnTo>
                <a:lnTo>
                  <a:pt x="17035" y="3985"/>
                </a:lnTo>
                <a:lnTo>
                  <a:pt x="20708" y="7493"/>
                </a:lnTo>
                <a:lnTo>
                  <a:pt x="18871" y="7493"/>
                </a:lnTo>
                <a:lnTo>
                  <a:pt x="18871" y="12828"/>
                </a:lnTo>
                <a:cubicBezTo>
                  <a:pt x="18871" y="15596"/>
                  <a:pt x="16295" y="18155"/>
                  <a:pt x="13527" y="18155"/>
                </a:cubicBezTo>
                <a:lnTo>
                  <a:pt x="11865" y="18155"/>
                </a:lnTo>
                <a:cubicBezTo>
                  <a:pt x="9097" y="18155"/>
                  <a:pt x="6521" y="15596"/>
                  <a:pt x="6521" y="12828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AutoShape 69"/>
          <p:cNvSpPr/>
          <p:nvPr/>
        </p:nvSpPr>
        <p:spPr>
          <a:xfrm rot="5483400">
            <a:off x="609120" y="1752480"/>
            <a:ext cx="1295280" cy="1676520"/>
          </a:xfrm>
          <a:prstGeom prst="rtTriangl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AutoShape 70"/>
          <p:cNvSpPr/>
          <p:nvPr/>
        </p:nvSpPr>
        <p:spPr>
          <a:xfrm rot="16138800">
            <a:off x="1980720" y="4571280"/>
            <a:ext cx="1295640" cy="1676520"/>
          </a:xfrm>
          <a:prstGeom prst="rtTriangl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Freeform 71"/>
          <p:cNvSpPr/>
          <p:nvPr/>
        </p:nvSpPr>
        <p:spPr>
          <a:xfrm>
            <a:off x="1803240" y="1981080"/>
            <a:ext cx="292320" cy="4083120"/>
          </a:xfrm>
          <a:custGeom>
            <a:avLst/>
            <a:gdLst>
              <a:gd name="textAreaLeft" fmla="*/ 0 w 292320"/>
              <a:gd name="textAreaRight" fmla="*/ 292680 w 292320"/>
              <a:gd name="textAreaTop" fmla="*/ 0 h 4083120"/>
              <a:gd name="textAreaBottom" fmla="*/ 4083480 h 4083120"/>
            </a:gdLst>
            <a:ahLst/>
            <a:rect l="textAreaLeft" t="textAreaTop" r="textAreaRight" b="textAreaBottom"/>
            <a:pathLst>
              <a:path w="184" h="2572">
                <a:moveTo>
                  <a:pt x="184" y="0"/>
                </a:moveTo>
                <a:lnTo>
                  <a:pt x="0" y="257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reeform 72"/>
          <p:cNvSpPr/>
          <p:nvPr/>
        </p:nvSpPr>
        <p:spPr>
          <a:xfrm>
            <a:off x="409680" y="3219480"/>
            <a:ext cx="3047760" cy="1542960"/>
          </a:xfrm>
          <a:custGeom>
            <a:avLst/>
            <a:gdLst>
              <a:gd name="textAreaLeft" fmla="*/ 0 w 3047760"/>
              <a:gd name="textAreaRight" fmla="*/ 3048120 w 3047760"/>
              <a:gd name="textAreaTop" fmla="*/ 0 h 1542960"/>
              <a:gd name="textAreaBottom" fmla="*/ 1543320 h 1542960"/>
            </a:gdLst>
            <a:ahLst/>
            <a:rect l="textAreaLeft" t="textAreaTop" r="textAreaRight" b="textAreaBottom"/>
            <a:pathLst>
              <a:path w="1920" h="972">
                <a:moveTo>
                  <a:pt x="0" y="0"/>
                </a:moveTo>
                <a:lnTo>
                  <a:pt x="1920" y="97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Freeform 73"/>
          <p:cNvSpPr/>
          <p:nvPr/>
        </p:nvSpPr>
        <p:spPr>
          <a:xfrm>
            <a:off x="431640" y="1917720"/>
            <a:ext cx="3035520" cy="4121280"/>
          </a:xfrm>
          <a:custGeom>
            <a:avLst/>
            <a:gdLst>
              <a:gd name="textAreaLeft" fmla="*/ 0 w 3035520"/>
              <a:gd name="textAreaRight" fmla="*/ 3035880 w 3035520"/>
              <a:gd name="textAreaTop" fmla="*/ 0 h 4121280"/>
              <a:gd name="textAreaBottom" fmla="*/ 4121640 h 4121280"/>
            </a:gdLst>
            <a:ahLst/>
            <a:rect l="textAreaLeft" t="textAreaTop" r="textAreaRight" b="textAreaBottom"/>
            <a:pathLst>
              <a:path w="1912" h="2596">
                <a:moveTo>
                  <a:pt x="0" y="0"/>
                </a:moveTo>
                <a:lnTo>
                  <a:pt x="1912" y="2596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Object 74"/>
              <p:cNvSpPr txBox="1"/>
              <p:nvPr/>
            </p:nvSpPr>
            <p:spPr>
              <a:xfrm>
                <a:off x="1835280" y="3892680"/>
                <a:ext cx="222120" cy="22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94" name="Text Box 75"/>
          <p:cNvSpPr/>
          <p:nvPr/>
        </p:nvSpPr>
        <p:spPr>
          <a:xfrm>
            <a:off x="2057400" y="36576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76"/>
          <p:cNvSpPr/>
          <p:nvPr/>
        </p:nvSpPr>
        <p:spPr>
          <a:xfrm>
            <a:off x="2209680" y="18288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77"/>
          <p:cNvSpPr/>
          <p:nvPr/>
        </p:nvSpPr>
        <p:spPr>
          <a:xfrm>
            <a:off x="1295280" y="5943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78"/>
          <p:cNvSpPr/>
          <p:nvPr/>
        </p:nvSpPr>
        <p:spPr>
          <a:xfrm>
            <a:off x="0" y="18288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 Box 79"/>
          <p:cNvSpPr/>
          <p:nvPr/>
        </p:nvSpPr>
        <p:spPr>
          <a:xfrm>
            <a:off x="3581280" y="58672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1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80"/>
          <p:cNvSpPr/>
          <p:nvPr/>
        </p:nvSpPr>
        <p:spPr>
          <a:xfrm>
            <a:off x="22860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81"/>
          <p:cNvSpPr/>
          <p:nvPr/>
        </p:nvSpPr>
        <p:spPr>
          <a:xfrm>
            <a:off x="3200400" y="41911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Line 82"/>
          <p:cNvSpPr/>
          <p:nvPr/>
        </p:nvSpPr>
        <p:spPr>
          <a:xfrm>
            <a:off x="1981080" y="289548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Line 83"/>
          <p:cNvSpPr/>
          <p:nvPr/>
        </p:nvSpPr>
        <p:spPr>
          <a:xfrm>
            <a:off x="1828800" y="49528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Line 86"/>
          <p:cNvSpPr/>
          <p:nvPr/>
        </p:nvSpPr>
        <p:spPr>
          <a:xfrm flipH="1">
            <a:off x="2590560" y="4952880"/>
            <a:ext cx="22860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Line 87"/>
          <p:cNvSpPr/>
          <p:nvPr/>
        </p:nvSpPr>
        <p:spPr>
          <a:xfrm flipH="1">
            <a:off x="2666520" y="502920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Line 88"/>
          <p:cNvSpPr/>
          <p:nvPr/>
        </p:nvSpPr>
        <p:spPr>
          <a:xfrm flipH="1">
            <a:off x="1142640" y="2895480"/>
            <a:ext cx="22860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Line 89"/>
          <p:cNvSpPr/>
          <p:nvPr/>
        </p:nvSpPr>
        <p:spPr>
          <a:xfrm flipH="1">
            <a:off x="1066320" y="281952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Line 91"/>
          <p:cNvSpPr/>
          <p:nvPr/>
        </p:nvSpPr>
        <p:spPr>
          <a:xfrm flipH="1">
            <a:off x="2666520" y="434340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Line 92"/>
          <p:cNvSpPr/>
          <p:nvPr/>
        </p:nvSpPr>
        <p:spPr>
          <a:xfrm flipH="1">
            <a:off x="2590560" y="4267080"/>
            <a:ext cx="22860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Line 93"/>
          <p:cNvSpPr/>
          <p:nvPr/>
        </p:nvSpPr>
        <p:spPr>
          <a:xfrm flipH="1">
            <a:off x="2742840" y="441972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Line 94"/>
          <p:cNvSpPr/>
          <p:nvPr/>
        </p:nvSpPr>
        <p:spPr>
          <a:xfrm flipH="1">
            <a:off x="1142640" y="3581280"/>
            <a:ext cx="22860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Line 95"/>
          <p:cNvSpPr/>
          <p:nvPr/>
        </p:nvSpPr>
        <p:spPr>
          <a:xfrm flipH="1">
            <a:off x="1066320" y="350532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Line 96"/>
          <p:cNvSpPr/>
          <p:nvPr/>
        </p:nvSpPr>
        <p:spPr>
          <a:xfrm flipH="1">
            <a:off x="1218960" y="365760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Rectangle 97"/>
          <p:cNvSpPr/>
          <p:nvPr/>
        </p:nvSpPr>
        <p:spPr>
          <a:xfrm>
            <a:off x="5745240" y="2819520"/>
            <a:ext cx="189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2. ВО = В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1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Rectangle 98"/>
          <p:cNvSpPr/>
          <p:nvPr/>
        </p:nvSpPr>
        <p:spPr>
          <a:xfrm>
            <a:off x="5736600" y="2057400"/>
            <a:ext cx="186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. АО = А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99"/>
          <p:cNvSpPr/>
          <p:nvPr/>
        </p:nvSpPr>
        <p:spPr>
          <a:xfrm>
            <a:off x="5737320" y="365760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3. СО = С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 Box 100"/>
          <p:cNvSpPr/>
          <p:nvPr/>
        </p:nvSpPr>
        <p:spPr>
          <a:xfrm>
            <a:off x="5638680" y="4419720"/>
            <a:ext cx="3505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4.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А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С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искомый треугольни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0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14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500"/>
                            </p:stCondLst>
                            <p:childTnLst>
                              <p:par>
                                <p:cTn id="3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000"/>
                            </p:stCondLst>
                            <p:childTnLst>
                              <p:par>
                                <p:cTn id="3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1500"/>
                            </p:stCondLst>
                            <p:childTnLst>
                              <p:par>
                                <p:cTn id="3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2000"/>
                            </p:stCondLst>
                            <p:childTnLst>
                              <p:par>
                                <p:cTn id="3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2500"/>
                            </p:stCondLst>
                            <p:childTnLst>
                              <p:par>
                                <p:cTn id="3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3000"/>
                            </p:stCondLst>
                            <p:childTnLst>
                              <p:par>
                                <p:cTn id="3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35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4000"/>
                            </p:stCondLst>
                            <p:childTnLst>
                              <p:par>
                                <p:cTn id="3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4500"/>
                            </p:stCondLst>
                            <p:childTnLst>
                              <p:par>
                                <p:cTn id="3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000"/>
                            </p:stCondLst>
                            <p:childTnLst>
                              <p:par>
                                <p:cTn id="3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5500"/>
                            </p:stCondLst>
                            <p:childTnLst>
                              <p:par>
                                <p:cTn id="346" nodeType="after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8" dur="75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6100"/>
                            </p:stCondLst>
                            <p:childTnLst>
                              <p:par>
                                <p:cTn id="3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6600"/>
                            </p:stCondLst>
                            <p:childTnLst>
                              <p:par>
                                <p:cTn id="3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7100"/>
                            </p:stCondLst>
                            <p:childTnLst>
                              <p:par>
                                <p:cTn id="3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7600"/>
                            </p:stCondLst>
                            <p:childTnLst>
                              <p:par>
                                <p:cTn id="3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8100"/>
                            </p:stCondLst>
                            <p:childTnLst>
                              <p:par>
                                <p:cTn id="3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8600"/>
                            </p:stCondLst>
                            <p:childTnLst>
                              <p:par>
                                <p:cTn id="3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9100"/>
                            </p:stCondLst>
                            <p:childTnLst>
                              <p:par>
                                <p:cTn id="368" nodeType="after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70" dur="75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9700"/>
                            </p:stCondLst>
                            <p:childTnLst>
                              <p:par>
                                <p:cTn id="3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10200"/>
                            </p:stCondLst>
                            <p:childTnLst>
                              <p:par>
                                <p:cTn id="3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10700"/>
                            </p:stCondLst>
                            <p:childTnLst>
                              <p:par>
                                <p:cTn id="3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11200"/>
                            </p:stCondLst>
                            <p:childTnLst>
                              <p:par>
                                <p:cTn id="3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11700"/>
                            </p:stCondLst>
                            <p:childTnLst>
                              <p:par>
                                <p:cTn id="3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12200"/>
                            </p:stCondLst>
                            <p:childTnLst>
                              <p:par>
                                <p:cTn id="3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12700"/>
                            </p:stCondLst>
                            <p:childTnLst>
                              <p:par>
                                <p:cTn id="3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13200"/>
                            </p:stCondLst>
                            <p:childTnLst>
                              <p:par>
                                <p:cTn id="3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13700"/>
                            </p:stCondLst>
                            <p:childTnLst>
                              <p:par>
                                <p:cTn id="396" nodeType="after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98" dur="75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14300"/>
                            </p:stCondLst>
                            <p:childTnLst>
                              <p:par>
                                <p:cTn id="4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6" dur="75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2"/>
          <p:cNvSpPr/>
          <p:nvPr/>
        </p:nvSpPr>
        <p:spPr>
          <a:xfrm>
            <a:off x="468360" y="0"/>
            <a:ext cx="82440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Заключени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Rectangle 3"/>
          <p:cNvSpPr/>
          <p:nvPr/>
        </p:nvSpPr>
        <p:spPr>
          <a:xfrm>
            <a:off x="304920" y="838080"/>
            <a:ext cx="477036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имметрию можно обнаружить почти везде, если знать, как ее искать. Многие народы с древнейших времен владели представлением о симметрии в широком смысле – как об уравновешенности и гармонии. Творчество людей во всех своих проявлениях тяготеет к симметрии. Посредством симметрии человек всегда пытался, по словам немецкого математика Германа Вейля, «постичь и создать порядок, красоту и совершенство»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AutoShape 4">
            <a:hlinkClick r:id="" action="ppaction://hlinkshowjump?jump=endshow"/>
          </p:cNvPr>
          <p:cNvSpPr/>
          <p:nvPr/>
        </p:nvSpPr>
        <p:spPr>
          <a:xfrm>
            <a:off x="8317080" y="6248520"/>
            <a:ext cx="522000" cy="349200"/>
          </a:xfrm>
          <a:custGeom>
            <a:avLst/>
            <a:gdLst>
              <a:gd name="textAreaLeft" fmla="*/ 22320 w 522000"/>
              <a:gd name="textAreaRight" fmla="*/ 499680 w 522000"/>
              <a:gd name="textAreaTop" fmla="*/ 22320 h 349200"/>
              <a:gd name="textAreaBottom" fmla="*/ 326880 h 349200"/>
            </a:gdLst>
            <a:ahLst/>
            <a:rect l="textAreaLeft" t="textAreaTop" r="textAreaRight" b="textAreaBottom"/>
            <a:pathLst>
              <a:path w="32278" h="21600">
                <a:moveTo>
                  <a:pt x="0" y="0"/>
                </a:moveTo>
                <a:lnTo>
                  <a:pt x="32278" y="0"/>
                </a:lnTo>
                <a:lnTo>
                  <a:pt x="32278" y="21600"/>
                </a:lnTo>
                <a:lnTo>
                  <a:pt x="0" y="21600"/>
                </a:lnTo>
                <a:close/>
              </a:path>
              <a:path fill="lightenLess" w="32278" h="21600">
                <a:moveTo>
                  <a:pt x="0" y="0"/>
                </a:moveTo>
                <a:lnTo>
                  <a:pt x="32278" y="0"/>
                </a:lnTo>
                <a:lnTo>
                  <a:pt x="30878" y="1400"/>
                </a:lnTo>
                <a:lnTo>
                  <a:pt x="1400" y="1400"/>
                </a:lnTo>
                <a:close/>
              </a:path>
              <a:path fill="darken" w="32278" h="21600">
                <a:moveTo>
                  <a:pt x="32278" y="0"/>
                </a:moveTo>
                <a:lnTo>
                  <a:pt x="32278" y="21600"/>
                </a:lnTo>
                <a:lnTo>
                  <a:pt x="30878" y="20200"/>
                </a:lnTo>
                <a:lnTo>
                  <a:pt x="30878" y="1400"/>
                </a:lnTo>
                <a:close/>
              </a:path>
              <a:path fill="darkenLess" w="32278" h="21600">
                <a:moveTo>
                  <a:pt x="322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878" y="20200"/>
                </a:lnTo>
                <a:close/>
              </a:path>
              <a:path fill="lighten" w="322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278" h="21600">
                <a:moveTo>
                  <a:pt x="19638" y="10800"/>
                </a:moveTo>
                <a:lnTo>
                  <a:pt x="9132" y="17806"/>
                </a:lnTo>
                <a:lnTo>
                  <a:pt x="9132" y="3794"/>
                </a:lnTo>
                <a:close/>
              </a:path>
              <a:path fill="darken" w="32278" h="21600">
                <a:moveTo>
                  <a:pt x="21483" y="3794"/>
                </a:moveTo>
                <a:lnTo>
                  <a:pt x="21483" y="17806"/>
                </a:lnTo>
                <a:lnTo>
                  <a:pt x="23145" y="17806"/>
                </a:lnTo>
                <a:lnTo>
                  <a:pt x="23145" y="3794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0" name="Object 5"/>
          <p:cNvGraphicFramePr/>
          <p:nvPr/>
        </p:nvGraphicFramePr>
        <p:xfrm>
          <a:off x="5435640" y="1413000"/>
          <a:ext cx="3433680" cy="369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1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435640" y="1413000"/>
                    <a:ext cx="3433680" cy="369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2"/>
          <p:cNvSpPr/>
          <p:nvPr/>
        </p:nvSpPr>
        <p:spPr>
          <a:xfrm>
            <a:off x="1676520" y="457200"/>
            <a:ext cx="6400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37"/>
          <p:cNvSpPr/>
          <p:nvPr/>
        </p:nvSpPr>
        <p:spPr>
          <a:xfrm>
            <a:off x="7391520" y="502920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38"/>
          <p:cNvSpPr/>
          <p:nvPr/>
        </p:nvSpPr>
        <p:spPr>
          <a:xfrm>
            <a:off x="4572000" y="485784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49"/>
          <p:cNvSpPr/>
          <p:nvPr/>
        </p:nvSpPr>
        <p:spPr>
          <a:xfrm>
            <a:off x="5867280" y="58672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AutoShape 53">
            <a:hlinkClick r:id="rId2" action="ppaction://hlinksldjump"/>
          </p:cNvPr>
          <p:cNvSpPr/>
          <p:nvPr/>
        </p:nvSpPr>
        <p:spPr>
          <a:xfrm>
            <a:off x="7543800" y="6019920"/>
            <a:ext cx="1371600" cy="533160"/>
          </a:xfrm>
          <a:custGeom>
            <a:avLst/>
            <a:gdLst>
              <a:gd name="textAreaLeft" fmla="*/ 34560 w 1371600"/>
              <a:gd name="textAreaRight" fmla="*/ 1337040 w 137160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55545" h="21600">
                <a:moveTo>
                  <a:pt x="0" y="0"/>
                </a:moveTo>
                <a:lnTo>
                  <a:pt x="55545" y="0"/>
                </a:lnTo>
                <a:lnTo>
                  <a:pt x="55545" y="21600"/>
                </a:lnTo>
                <a:lnTo>
                  <a:pt x="0" y="21600"/>
                </a:lnTo>
                <a:close/>
              </a:path>
              <a:path fill="lightenLess" w="55545" h="21600">
                <a:moveTo>
                  <a:pt x="0" y="0"/>
                </a:moveTo>
                <a:lnTo>
                  <a:pt x="55545" y="0"/>
                </a:lnTo>
                <a:lnTo>
                  <a:pt x="54145" y="1400"/>
                </a:lnTo>
                <a:lnTo>
                  <a:pt x="1400" y="1400"/>
                </a:lnTo>
                <a:close/>
              </a:path>
              <a:path fill="darken" w="55545" h="21600">
                <a:moveTo>
                  <a:pt x="55545" y="0"/>
                </a:moveTo>
                <a:lnTo>
                  <a:pt x="55545" y="21600"/>
                </a:lnTo>
                <a:lnTo>
                  <a:pt x="54145" y="20200"/>
                </a:lnTo>
                <a:lnTo>
                  <a:pt x="54145" y="1400"/>
                </a:lnTo>
                <a:close/>
              </a:path>
              <a:path fill="darkenLess" w="55545" h="21600">
                <a:moveTo>
                  <a:pt x="555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45" y="20200"/>
                </a:lnTo>
                <a:close/>
              </a:path>
              <a:path fill="lighten" w="555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ccccff"/>
                </a:solidFill>
                <a:uFillTx/>
                <a:latin typeface="Verdana"/>
                <a:hlinkClick r:id="rId3" action="ppaction://hlinksldjump"/>
              </a:rPr>
              <a:t>наза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54">
            <a:hlinkClick r:id="" action="ppaction://hlinkshowjump?jump=previousslide"/>
          </p:cNvPr>
          <p:cNvSpPr/>
          <p:nvPr/>
        </p:nvSpPr>
        <p:spPr>
          <a:xfrm>
            <a:off x="8305920" y="5410080"/>
            <a:ext cx="609480" cy="381240"/>
          </a:xfrm>
          <a:custGeom>
            <a:avLst/>
            <a:gdLst>
              <a:gd name="textAreaLeft" fmla="*/ 24480 w 609480"/>
              <a:gd name="textAreaRight" fmla="*/ 585000 w 6094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34519" h="21600">
                <a:moveTo>
                  <a:pt x="0" y="0"/>
                </a:moveTo>
                <a:lnTo>
                  <a:pt x="34519" y="0"/>
                </a:lnTo>
                <a:lnTo>
                  <a:pt x="34519" y="21600"/>
                </a:lnTo>
                <a:lnTo>
                  <a:pt x="0" y="21600"/>
                </a:lnTo>
                <a:close/>
              </a:path>
              <a:path fill="lightenLess" w="34519" h="21600">
                <a:moveTo>
                  <a:pt x="0" y="0"/>
                </a:moveTo>
                <a:lnTo>
                  <a:pt x="34519" y="0"/>
                </a:lnTo>
                <a:lnTo>
                  <a:pt x="33119" y="1400"/>
                </a:lnTo>
                <a:lnTo>
                  <a:pt x="1400" y="1400"/>
                </a:lnTo>
                <a:close/>
              </a:path>
              <a:path fill="darken" w="34519" h="21600">
                <a:moveTo>
                  <a:pt x="34519" y="0"/>
                </a:moveTo>
                <a:lnTo>
                  <a:pt x="34519" y="21600"/>
                </a:lnTo>
                <a:lnTo>
                  <a:pt x="33119" y="20200"/>
                </a:lnTo>
                <a:lnTo>
                  <a:pt x="33119" y="1400"/>
                </a:lnTo>
                <a:close/>
              </a:path>
              <a:path fill="darkenLess" w="34519" h="21600">
                <a:moveTo>
                  <a:pt x="345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19" y="20200"/>
                </a:lnTo>
                <a:close/>
              </a:path>
              <a:path fill="lighten" w="345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19" h="21600">
                <a:moveTo>
                  <a:pt x="10253" y="7493"/>
                </a:moveTo>
                <a:lnTo>
                  <a:pt x="13761" y="7493"/>
                </a:lnTo>
                <a:lnTo>
                  <a:pt x="13761" y="12828"/>
                </a:lnTo>
                <a:cubicBezTo>
                  <a:pt x="13761" y="13751"/>
                  <a:pt x="14561" y="14482"/>
                  <a:pt x="15597" y="14482"/>
                </a:cubicBezTo>
                <a:lnTo>
                  <a:pt x="17260" y="14482"/>
                </a:lnTo>
                <a:cubicBezTo>
                  <a:pt x="18295" y="14482"/>
                  <a:pt x="19096" y="13751"/>
                  <a:pt x="19096" y="12828"/>
                </a:cubicBezTo>
                <a:lnTo>
                  <a:pt x="19096" y="7493"/>
                </a:lnTo>
                <a:lnTo>
                  <a:pt x="17260" y="7493"/>
                </a:lnTo>
                <a:lnTo>
                  <a:pt x="20767" y="3985"/>
                </a:lnTo>
                <a:lnTo>
                  <a:pt x="24440" y="7493"/>
                </a:lnTo>
                <a:lnTo>
                  <a:pt x="22604" y="7493"/>
                </a:lnTo>
                <a:lnTo>
                  <a:pt x="22604" y="12828"/>
                </a:lnTo>
                <a:cubicBezTo>
                  <a:pt x="22604" y="15596"/>
                  <a:pt x="20027" y="18155"/>
                  <a:pt x="17260" y="18155"/>
                </a:cubicBezTo>
                <a:lnTo>
                  <a:pt x="15597" y="18155"/>
                </a:lnTo>
                <a:cubicBezTo>
                  <a:pt x="12829" y="18155"/>
                  <a:pt x="10253" y="15596"/>
                  <a:pt x="10253" y="12828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Прямоугольник 42"/>
          <p:cNvSpPr/>
          <p:nvPr/>
        </p:nvSpPr>
        <p:spPr>
          <a:xfrm>
            <a:off x="2237760" y="500040"/>
            <a:ext cx="449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История Симметри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Прямоугольник 43"/>
          <p:cNvSpPr/>
          <p:nvPr/>
        </p:nvSpPr>
        <p:spPr>
          <a:xfrm>
            <a:off x="857160" y="1285920"/>
            <a:ext cx="735804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Ещё древние греки считали, что симметрия – это гармония, соразмерность. Они же и ввели термин, который сейчас перешёл в русское слово «симметрия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 у древних народов, таких как шумеры и египтяне, у первобытных племён, да и в наше время симметрия ассоциируется не только с красотой и гармонией, но и прежде всего с магией. Не зря же люди в эпоху мегалита для ритуальных целей сооружали кромлехи в форме круга – «идеально симметричной» геометрической фигуры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Verdana"/>
              </a:rPr>
              <a:t>Центральная симметр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114440" y="1752120"/>
            <a:ext cx="4800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Точки 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М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и 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М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называются симметричными относительно точки 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А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, если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A – 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середина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 MM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A – </a:t>
            </a: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центр  симметри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ine 5"/>
          <p:cNvSpPr/>
          <p:nvPr/>
        </p:nvSpPr>
        <p:spPr>
          <a:xfrm>
            <a:off x="685800" y="2209680"/>
            <a:ext cx="2895480" cy="190512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Object 6"/>
              <p:cNvSpPr txBox="1"/>
              <p:nvPr/>
            </p:nvSpPr>
            <p:spPr>
              <a:xfrm>
                <a:off x="609480" y="2133720"/>
                <a:ext cx="22860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" name="Object 7"/>
              <p:cNvSpPr txBox="1"/>
              <p:nvPr/>
            </p:nvSpPr>
            <p:spPr>
              <a:xfrm>
                <a:off x="3505320" y="4038480"/>
                <a:ext cx="22860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57" name="Line 8"/>
          <p:cNvSpPr/>
          <p:nvPr/>
        </p:nvSpPr>
        <p:spPr>
          <a:xfrm flipH="1">
            <a:off x="1447560" y="2666880"/>
            <a:ext cx="75960" cy="152640"/>
          </a:xfrm>
          <a:prstGeom prst="line">
            <a:avLst/>
          </a:prstGeom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9"/>
          <p:cNvSpPr/>
          <p:nvPr/>
        </p:nvSpPr>
        <p:spPr>
          <a:xfrm flipH="1">
            <a:off x="2819160" y="3581280"/>
            <a:ext cx="75960" cy="152640"/>
          </a:xfrm>
          <a:prstGeom prst="line">
            <a:avLst/>
          </a:prstGeom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10"/>
              <p:cNvSpPr txBox="1"/>
              <p:nvPr/>
            </p:nvSpPr>
            <p:spPr>
              <a:xfrm>
                <a:off x="2057400" y="3048120"/>
                <a:ext cx="22860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60" name="Text Box 11"/>
          <p:cNvSpPr/>
          <p:nvPr/>
        </p:nvSpPr>
        <p:spPr>
          <a:xfrm>
            <a:off x="1981080" y="2666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12"/>
          <p:cNvSpPr/>
          <p:nvPr/>
        </p:nvSpPr>
        <p:spPr>
          <a:xfrm>
            <a:off x="457200" y="17524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13"/>
          <p:cNvSpPr/>
          <p:nvPr/>
        </p:nvSpPr>
        <p:spPr>
          <a:xfrm>
            <a:off x="3200400" y="41911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AutoShape 14">
            <a:hlinkClick r:id="" action="ppaction://hlinkshowjump?jump=nextslide"/>
          </p:cNvPr>
          <p:cNvSpPr/>
          <p:nvPr/>
        </p:nvSpPr>
        <p:spPr>
          <a:xfrm>
            <a:off x="8317080" y="6237360"/>
            <a:ext cx="431640" cy="360360"/>
          </a:xfrm>
          <a:custGeom>
            <a:avLst/>
            <a:gdLst>
              <a:gd name="textAreaLeft" fmla="*/ 23040 w 431640"/>
              <a:gd name="textAreaRight" fmla="*/ 408600 w 431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68" h="21600">
                <a:moveTo>
                  <a:pt x="0" y="0"/>
                </a:moveTo>
                <a:lnTo>
                  <a:pt x="25868" y="0"/>
                </a:lnTo>
                <a:lnTo>
                  <a:pt x="25868" y="21600"/>
                </a:lnTo>
                <a:lnTo>
                  <a:pt x="0" y="21600"/>
                </a:lnTo>
                <a:close/>
              </a:path>
              <a:path fill="lightenLess" w="25868" h="21600">
                <a:moveTo>
                  <a:pt x="0" y="0"/>
                </a:moveTo>
                <a:lnTo>
                  <a:pt x="25868" y="0"/>
                </a:lnTo>
                <a:lnTo>
                  <a:pt x="24468" y="1400"/>
                </a:lnTo>
                <a:lnTo>
                  <a:pt x="1400" y="1400"/>
                </a:lnTo>
                <a:close/>
              </a:path>
              <a:path fill="darken" w="25868" h="21600">
                <a:moveTo>
                  <a:pt x="25868" y="0"/>
                </a:moveTo>
                <a:lnTo>
                  <a:pt x="25868" y="21600"/>
                </a:lnTo>
                <a:lnTo>
                  <a:pt x="24468" y="20200"/>
                </a:lnTo>
                <a:lnTo>
                  <a:pt x="24468" y="1400"/>
                </a:lnTo>
                <a:close/>
              </a:path>
              <a:path fill="darkenLess" w="25868" h="21600">
                <a:moveTo>
                  <a:pt x="258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68" y="20200"/>
                </a:lnTo>
                <a:close/>
              </a:path>
              <a:path fill="lighten" w="258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68" h="21600">
                <a:moveTo>
                  <a:pt x="5928" y="3794"/>
                </a:moveTo>
                <a:lnTo>
                  <a:pt x="19941" y="10800"/>
                </a:lnTo>
                <a:lnTo>
                  <a:pt x="5928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AutoShape 15">
            <a:hlinkClick r:id="" action="ppaction://hlinkshowjump?jump=previousslide"/>
          </p:cNvPr>
          <p:cNvSpPr/>
          <p:nvPr/>
        </p:nvSpPr>
        <p:spPr>
          <a:xfrm>
            <a:off x="7696080" y="6248520"/>
            <a:ext cx="474840" cy="349200"/>
          </a:xfrm>
          <a:custGeom>
            <a:avLst/>
            <a:gdLst>
              <a:gd name="textAreaLeft" fmla="*/ 22320 w 474840"/>
              <a:gd name="textAreaRight" fmla="*/ 452520 w 474840"/>
              <a:gd name="textAreaTop" fmla="*/ 22320 h 349200"/>
              <a:gd name="textAreaBottom" fmla="*/ 326880 h 349200"/>
            </a:gdLst>
            <a:ahLst/>
            <a:rect l="textAreaLeft" t="textAreaTop" r="textAreaRight" b="textAreaBottom"/>
            <a:pathLst>
              <a:path w="29364" h="21600">
                <a:moveTo>
                  <a:pt x="0" y="0"/>
                </a:moveTo>
                <a:lnTo>
                  <a:pt x="29364" y="0"/>
                </a:lnTo>
                <a:lnTo>
                  <a:pt x="29364" y="21600"/>
                </a:lnTo>
                <a:lnTo>
                  <a:pt x="0" y="21600"/>
                </a:lnTo>
                <a:close/>
              </a:path>
              <a:path fill="lightenLess" w="29364" h="21600">
                <a:moveTo>
                  <a:pt x="0" y="0"/>
                </a:moveTo>
                <a:lnTo>
                  <a:pt x="29364" y="0"/>
                </a:lnTo>
                <a:lnTo>
                  <a:pt x="27964" y="1400"/>
                </a:lnTo>
                <a:lnTo>
                  <a:pt x="1400" y="1400"/>
                </a:lnTo>
                <a:close/>
              </a:path>
              <a:path fill="darken" w="29364" h="21600">
                <a:moveTo>
                  <a:pt x="29364" y="0"/>
                </a:moveTo>
                <a:lnTo>
                  <a:pt x="29364" y="21600"/>
                </a:lnTo>
                <a:lnTo>
                  <a:pt x="27964" y="20200"/>
                </a:lnTo>
                <a:lnTo>
                  <a:pt x="27964" y="1400"/>
                </a:lnTo>
                <a:close/>
              </a:path>
              <a:path fill="darkenLess" w="29364" h="21600">
                <a:moveTo>
                  <a:pt x="293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964" y="20200"/>
                </a:lnTo>
                <a:close/>
              </a:path>
              <a:path fill="lighten" w="293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364" h="21600">
                <a:moveTo>
                  <a:pt x="7675" y="7493"/>
                </a:moveTo>
                <a:lnTo>
                  <a:pt x="11183" y="7493"/>
                </a:lnTo>
                <a:lnTo>
                  <a:pt x="11183" y="12828"/>
                </a:lnTo>
                <a:cubicBezTo>
                  <a:pt x="11183" y="13751"/>
                  <a:pt x="11984" y="14482"/>
                  <a:pt x="13019" y="14482"/>
                </a:cubicBezTo>
                <a:lnTo>
                  <a:pt x="14682" y="14482"/>
                </a:lnTo>
                <a:cubicBezTo>
                  <a:pt x="15718" y="14482"/>
                  <a:pt x="16518" y="13751"/>
                  <a:pt x="16518" y="12828"/>
                </a:cubicBezTo>
                <a:lnTo>
                  <a:pt x="16518" y="7493"/>
                </a:lnTo>
                <a:lnTo>
                  <a:pt x="14682" y="7493"/>
                </a:lnTo>
                <a:lnTo>
                  <a:pt x="18189" y="3985"/>
                </a:lnTo>
                <a:lnTo>
                  <a:pt x="21862" y="7493"/>
                </a:lnTo>
                <a:lnTo>
                  <a:pt x="20026" y="7493"/>
                </a:lnTo>
                <a:lnTo>
                  <a:pt x="20026" y="12828"/>
                </a:lnTo>
                <a:cubicBezTo>
                  <a:pt x="20026" y="15596"/>
                  <a:pt x="17450" y="18155"/>
                  <a:pt x="14682" y="18155"/>
                </a:cubicBezTo>
                <a:lnTo>
                  <a:pt x="13019" y="18155"/>
                </a:lnTo>
                <a:cubicBezTo>
                  <a:pt x="10252" y="18155"/>
                  <a:pt x="7675" y="15596"/>
                  <a:pt x="7675" y="12828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500"/>
                            </p:stCondLst>
                            <p:childTnLst>
                              <p:par>
                                <p:cTn id="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2500"/>
                            </p:stCondLst>
                            <p:childTnLst>
                              <p:par>
                                <p:cTn id="2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50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6000"/>
                            </p:stCondLst>
                            <p:childTnLst>
                              <p:par>
                                <p:cTn id="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6500"/>
                            </p:stCondLst>
                            <p:childTnLst>
                              <p:par>
                                <p:cTn id="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7000"/>
                            </p:stCondLst>
                            <p:childTnLst>
                              <p:par>
                                <p:cTn id="4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5" dur="75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2175"/>
                            </p:stCondLst>
                            <p:childTnLst>
                              <p:par>
                                <p:cTn id="4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9" dur="75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304560" y="1218960"/>
            <a:ext cx="41907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Фигура называется симметричной относительно центра симметрии, если для каждой точки фигуры симметричная ей точка также принадлежит этой фигур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7" descr="6"/>
          <p:cNvPicPr/>
          <p:nvPr/>
        </p:nvPicPr>
        <p:blipFill>
          <a:blip r:embed="rId2"/>
          <a:stretch/>
        </p:blipFill>
        <p:spPr>
          <a:xfrm>
            <a:off x="4876920" y="1371600"/>
            <a:ext cx="3889080" cy="3581280"/>
          </a:xfrm>
          <a:prstGeom prst="rect">
            <a:avLst/>
          </a:prstGeom>
          <a:ln w="0">
            <a:noFill/>
          </a:ln>
        </p:spPr>
      </p:pic>
      <p:sp>
        <p:nvSpPr>
          <p:cNvPr id="67" name="Oval 8"/>
          <p:cNvSpPr/>
          <p:nvPr/>
        </p:nvSpPr>
        <p:spPr>
          <a:xfrm>
            <a:off x="5334120" y="3124080"/>
            <a:ext cx="147600" cy="152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9"/>
          <p:cNvSpPr/>
          <p:nvPr/>
        </p:nvSpPr>
        <p:spPr>
          <a:xfrm>
            <a:off x="8229600" y="3124080"/>
            <a:ext cx="147600" cy="152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10"/>
          <p:cNvSpPr/>
          <p:nvPr/>
        </p:nvSpPr>
        <p:spPr>
          <a:xfrm>
            <a:off x="6781680" y="3124080"/>
            <a:ext cx="147600" cy="152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11"/>
          <p:cNvSpPr/>
          <p:nvPr/>
        </p:nvSpPr>
        <p:spPr>
          <a:xfrm>
            <a:off x="5435640" y="3213000"/>
            <a:ext cx="2895480" cy="0"/>
          </a:xfrm>
          <a:prstGeom prst="line">
            <a:avLst/>
          </a:prstGeom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AutoShape 13">
            <a:hlinkClick r:id="" action="ppaction://hlinkshowjump?jump=nextslide"/>
          </p:cNvPr>
          <p:cNvSpPr/>
          <p:nvPr/>
        </p:nvSpPr>
        <p:spPr>
          <a:xfrm>
            <a:off x="8263080" y="6172200"/>
            <a:ext cx="500040" cy="457200"/>
          </a:xfrm>
          <a:custGeom>
            <a:avLst/>
            <a:gdLst>
              <a:gd name="textAreaLeft" fmla="*/ 29520 w 500040"/>
              <a:gd name="textAreaRight" fmla="*/ 470520 w 5000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3622" h="21600">
                <a:moveTo>
                  <a:pt x="0" y="0"/>
                </a:moveTo>
                <a:lnTo>
                  <a:pt x="23622" y="0"/>
                </a:lnTo>
                <a:lnTo>
                  <a:pt x="23622" y="21600"/>
                </a:lnTo>
                <a:lnTo>
                  <a:pt x="0" y="21600"/>
                </a:lnTo>
                <a:close/>
              </a:path>
              <a:path fill="lightenLess" w="23622" h="21600">
                <a:moveTo>
                  <a:pt x="0" y="0"/>
                </a:moveTo>
                <a:lnTo>
                  <a:pt x="23622" y="0"/>
                </a:lnTo>
                <a:lnTo>
                  <a:pt x="22222" y="1400"/>
                </a:lnTo>
                <a:lnTo>
                  <a:pt x="1400" y="1400"/>
                </a:lnTo>
                <a:close/>
              </a:path>
              <a:path fill="darken" w="23622" h="21600">
                <a:moveTo>
                  <a:pt x="23622" y="0"/>
                </a:moveTo>
                <a:lnTo>
                  <a:pt x="23622" y="21600"/>
                </a:lnTo>
                <a:lnTo>
                  <a:pt x="22222" y="20200"/>
                </a:lnTo>
                <a:lnTo>
                  <a:pt x="22222" y="1400"/>
                </a:lnTo>
                <a:close/>
              </a:path>
              <a:path fill="darkenLess" w="23622" h="21600">
                <a:moveTo>
                  <a:pt x="236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222" y="20200"/>
                </a:lnTo>
                <a:close/>
              </a:path>
              <a:path fill="lighten" w="236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622" h="21600">
                <a:moveTo>
                  <a:pt x="4805" y="3794"/>
                </a:moveTo>
                <a:lnTo>
                  <a:pt x="18818" y="10800"/>
                </a:lnTo>
                <a:lnTo>
                  <a:pt x="4805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AutoShape 14">
            <a:hlinkClick r:id="" action="ppaction://hlinkshowjump?jump=previousslide"/>
          </p:cNvPr>
          <p:cNvSpPr/>
          <p:nvPr/>
        </p:nvSpPr>
        <p:spPr>
          <a:xfrm>
            <a:off x="7620120" y="61722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5586" y="7493"/>
                </a:moveTo>
                <a:lnTo>
                  <a:pt x="9094" y="7493"/>
                </a:lnTo>
                <a:lnTo>
                  <a:pt x="9094" y="12828"/>
                </a:lnTo>
                <a:cubicBezTo>
                  <a:pt x="9094" y="13751"/>
                  <a:pt x="9895" y="14482"/>
                  <a:pt x="10931" y="14482"/>
                </a:cubicBezTo>
                <a:lnTo>
                  <a:pt x="12593" y="14482"/>
                </a:lnTo>
                <a:cubicBezTo>
                  <a:pt x="13629" y="14482"/>
                  <a:pt x="14429" y="13751"/>
                  <a:pt x="14429" y="12828"/>
                </a:cubicBezTo>
                <a:lnTo>
                  <a:pt x="14429" y="7493"/>
                </a:lnTo>
                <a:lnTo>
                  <a:pt x="12593" y="7493"/>
                </a:lnTo>
                <a:lnTo>
                  <a:pt x="16101" y="3985"/>
                </a:lnTo>
                <a:lnTo>
                  <a:pt x="19773" y="7493"/>
                </a:lnTo>
                <a:lnTo>
                  <a:pt x="17937" y="7493"/>
                </a:lnTo>
                <a:lnTo>
                  <a:pt x="17937" y="12828"/>
                </a:lnTo>
                <a:cubicBezTo>
                  <a:pt x="17937" y="15596"/>
                  <a:pt x="15361" y="18155"/>
                  <a:pt x="12593" y="18155"/>
                </a:cubicBezTo>
                <a:lnTo>
                  <a:pt x="10931" y="18155"/>
                </a:lnTo>
                <a:cubicBezTo>
                  <a:pt x="8163" y="18155"/>
                  <a:pt x="5586" y="15596"/>
                  <a:pt x="5586" y="12828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6" dur="75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9450"/>
                            </p:stCondLst>
                            <p:childTnLst>
                              <p:par>
                                <p:cTn id="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9950"/>
                            </p:stCondLst>
                            <p:childTnLst>
                              <p:par>
                                <p:cTn id="6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Verdana"/>
              </a:rPr>
              <a:t>Центральная симметр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3"/>
          <p:cNvSpPr/>
          <p:nvPr/>
        </p:nvSpPr>
        <p:spPr>
          <a:xfrm rot="5483400">
            <a:off x="609120" y="1295280"/>
            <a:ext cx="1295280" cy="1676520"/>
          </a:xfrm>
          <a:prstGeom prst="rtTriangl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AutoShape 4"/>
          <p:cNvSpPr/>
          <p:nvPr/>
        </p:nvSpPr>
        <p:spPr>
          <a:xfrm rot="16138800">
            <a:off x="1980720" y="4114080"/>
            <a:ext cx="1295640" cy="1676520"/>
          </a:xfrm>
          <a:prstGeom prst="rtTriangl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Freeform 5"/>
          <p:cNvSpPr/>
          <p:nvPr/>
        </p:nvSpPr>
        <p:spPr>
          <a:xfrm>
            <a:off x="1809720" y="1514520"/>
            <a:ext cx="295200" cy="4091040"/>
          </a:xfrm>
          <a:custGeom>
            <a:avLst/>
            <a:gdLst>
              <a:gd name="textAreaLeft" fmla="*/ 0 w 295200"/>
              <a:gd name="textAreaRight" fmla="*/ 295560 w 295200"/>
              <a:gd name="textAreaTop" fmla="*/ 0 h 4091040"/>
              <a:gd name="textAreaBottom" fmla="*/ 4091400 h 4091040"/>
            </a:gdLst>
            <a:ahLst/>
            <a:rect l="textAreaLeft" t="textAreaTop" r="textAreaRight" b="textAreaBottom"/>
            <a:pathLst>
              <a:path w="186" h="2577">
                <a:moveTo>
                  <a:pt x="186" y="0"/>
                </a:moveTo>
                <a:lnTo>
                  <a:pt x="0" y="2577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Freeform 6"/>
          <p:cNvSpPr/>
          <p:nvPr/>
        </p:nvSpPr>
        <p:spPr>
          <a:xfrm>
            <a:off x="409680" y="2762280"/>
            <a:ext cx="3057480" cy="1533600"/>
          </a:xfrm>
          <a:custGeom>
            <a:avLst/>
            <a:gdLst>
              <a:gd name="textAreaLeft" fmla="*/ 0 w 3057480"/>
              <a:gd name="textAreaRight" fmla="*/ 3057840 w 3057480"/>
              <a:gd name="textAreaTop" fmla="*/ 0 h 1533600"/>
              <a:gd name="textAreaBottom" fmla="*/ 1533960 h 1533600"/>
            </a:gdLst>
            <a:ahLst/>
            <a:rect l="textAreaLeft" t="textAreaTop" r="textAreaRight" b="textAreaBottom"/>
            <a:pathLst>
              <a:path w="1926" h="966">
                <a:moveTo>
                  <a:pt x="0" y="0"/>
                </a:moveTo>
                <a:lnTo>
                  <a:pt x="1926" y="966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Freeform 8"/>
          <p:cNvSpPr/>
          <p:nvPr/>
        </p:nvSpPr>
        <p:spPr>
          <a:xfrm>
            <a:off x="438120" y="1461960"/>
            <a:ext cx="3029040" cy="4119840"/>
          </a:xfrm>
          <a:custGeom>
            <a:avLst/>
            <a:gdLst>
              <a:gd name="textAreaLeft" fmla="*/ 0 w 3029040"/>
              <a:gd name="textAreaRight" fmla="*/ 3029400 w 3029040"/>
              <a:gd name="textAreaTop" fmla="*/ 0 h 4119840"/>
              <a:gd name="textAreaBottom" fmla="*/ 4120200 h 4119840"/>
            </a:gdLst>
            <a:ahLst/>
            <a:rect l="textAreaLeft" t="textAreaTop" r="textAreaRight" b="textAreaBottom"/>
            <a:pathLst>
              <a:path w="1908" h="2595">
                <a:moveTo>
                  <a:pt x="0" y="0"/>
                </a:moveTo>
                <a:lnTo>
                  <a:pt x="1908" y="2595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" name="Object 9"/>
              <p:cNvSpPr txBox="1"/>
              <p:nvPr/>
            </p:nvSpPr>
            <p:spPr>
              <a:xfrm>
                <a:off x="1835280" y="3435480"/>
                <a:ext cx="222120" cy="22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80" name="Text Box 10"/>
          <p:cNvSpPr/>
          <p:nvPr/>
        </p:nvSpPr>
        <p:spPr>
          <a:xfrm>
            <a:off x="3886200" y="1600200"/>
            <a:ext cx="5257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Преобразование, переводящее каждую точку А фигуры в точку А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, симметричную ей относительно центра О, называется центральной симметрие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11"/>
          <p:cNvSpPr/>
          <p:nvPr/>
        </p:nvSpPr>
        <p:spPr>
          <a:xfrm>
            <a:off x="3809880" y="121932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ОПРЕДЕЛЕНИЕ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12"/>
          <p:cNvSpPr/>
          <p:nvPr/>
        </p:nvSpPr>
        <p:spPr>
          <a:xfrm>
            <a:off x="2057400" y="32004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13"/>
          <p:cNvSpPr/>
          <p:nvPr/>
        </p:nvSpPr>
        <p:spPr>
          <a:xfrm>
            <a:off x="4038480" y="3809880"/>
            <a:ext cx="5105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О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– центр симметрии (точка неподвижна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14"/>
          <p:cNvSpPr/>
          <p:nvPr/>
        </p:nvSpPr>
        <p:spPr>
          <a:xfrm>
            <a:off x="2209680" y="13716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16"/>
          <p:cNvSpPr/>
          <p:nvPr/>
        </p:nvSpPr>
        <p:spPr>
          <a:xfrm>
            <a:off x="1295280" y="5486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17"/>
          <p:cNvSpPr/>
          <p:nvPr/>
        </p:nvSpPr>
        <p:spPr>
          <a:xfrm>
            <a:off x="0" y="13716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18"/>
          <p:cNvSpPr/>
          <p:nvPr/>
        </p:nvSpPr>
        <p:spPr>
          <a:xfrm>
            <a:off x="3581280" y="54100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1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19"/>
          <p:cNvSpPr/>
          <p:nvPr/>
        </p:nvSpPr>
        <p:spPr>
          <a:xfrm>
            <a:off x="228600" y="2895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20"/>
          <p:cNvSpPr/>
          <p:nvPr/>
        </p:nvSpPr>
        <p:spPr>
          <a:xfrm>
            <a:off x="3200400" y="37339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21">
            <a:hlinkClick r:id="" action="ppaction://hlinkshowjump?jump=nextslide"/>
          </p:cNvPr>
          <p:cNvSpPr/>
          <p:nvPr/>
        </p:nvSpPr>
        <p:spPr>
          <a:xfrm>
            <a:off x="8317080" y="6172200"/>
            <a:ext cx="446040" cy="425520"/>
          </a:xfrm>
          <a:custGeom>
            <a:avLst/>
            <a:gdLst>
              <a:gd name="textAreaLeft" fmla="*/ 27360 w 446040"/>
              <a:gd name="textAreaRight" fmla="*/ 418680 w 446040"/>
              <a:gd name="textAreaTop" fmla="*/ 27360 h 425520"/>
              <a:gd name="textAreaBottom" fmla="*/ 398160 h 425520"/>
            </a:gdLst>
            <a:ahLst/>
            <a:rect l="textAreaLeft" t="textAreaTop" r="textAreaRight" b="textAreaBottom"/>
            <a:pathLst>
              <a:path w="22641" h="21600">
                <a:moveTo>
                  <a:pt x="0" y="0"/>
                </a:moveTo>
                <a:lnTo>
                  <a:pt x="22641" y="0"/>
                </a:lnTo>
                <a:lnTo>
                  <a:pt x="22641" y="21600"/>
                </a:lnTo>
                <a:lnTo>
                  <a:pt x="0" y="21600"/>
                </a:lnTo>
                <a:close/>
              </a:path>
              <a:path fill="lightenLess" w="22641" h="21600">
                <a:moveTo>
                  <a:pt x="0" y="0"/>
                </a:moveTo>
                <a:lnTo>
                  <a:pt x="22641" y="0"/>
                </a:lnTo>
                <a:lnTo>
                  <a:pt x="21241" y="1400"/>
                </a:lnTo>
                <a:lnTo>
                  <a:pt x="1400" y="1400"/>
                </a:lnTo>
                <a:close/>
              </a:path>
              <a:path fill="darken" w="22641" h="21600">
                <a:moveTo>
                  <a:pt x="22641" y="0"/>
                </a:moveTo>
                <a:lnTo>
                  <a:pt x="22641" y="21600"/>
                </a:lnTo>
                <a:lnTo>
                  <a:pt x="21241" y="20200"/>
                </a:lnTo>
                <a:lnTo>
                  <a:pt x="21241" y="1400"/>
                </a:lnTo>
                <a:close/>
              </a:path>
              <a:path fill="darkenLess" w="22641" h="21600">
                <a:moveTo>
                  <a:pt x="226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41" y="20200"/>
                </a:lnTo>
                <a:close/>
              </a:path>
              <a:path fill="lighten" w="226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41" h="21600">
                <a:moveTo>
                  <a:pt x="4314" y="3794"/>
                </a:moveTo>
                <a:lnTo>
                  <a:pt x="18327" y="10800"/>
                </a:lnTo>
                <a:lnTo>
                  <a:pt x="4314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22">
            <a:hlinkClick r:id="" action="ppaction://hlinkshowjump?jump=previousslide"/>
          </p:cNvPr>
          <p:cNvSpPr/>
          <p:nvPr/>
        </p:nvSpPr>
        <p:spPr>
          <a:xfrm>
            <a:off x="7696080" y="6172200"/>
            <a:ext cx="457200" cy="436680"/>
          </a:xfrm>
          <a:custGeom>
            <a:avLst/>
            <a:gdLst>
              <a:gd name="textAreaLeft" fmla="*/ 28080 w 457200"/>
              <a:gd name="textAreaRight" fmla="*/ 429120 w 457200"/>
              <a:gd name="textAreaTop" fmla="*/ 28080 h 436680"/>
              <a:gd name="textAreaBottom" fmla="*/ 408600 h 436680"/>
            </a:gdLst>
            <a:ahLst/>
            <a:rect l="textAreaLeft" t="textAreaTop" r="textAreaRight" b="textAreaBottom"/>
            <a:pathLst>
              <a:path w="22614" h="21600">
                <a:moveTo>
                  <a:pt x="0" y="0"/>
                </a:moveTo>
                <a:lnTo>
                  <a:pt x="22614" y="0"/>
                </a:lnTo>
                <a:lnTo>
                  <a:pt x="22614" y="21600"/>
                </a:lnTo>
                <a:lnTo>
                  <a:pt x="0" y="21600"/>
                </a:lnTo>
                <a:close/>
              </a:path>
              <a:path fill="lightenLess" w="22614" h="21600">
                <a:moveTo>
                  <a:pt x="0" y="0"/>
                </a:moveTo>
                <a:lnTo>
                  <a:pt x="22614" y="0"/>
                </a:lnTo>
                <a:lnTo>
                  <a:pt x="21214" y="1400"/>
                </a:lnTo>
                <a:lnTo>
                  <a:pt x="1400" y="1400"/>
                </a:lnTo>
                <a:close/>
              </a:path>
              <a:path fill="darken" w="22614" h="21600">
                <a:moveTo>
                  <a:pt x="22614" y="0"/>
                </a:moveTo>
                <a:lnTo>
                  <a:pt x="22614" y="21600"/>
                </a:lnTo>
                <a:lnTo>
                  <a:pt x="21214" y="20200"/>
                </a:lnTo>
                <a:lnTo>
                  <a:pt x="21214" y="1400"/>
                </a:lnTo>
                <a:close/>
              </a:path>
              <a:path fill="darkenLess" w="22614" h="21600">
                <a:moveTo>
                  <a:pt x="226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14" y="20200"/>
                </a:lnTo>
                <a:close/>
              </a:path>
              <a:path fill="lighten" w="226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14" h="21600">
                <a:moveTo>
                  <a:pt x="4301" y="7493"/>
                </a:moveTo>
                <a:lnTo>
                  <a:pt x="7808" y="7493"/>
                </a:lnTo>
                <a:lnTo>
                  <a:pt x="7808" y="12828"/>
                </a:lnTo>
                <a:cubicBezTo>
                  <a:pt x="7808" y="13751"/>
                  <a:pt x="8609" y="14482"/>
                  <a:pt x="9645" y="14482"/>
                </a:cubicBezTo>
                <a:lnTo>
                  <a:pt x="11307" y="14482"/>
                </a:lnTo>
                <a:cubicBezTo>
                  <a:pt x="12343" y="14482"/>
                  <a:pt x="13144" y="13751"/>
                  <a:pt x="13144" y="12828"/>
                </a:cubicBezTo>
                <a:lnTo>
                  <a:pt x="13144" y="7493"/>
                </a:lnTo>
                <a:lnTo>
                  <a:pt x="11307" y="7493"/>
                </a:lnTo>
                <a:lnTo>
                  <a:pt x="14815" y="3985"/>
                </a:lnTo>
                <a:lnTo>
                  <a:pt x="18488" y="7493"/>
                </a:lnTo>
                <a:lnTo>
                  <a:pt x="16651" y="7493"/>
                </a:lnTo>
                <a:lnTo>
                  <a:pt x="16651" y="12828"/>
                </a:lnTo>
                <a:cubicBezTo>
                  <a:pt x="16651" y="15596"/>
                  <a:pt x="14075" y="18155"/>
                  <a:pt x="11307" y="18155"/>
                </a:cubicBezTo>
                <a:lnTo>
                  <a:pt x="9645" y="18155"/>
                </a:lnTo>
                <a:cubicBezTo>
                  <a:pt x="6877" y="18155"/>
                  <a:pt x="4301" y="15596"/>
                  <a:pt x="4301" y="12828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5" dur="75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400"/>
                            </p:stCondLst>
                            <p:childTnLst>
                              <p:par>
                                <p:cTn id="77" nodeType="after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9" dur="75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325"/>
                            </p:stCondLst>
                            <p:childTnLst>
                              <p:par>
                                <p:cTn id="81" nodeType="afterEffect" fill="hold" presetClass="entr" presetID="3" presetSubtype="5">
                                  <p:stCondLst>
                                    <p:cond delay="3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3" dur="75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Verdana"/>
              </a:rPr>
              <a:t>Фигуры, обладающие центром симметри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5"/>
          <p:cNvSpPr/>
          <p:nvPr/>
        </p:nvSpPr>
        <p:spPr>
          <a:xfrm>
            <a:off x="457200" y="1828800"/>
            <a:ext cx="259092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Oval 6"/>
          <p:cNvSpPr/>
          <p:nvPr/>
        </p:nvSpPr>
        <p:spPr>
          <a:xfrm>
            <a:off x="5257800" y="1600200"/>
            <a:ext cx="1676520" cy="16002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7"/>
          <p:cNvSpPr/>
          <p:nvPr/>
        </p:nvSpPr>
        <p:spPr>
          <a:xfrm>
            <a:off x="7086600" y="1447920"/>
            <a:ext cx="1828800" cy="1752480"/>
          </a:xfrm>
          <a:prstGeom prst="hexagon">
            <a:avLst>
              <a:gd name="adj" fmla="val 26089"/>
              <a:gd name="vf" fmla="val 115470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8"/>
          <p:cNvSpPr/>
          <p:nvPr/>
        </p:nvSpPr>
        <p:spPr>
          <a:xfrm>
            <a:off x="380880" y="3505320"/>
            <a:ext cx="2438640" cy="1218960"/>
          </a:xfrm>
          <a:prstGeom prst="parallelogram">
            <a:avLst>
              <a:gd name="adj" fmla="val 50015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9"/>
          <p:cNvSpPr/>
          <p:nvPr/>
        </p:nvSpPr>
        <p:spPr>
          <a:xfrm>
            <a:off x="6781680" y="3962520"/>
            <a:ext cx="1981440" cy="1904760"/>
          </a:xfrm>
          <a:prstGeom prst="octagon">
            <a:avLst>
              <a:gd name="adj" fmla="val 2928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AutoShape 10"/>
          <p:cNvSpPr/>
          <p:nvPr/>
        </p:nvSpPr>
        <p:spPr>
          <a:xfrm rot="5400000">
            <a:off x="990720" y="4876920"/>
            <a:ext cx="1218960" cy="2133360"/>
          </a:xfrm>
          <a:prstGeom prst="diamond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AutoShape 11"/>
          <p:cNvSpPr/>
          <p:nvPr/>
        </p:nvSpPr>
        <p:spPr>
          <a:xfrm>
            <a:off x="3505320" y="3429000"/>
            <a:ext cx="2743200" cy="2362320"/>
          </a:xfrm>
          <a:prstGeom prst="triangle">
            <a:avLst>
              <a:gd name="adj" fmla="val 50000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14"/>
          <p:cNvSpPr/>
          <p:nvPr/>
        </p:nvSpPr>
        <p:spPr>
          <a:xfrm>
            <a:off x="3581280" y="1600200"/>
            <a:ext cx="1219320" cy="12193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Object 17"/>
              <p:cNvSpPr txBox="1"/>
              <p:nvPr/>
            </p:nvSpPr>
            <p:spPr>
              <a:xfrm>
                <a:off x="1676520" y="2286000"/>
                <a:ext cx="152280" cy="15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Object 20"/>
              <p:cNvSpPr txBox="1"/>
              <p:nvPr/>
            </p:nvSpPr>
            <p:spPr>
              <a:xfrm>
                <a:off x="1523880" y="4038480"/>
                <a:ext cx="152640" cy="15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" name="Object 23"/>
              <p:cNvSpPr txBox="1"/>
              <p:nvPr/>
            </p:nvSpPr>
            <p:spPr>
              <a:xfrm>
                <a:off x="1523880" y="5867280"/>
                <a:ext cx="152640" cy="15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" name="Object 26"/>
              <p:cNvSpPr txBox="1"/>
              <p:nvPr/>
            </p:nvSpPr>
            <p:spPr>
              <a:xfrm>
                <a:off x="4114800" y="2133720"/>
                <a:ext cx="152280" cy="15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" name="Object 27"/>
              <p:cNvSpPr txBox="1"/>
              <p:nvPr/>
            </p:nvSpPr>
            <p:spPr>
              <a:xfrm>
                <a:off x="6019920" y="2286000"/>
                <a:ext cx="152280" cy="15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Object 33"/>
              <p:cNvSpPr txBox="1"/>
              <p:nvPr/>
            </p:nvSpPr>
            <p:spPr>
              <a:xfrm>
                <a:off x="7924680" y="2209680"/>
                <a:ext cx="152640" cy="15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Object 37"/>
              <p:cNvSpPr txBox="1"/>
              <p:nvPr/>
            </p:nvSpPr>
            <p:spPr>
              <a:xfrm>
                <a:off x="4800600" y="4952880"/>
                <a:ext cx="152280" cy="15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Object 40"/>
              <p:cNvSpPr txBox="1"/>
              <p:nvPr/>
            </p:nvSpPr>
            <p:spPr>
              <a:xfrm>
                <a:off x="7696080" y="4876920"/>
                <a:ext cx="152640" cy="15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09" name="Text Box 43"/>
          <p:cNvSpPr/>
          <p:nvPr/>
        </p:nvSpPr>
        <p:spPr>
          <a:xfrm>
            <a:off x="533520" y="28954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прямоугольни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44"/>
          <p:cNvSpPr/>
          <p:nvPr/>
        </p:nvSpPr>
        <p:spPr>
          <a:xfrm>
            <a:off x="3581280" y="28195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квадра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45"/>
          <p:cNvSpPr/>
          <p:nvPr/>
        </p:nvSpPr>
        <p:spPr>
          <a:xfrm>
            <a:off x="5334120" y="31240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кру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46"/>
          <p:cNvSpPr/>
          <p:nvPr/>
        </p:nvSpPr>
        <p:spPr>
          <a:xfrm>
            <a:off x="6934320" y="3124080"/>
            <a:ext cx="2209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правильный шестиугольни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48"/>
          <p:cNvSpPr/>
          <p:nvPr/>
        </p:nvSpPr>
        <p:spPr>
          <a:xfrm>
            <a:off x="380880" y="47242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параллелограм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49"/>
          <p:cNvSpPr/>
          <p:nvPr/>
        </p:nvSpPr>
        <p:spPr>
          <a:xfrm>
            <a:off x="1981080" y="61722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ром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50"/>
          <p:cNvSpPr/>
          <p:nvPr/>
        </p:nvSpPr>
        <p:spPr>
          <a:xfrm>
            <a:off x="3505320" y="5791320"/>
            <a:ext cx="2819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равносторонний треугольни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51"/>
          <p:cNvSpPr/>
          <p:nvPr/>
        </p:nvSpPr>
        <p:spPr>
          <a:xfrm>
            <a:off x="6553080" y="5791320"/>
            <a:ext cx="259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правильный восьмиугольни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AutoShape 52">
            <a:hlinkClick r:id="" action="ppaction://hlinkshowjump?jump=nextslide"/>
          </p:cNvPr>
          <p:cNvSpPr/>
          <p:nvPr/>
        </p:nvSpPr>
        <p:spPr>
          <a:xfrm>
            <a:off x="8381880" y="304920"/>
            <a:ext cx="457200" cy="436320"/>
          </a:xfrm>
          <a:custGeom>
            <a:avLst/>
            <a:gdLst>
              <a:gd name="textAreaLeft" fmla="*/ 28080 w 457200"/>
              <a:gd name="textAreaRight" fmla="*/ 429120 w 457200"/>
              <a:gd name="textAreaTop" fmla="*/ 28080 h 436320"/>
              <a:gd name="textAreaBottom" fmla="*/ 408240 h 436320"/>
            </a:gdLst>
            <a:ahLst/>
            <a:rect l="textAreaLeft" t="textAreaTop" r="textAreaRight" b="textAreaBottom"/>
            <a:pathLst>
              <a:path w="22633" h="21600">
                <a:moveTo>
                  <a:pt x="0" y="0"/>
                </a:moveTo>
                <a:lnTo>
                  <a:pt x="22633" y="0"/>
                </a:lnTo>
                <a:lnTo>
                  <a:pt x="22633" y="21600"/>
                </a:lnTo>
                <a:lnTo>
                  <a:pt x="0" y="21600"/>
                </a:lnTo>
                <a:close/>
              </a:path>
              <a:path fill="lightenLess" w="22633" h="21600">
                <a:moveTo>
                  <a:pt x="0" y="0"/>
                </a:moveTo>
                <a:lnTo>
                  <a:pt x="22633" y="0"/>
                </a:lnTo>
                <a:lnTo>
                  <a:pt x="21233" y="1400"/>
                </a:lnTo>
                <a:lnTo>
                  <a:pt x="1400" y="1400"/>
                </a:lnTo>
                <a:close/>
              </a:path>
              <a:path fill="darken" w="22633" h="21600">
                <a:moveTo>
                  <a:pt x="22633" y="0"/>
                </a:moveTo>
                <a:lnTo>
                  <a:pt x="22633" y="21600"/>
                </a:lnTo>
                <a:lnTo>
                  <a:pt x="21233" y="20200"/>
                </a:lnTo>
                <a:lnTo>
                  <a:pt x="21233" y="1400"/>
                </a:lnTo>
                <a:close/>
              </a:path>
              <a:path fill="darkenLess" w="22633" h="21600">
                <a:moveTo>
                  <a:pt x="226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33" y="20200"/>
                </a:lnTo>
                <a:close/>
              </a:path>
              <a:path fill="lighten" w="226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33" h="21600">
                <a:moveTo>
                  <a:pt x="4310" y="3794"/>
                </a:moveTo>
                <a:lnTo>
                  <a:pt x="18323" y="10800"/>
                </a:lnTo>
                <a:lnTo>
                  <a:pt x="4310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AutoShape 53">
            <a:hlinkClick r:id="" action="ppaction://hlinkshowjump?jump=previousslide"/>
          </p:cNvPr>
          <p:cNvSpPr/>
          <p:nvPr/>
        </p:nvSpPr>
        <p:spPr>
          <a:xfrm>
            <a:off x="7848720" y="304920"/>
            <a:ext cx="457200" cy="436320"/>
          </a:xfrm>
          <a:custGeom>
            <a:avLst/>
            <a:gdLst>
              <a:gd name="textAreaLeft" fmla="*/ 28080 w 457200"/>
              <a:gd name="textAreaRight" fmla="*/ 429120 w 457200"/>
              <a:gd name="textAreaTop" fmla="*/ 28080 h 436320"/>
              <a:gd name="textAreaBottom" fmla="*/ 408240 h 436320"/>
            </a:gdLst>
            <a:ahLst/>
            <a:rect l="textAreaLeft" t="textAreaTop" r="textAreaRight" b="textAreaBottom"/>
            <a:pathLst>
              <a:path w="22633" h="21600">
                <a:moveTo>
                  <a:pt x="0" y="0"/>
                </a:moveTo>
                <a:lnTo>
                  <a:pt x="22633" y="0"/>
                </a:lnTo>
                <a:lnTo>
                  <a:pt x="22633" y="21600"/>
                </a:lnTo>
                <a:lnTo>
                  <a:pt x="0" y="21600"/>
                </a:lnTo>
                <a:close/>
              </a:path>
              <a:path fill="lightenLess" w="22633" h="21600">
                <a:moveTo>
                  <a:pt x="0" y="0"/>
                </a:moveTo>
                <a:lnTo>
                  <a:pt x="22633" y="0"/>
                </a:lnTo>
                <a:lnTo>
                  <a:pt x="21233" y="1400"/>
                </a:lnTo>
                <a:lnTo>
                  <a:pt x="1400" y="1400"/>
                </a:lnTo>
                <a:close/>
              </a:path>
              <a:path fill="darken" w="22633" h="21600">
                <a:moveTo>
                  <a:pt x="22633" y="0"/>
                </a:moveTo>
                <a:lnTo>
                  <a:pt x="22633" y="21600"/>
                </a:lnTo>
                <a:lnTo>
                  <a:pt x="21233" y="20200"/>
                </a:lnTo>
                <a:lnTo>
                  <a:pt x="21233" y="1400"/>
                </a:lnTo>
                <a:close/>
              </a:path>
              <a:path fill="darkenLess" w="22633" h="21600">
                <a:moveTo>
                  <a:pt x="226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33" y="20200"/>
                </a:lnTo>
                <a:close/>
              </a:path>
              <a:path fill="lighten" w="226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33" h="21600">
                <a:moveTo>
                  <a:pt x="4310" y="7493"/>
                </a:moveTo>
                <a:lnTo>
                  <a:pt x="7818" y="7493"/>
                </a:lnTo>
                <a:lnTo>
                  <a:pt x="7818" y="12828"/>
                </a:lnTo>
                <a:cubicBezTo>
                  <a:pt x="7818" y="13751"/>
                  <a:pt x="8618" y="14482"/>
                  <a:pt x="9654" y="14482"/>
                </a:cubicBezTo>
                <a:lnTo>
                  <a:pt x="11316" y="14482"/>
                </a:lnTo>
                <a:cubicBezTo>
                  <a:pt x="12352" y="14482"/>
                  <a:pt x="13153" y="13751"/>
                  <a:pt x="13153" y="12828"/>
                </a:cubicBezTo>
                <a:lnTo>
                  <a:pt x="13153" y="7493"/>
                </a:lnTo>
                <a:lnTo>
                  <a:pt x="11316" y="7493"/>
                </a:lnTo>
                <a:lnTo>
                  <a:pt x="14824" y="3985"/>
                </a:lnTo>
                <a:lnTo>
                  <a:pt x="18497" y="7493"/>
                </a:lnTo>
                <a:lnTo>
                  <a:pt x="16660" y="7493"/>
                </a:lnTo>
                <a:lnTo>
                  <a:pt x="16660" y="12828"/>
                </a:lnTo>
                <a:cubicBezTo>
                  <a:pt x="16660" y="15596"/>
                  <a:pt x="14084" y="18155"/>
                  <a:pt x="11316" y="18155"/>
                </a:cubicBezTo>
                <a:lnTo>
                  <a:pt x="9654" y="18155"/>
                </a:lnTo>
                <a:cubicBezTo>
                  <a:pt x="6886" y="18155"/>
                  <a:pt x="4310" y="15596"/>
                  <a:pt x="4310" y="12828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1000"/>
                            </p:stCondLst>
                            <p:childTnLst>
                              <p:par>
                                <p:cTn id="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500"/>
                            </p:stCondLst>
                            <p:childTnLst>
                              <p:par>
                                <p:cTn id="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2000"/>
                            </p:stCondLst>
                            <p:childTnLst>
                              <p:par>
                                <p:cTn id="1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2500"/>
                            </p:stCondLst>
                            <p:childTnLst>
                              <p:par>
                                <p:cTn id="1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3000"/>
                            </p:stCondLst>
                            <p:childTnLst>
                              <p:par>
                                <p:cTn id="1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3500"/>
                            </p:stCondLst>
                            <p:childTnLst>
                              <p:par>
                                <p:cTn id="1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4000"/>
                            </p:stCondLst>
                            <p:childTnLst>
                              <p:par>
                                <p:cTn id="1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4500"/>
                            </p:stCondLst>
                            <p:childTnLst>
                              <p:par>
                                <p:cTn id="1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0"/>
                            </p:stCondLst>
                            <p:childTnLst>
                              <p:par>
                                <p:cTn id="1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5500"/>
                            </p:stCondLst>
                            <p:childTnLst>
                              <p:par>
                                <p:cTn id="1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6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6500"/>
                            </p:stCondLst>
                            <p:childTnLst>
                              <p:par>
                                <p:cTn id="1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7000"/>
                            </p:stCondLst>
                            <p:childTnLst>
                              <p:par>
                                <p:cTn id="1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7500"/>
                            </p:stCondLst>
                            <p:childTnLst>
                              <p:par>
                                <p:cTn id="1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8000"/>
                            </p:stCondLst>
                            <p:childTnLst>
                              <p:par>
                                <p:cTn id="1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8500"/>
                            </p:stCondLst>
                            <p:childTnLst>
                              <p:par>
                                <p:cTn id="1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9000"/>
                            </p:stCondLst>
                            <p:childTnLst>
                              <p:par>
                                <p:cTn id="1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9500"/>
                            </p:stCondLst>
                            <p:childTnLst>
                              <p:par>
                                <p:cTn id="1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1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10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1000"/>
                            </p:stCondLst>
                            <p:childTnLst>
                              <p:par>
                                <p:cTn id="1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1500"/>
                            </p:stCondLst>
                            <p:childTnLst>
                              <p:par>
                                <p:cTn id="1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Verdana"/>
              </a:rPr>
              <a:t>Фигуры,не обладающие центральной симметрие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Line 3"/>
          <p:cNvSpPr/>
          <p:nvPr/>
        </p:nvSpPr>
        <p:spPr>
          <a:xfrm flipV="1">
            <a:off x="247680" y="3839760"/>
            <a:ext cx="1368360" cy="360360"/>
          </a:xfrm>
          <a:prstGeom prst="line">
            <a:avLst/>
          </a:prstGeom>
          <a:ln w="3492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Line 4"/>
          <p:cNvSpPr/>
          <p:nvPr/>
        </p:nvSpPr>
        <p:spPr>
          <a:xfrm>
            <a:off x="1544760" y="3840120"/>
            <a:ext cx="1008000" cy="503280"/>
          </a:xfrm>
          <a:prstGeom prst="line">
            <a:avLst/>
          </a:prstGeom>
          <a:ln w="3492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Line 5"/>
          <p:cNvSpPr/>
          <p:nvPr/>
        </p:nvSpPr>
        <p:spPr>
          <a:xfrm>
            <a:off x="247680" y="4200480"/>
            <a:ext cx="360360" cy="1511280"/>
          </a:xfrm>
          <a:prstGeom prst="line">
            <a:avLst/>
          </a:prstGeom>
          <a:ln w="3492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Line 6"/>
          <p:cNvSpPr/>
          <p:nvPr/>
        </p:nvSpPr>
        <p:spPr>
          <a:xfrm flipV="1">
            <a:off x="608040" y="5495760"/>
            <a:ext cx="1584360" cy="216000"/>
          </a:xfrm>
          <a:prstGeom prst="line">
            <a:avLst/>
          </a:prstGeom>
          <a:ln w="3492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Line 7"/>
          <p:cNvSpPr/>
          <p:nvPr/>
        </p:nvSpPr>
        <p:spPr>
          <a:xfrm flipV="1">
            <a:off x="2192400" y="4343040"/>
            <a:ext cx="360360" cy="1152360"/>
          </a:xfrm>
          <a:prstGeom prst="line">
            <a:avLst/>
          </a:prstGeom>
          <a:ln w="3492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AutoShape 8"/>
          <p:cNvSpPr/>
          <p:nvPr/>
        </p:nvSpPr>
        <p:spPr>
          <a:xfrm>
            <a:off x="5181480" y="1828800"/>
            <a:ext cx="2881440" cy="1728720"/>
          </a:xfrm>
          <a:prstGeom prst="rtTriangle">
            <a:avLst/>
          </a:prstGeom>
          <a:solidFill>
            <a:srgbClr val="99ccff"/>
          </a:solidFill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9"/>
          <p:cNvSpPr/>
          <p:nvPr/>
        </p:nvSpPr>
        <p:spPr>
          <a:xfrm>
            <a:off x="1905120" y="5562720"/>
            <a:ext cx="2619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Неправильный многоугольни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10"/>
          <p:cNvSpPr/>
          <p:nvPr/>
        </p:nvSpPr>
        <p:spPr>
          <a:xfrm>
            <a:off x="5410080" y="3733920"/>
            <a:ext cx="259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Произвольный треугольни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" name="Group 11"/>
          <p:cNvGrpSpPr/>
          <p:nvPr/>
        </p:nvGrpSpPr>
        <p:grpSpPr>
          <a:xfrm>
            <a:off x="1258920" y="1916280"/>
            <a:ext cx="2089080" cy="1441440"/>
            <a:chOff x="1258920" y="1916280"/>
            <a:chExt cx="2089080" cy="1441440"/>
          </a:xfrm>
        </p:grpSpPr>
        <p:sp>
          <p:nvSpPr>
            <p:cNvPr id="129" name="Line 12"/>
            <p:cNvSpPr/>
            <p:nvPr/>
          </p:nvSpPr>
          <p:spPr>
            <a:xfrm flipV="1">
              <a:off x="1258920" y="1916280"/>
              <a:ext cx="2016000" cy="720720"/>
            </a:xfrm>
            <a:prstGeom prst="line">
              <a:avLst/>
            </a:prstGeom>
            <a:ln w="3492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3"/>
            <p:cNvSpPr/>
            <p:nvPr/>
          </p:nvSpPr>
          <p:spPr>
            <a:xfrm>
              <a:off x="1258920" y="2637000"/>
              <a:ext cx="2089080" cy="720720"/>
            </a:xfrm>
            <a:prstGeom prst="line">
              <a:avLst/>
            </a:prstGeom>
            <a:ln w="3492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1" name="Text Box 15"/>
          <p:cNvSpPr/>
          <p:nvPr/>
        </p:nvSpPr>
        <p:spPr>
          <a:xfrm>
            <a:off x="1187280" y="3357720"/>
            <a:ext cx="12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Уго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16"/>
          <p:cNvSpPr/>
          <p:nvPr/>
        </p:nvSpPr>
        <p:spPr>
          <a:xfrm rot="10800000">
            <a:off x="4952520" y="4648320"/>
            <a:ext cx="2808360" cy="1371600"/>
          </a:xfrm>
          <a:custGeom>
            <a:avLst/>
            <a:gdLst>
              <a:gd name="textAreaLeft" fmla="*/ 585000 w 2808360"/>
              <a:gd name="textAreaRight" fmla="*/ 2223360 w 2808360"/>
              <a:gd name="textAreaTop" fmla="*/ 285480 h 1371600"/>
              <a:gd name="textAreaBottom" fmla="*/ 108612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close/>
              </a:path>
            </a:pathLst>
          </a:custGeom>
          <a:solidFill>
            <a:srgbClr val="b2b2b2"/>
          </a:solidFill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19"/>
          <p:cNvSpPr/>
          <p:nvPr/>
        </p:nvSpPr>
        <p:spPr>
          <a:xfrm>
            <a:off x="5420160" y="6051600"/>
            <a:ext cx="160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трапец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AutoShape 21">
            <a:hlinkClick r:id="" action="ppaction://hlinkshowjump?jump=nextslide"/>
          </p:cNvPr>
          <p:cNvSpPr/>
          <p:nvPr/>
        </p:nvSpPr>
        <p:spPr>
          <a:xfrm>
            <a:off x="8317080" y="6248520"/>
            <a:ext cx="522000" cy="349200"/>
          </a:xfrm>
          <a:custGeom>
            <a:avLst/>
            <a:gdLst>
              <a:gd name="textAreaLeft" fmla="*/ 22320 w 522000"/>
              <a:gd name="textAreaRight" fmla="*/ 499680 w 522000"/>
              <a:gd name="textAreaTop" fmla="*/ 22320 h 349200"/>
              <a:gd name="textAreaBottom" fmla="*/ 326880 h 349200"/>
            </a:gdLst>
            <a:ahLst/>
            <a:rect l="textAreaLeft" t="textAreaTop" r="textAreaRight" b="textAreaBottom"/>
            <a:pathLst>
              <a:path w="32278" h="21600">
                <a:moveTo>
                  <a:pt x="0" y="0"/>
                </a:moveTo>
                <a:lnTo>
                  <a:pt x="32278" y="0"/>
                </a:lnTo>
                <a:lnTo>
                  <a:pt x="32278" y="21600"/>
                </a:lnTo>
                <a:lnTo>
                  <a:pt x="0" y="21600"/>
                </a:lnTo>
                <a:close/>
              </a:path>
              <a:path fill="lightenLess" w="32278" h="21600">
                <a:moveTo>
                  <a:pt x="0" y="0"/>
                </a:moveTo>
                <a:lnTo>
                  <a:pt x="32278" y="0"/>
                </a:lnTo>
                <a:lnTo>
                  <a:pt x="30878" y="1400"/>
                </a:lnTo>
                <a:lnTo>
                  <a:pt x="1400" y="1400"/>
                </a:lnTo>
                <a:close/>
              </a:path>
              <a:path fill="darken" w="32278" h="21600">
                <a:moveTo>
                  <a:pt x="32278" y="0"/>
                </a:moveTo>
                <a:lnTo>
                  <a:pt x="32278" y="21600"/>
                </a:lnTo>
                <a:lnTo>
                  <a:pt x="30878" y="20200"/>
                </a:lnTo>
                <a:lnTo>
                  <a:pt x="30878" y="1400"/>
                </a:lnTo>
                <a:close/>
              </a:path>
              <a:path fill="darkenLess" w="32278" h="21600">
                <a:moveTo>
                  <a:pt x="322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878" y="20200"/>
                </a:lnTo>
                <a:close/>
              </a:path>
              <a:path fill="lighten" w="322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278" h="21600">
                <a:moveTo>
                  <a:pt x="9132" y="3794"/>
                </a:moveTo>
                <a:lnTo>
                  <a:pt x="23145" y="10800"/>
                </a:lnTo>
                <a:lnTo>
                  <a:pt x="9132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AutoShape 22">
            <a:hlinkClick r:id="" action="ppaction://hlinkshowjump?jump=previousslide"/>
          </p:cNvPr>
          <p:cNvSpPr/>
          <p:nvPr/>
        </p:nvSpPr>
        <p:spPr>
          <a:xfrm>
            <a:off x="7696080" y="6248520"/>
            <a:ext cx="474840" cy="349200"/>
          </a:xfrm>
          <a:custGeom>
            <a:avLst/>
            <a:gdLst>
              <a:gd name="textAreaLeft" fmla="*/ 22320 w 474840"/>
              <a:gd name="textAreaRight" fmla="*/ 452520 w 474840"/>
              <a:gd name="textAreaTop" fmla="*/ 22320 h 349200"/>
              <a:gd name="textAreaBottom" fmla="*/ 326880 h 349200"/>
            </a:gdLst>
            <a:ahLst/>
            <a:rect l="textAreaLeft" t="textAreaTop" r="textAreaRight" b="textAreaBottom"/>
            <a:pathLst>
              <a:path w="29364" h="21600">
                <a:moveTo>
                  <a:pt x="0" y="0"/>
                </a:moveTo>
                <a:lnTo>
                  <a:pt x="29364" y="0"/>
                </a:lnTo>
                <a:lnTo>
                  <a:pt x="29364" y="21600"/>
                </a:lnTo>
                <a:lnTo>
                  <a:pt x="0" y="21600"/>
                </a:lnTo>
                <a:close/>
              </a:path>
              <a:path fill="lightenLess" w="29364" h="21600">
                <a:moveTo>
                  <a:pt x="0" y="0"/>
                </a:moveTo>
                <a:lnTo>
                  <a:pt x="29364" y="0"/>
                </a:lnTo>
                <a:lnTo>
                  <a:pt x="27964" y="1400"/>
                </a:lnTo>
                <a:lnTo>
                  <a:pt x="1400" y="1400"/>
                </a:lnTo>
                <a:close/>
              </a:path>
              <a:path fill="darken" w="29364" h="21600">
                <a:moveTo>
                  <a:pt x="29364" y="0"/>
                </a:moveTo>
                <a:lnTo>
                  <a:pt x="29364" y="21600"/>
                </a:lnTo>
                <a:lnTo>
                  <a:pt x="27964" y="20200"/>
                </a:lnTo>
                <a:lnTo>
                  <a:pt x="27964" y="1400"/>
                </a:lnTo>
                <a:close/>
              </a:path>
              <a:path fill="darkenLess" w="29364" h="21600">
                <a:moveTo>
                  <a:pt x="293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964" y="20200"/>
                </a:lnTo>
                <a:close/>
              </a:path>
              <a:path fill="lighten" w="293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364" h="21600">
                <a:moveTo>
                  <a:pt x="7675" y="7493"/>
                </a:moveTo>
                <a:lnTo>
                  <a:pt x="11183" y="7493"/>
                </a:lnTo>
                <a:lnTo>
                  <a:pt x="11183" y="12828"/>
                </a:lnTo>
                <a:cubicBezTo>
                  <a:pt x="11183" y="13751"/>
                  <a:pt x="11984" y="14482"/>
                  <a:pt x="13019" y="14482"/>
                </a:cubicBezTo>
                <a:lnTo>
                  <a:pt x="14682" y="14482"/>
                </a:lnTo>
                <a:cubicBezTo>
                  <a:pt x="15718" y="14482"/>
                  <a:pt x="16518" y="13751"/>
                  <a:pt x="16518" y="12828"/>
                </a:cubicBezTo>
                <a:lnTo>
                  <a:pt x="16518" y="7493"/>
                </a:lnTo>
                <a:lnTo>
                  <a:pt x="14682" y="7493"/>
                </a:lnTo>
                <a:lnTo>
                  <a:pt x="18189" y="3985"/>
                </a:lnTo>
                <a:lnTo>
                  <a:pt x="21862" y="7493"/>
                </a:lnTo>
                <a:lnTo>
                  <a:pt x="20026" y="7493"/>
                </a:lnTo>
                <a:lnTo>
                  <a:pt x="20026" y="12828"/>
                </a:lnTo>
                <a:cubicBezTo>
                  <a:pt x="20026" y="15596"/>
                  <a:pt x="17450" y="18155"/>
                  <a:pt x="14682" y="18155"/>
                </a:cubicBezTo>
                <a:lnTo>
                  <a:pt x="13019" y="18155"/>
                </a:lnTo>
                <a:cubicBezTo>
                  <a:pt x="10252" y="18155"/>
                  <a:pt x="7675" y="15596"/>
                  <a:pt x="7675" y="12828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10"/>
          <p:cNvSpPr/>
          <p:nvPr/>
        </p:nvSpPr>
        <p:spPr>
          <a:xfrm>
            <a:off x="533520" y="228600"/>
            <a:ext cx="824364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Verdana"/>
              </a:rPr>
              <a:t>Построени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11"/>
          <p:cNvSpPr/>
          <p:nvPr/>
        </p:nvSpPr>
        <p:spPr>
          <a:xfrm>
            <a:off x="1871640" y="2349360"/>
            <a:ext cx="7272360" cy="23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очки, симметричной данно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трезка, симметричного данном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реугольника, симметричного данном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AutoShape 12"/>
          <p:cNvSpPr/>
          <p:nvPr/>
        </p:nvSpPr>
        <p:spPr>
          <a:xfrm>
            <a:off x="8028000" y="6021360"/>
            <a:ext cx="506520" cy="432000"/>
          </a:xfrm>
          <a:custGeom>
            <a:avLst/>
            <a:gdLst>
              <a:gd name="textAreaLeft" fmla="*/ 27720 w 506520"/>
              <a:gd name="textAreaRight" fmla="*/ 478800 w 50652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323" h="21600">
                <a:moveTo>
                  <a:pt x="0" y="0"/>
                </a:moveTo>
                <a:lnTo>
                  <a:pt x="25323" y="0"/>
                </a:lnTo>
                <a:lnTo>
                  <a:pt x="25323" y="21600"/>
                </a:lnTo>
                <a:lnTo>
                  <a:pt x="0" y="21600"/>
                </a:lnTo>
                <a:close/>
              </a:path>
              <a:path fill="lightenLess" w="25323" h="21600">
                <a:moveTo>
                  <a:pt x="0" y="0"/>
                </a:moveTo>
                <a:lnTo>
                  <a:pt x="25323" y="0"/>
                </a:lnTo>
                <a:lnTo>
                  <a:pt x="23923" y="1400"/>
                </a:lnTo>
                <a:lnTo>
                  <a:pt x="1400" y="1400"/>
                </a:lnTo>
                <a:close/>
              </a:path>
              <a:path fill="darken" w="25323" h="21600">
                <a:moveTo>
                  <a:pt x="25323" y="0"/>
                </a:moveTo>
                <a:lnTo>
                  <a:pt x="25323" y="21600"/>
                </a:lnTo>
                <a:lnTo>
                  <a:pt x="23923" y="20200"/>
                </a:lnTo>
                <a:lnTo>
                  <a:pt x="23923" y="1400"/>
                </a:lnTo>
                <a:close/>
              </a:path>
              <a:path fill="darkenLess" w="25323" h="21600">
                <a:moveTo>
                  <a:pt x="253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923" y="20200"/>
                </a:lnTo>
                <a:close/>
              </a:path>
              <a:path fill="lighten" w="253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323" h="21600">
                <a:moveTo>
                  <a:pt x="5655" y="3794"/>
                </a:moveTo>
                <a:lnTo>
                  <a:pt x="19668" y="10800"/>
                </a:lnTo>
                <a:lnTo>
                  <a:pt x="5655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AutoShape 13">
            <a:hlinkClick r:id="" action="ppaction://hlinkshowjump?jump=previousslide"/>
          </p:cNvPr>
          <p:cNvSpPr/>
          <p:nvPr/>
        </p:nvSpPr>
        <p:spPr>
          <a:xfrm>
            <a:off x="7380360" y="6021360"/>
            <a:ext cx="504720" cy="432000"/>
          </a:xfrm>
          <a:custGeom>
            <a:avLst/>
            <a:gdLst>
              <a:gd name="textAreaLeft" fmla="*/ 27720 w 504720"/>
              <a:gd name="textAreaRight" fmla="*/ 477000 w 50472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233" h="21600">
                <a:moveTo>
                  <a:pt x="0" y="0"/>
                </a:moveTo>
                <a:lnTo>
                  <a:pt x="25233" y="0"/>
                </a:lnTo>
                <a:lnTo>
                  <a:pt x="25233" y="21600"/>
                </a:lnTo>
                <a:lnTo>
                  <a:pt x="0" y="21600"/>
                </a:lnTo>
                <a:close/>
              </a:path>
              <a:path fill="lightenLess" w="25233" h="21600">
                <a:moveTo>
                  <a:pt x="0" y="0"/>
                </a:moveTo>
                <a:lnTo>
                  <a:pt x="25233" y="0"/>
                </a:lnTo>
                <a:lnTo>
                  <a:pt x="23833" y="1400"/>
                </a:lnTo>
                <a:lnTo>
                  <a:pt x="1400" y="1400"/>
                </a:lnTo>
                <a:close/>
              </a:path>
              <a:path fill="darken" w="25233" h="21600">
                <a:moveTo>
                  <a:pt x="25233" y="0"/>
                </a:moveTo>
                <a:lnTo>
                  <a:pt x="25233" y="21600"/>
                </a:lnTo>
                <a:lnTo>
                  <a:pt x="23833" y="20200"/>
                </a:lnTo>
                <a:lnTo>
                  <a:pt x="23833" y="1400"/>
                </a:lnTo>
                <a:close/>
              </a:path>
              <a:path fill="darkenLess" w="25233" h="21600">
                <a:moveTo>
                  <a:pt x="252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33" y="20200"/>
                </a:lnTo>
                <a:close/>
              </a:path>
              <a:path fill="lighten" w="252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33" h="21600">
                <a:moveTo>
                  <a:pt x="5610" y="7493"/>
                </a:moveTo>
                <a:lnTo>
                  <a:pt x="9118" y="7493"/>
                </a:lnTo>
                <a:lnTo>
                  <a:pt x="9118" y="12828"/>
                </a:lnTo>
                <a:cubicBezTo>
                  <a:pt x="9118" y="13751"/>
                  <a:pt x="9918" y="14482"/>
                  <a:pt x="10954" y="14482"/>
                </a:cubicBezTo>
                <a:lnTo>
                  <a:pt x="12616" y="14482"/>
                </a:lnTo>
                <a:cubicBezTo>
                  <a:pt x="13652" y="14482"/>
                  <a:pt x="14453" y="13751"/>
                  <a:pt x="14453" y="12828"/>
                </a:cubicBezTo>
                <a:lnTo>
                  <a:pt x="14453" y="7493"/>
                </a:lnTo>
                <a:lnTo>
                  <a:pt x="12616" y="7493"/>
                </a:lnTo>
                <a:lnTo>
                  <a:pt x="16124" y="3985"/>
                </a:lnTo>
                <a:lnTo>
                  <a:pt x="19797" y="7493"/>
                </a:lnTo>
                <a:lnTo>
                  <a:pt x="17961" y="7493"/>
                </a:lnTo>
                <a:lnTo>
                  <a:pt x="17961" y="12828"/>
                </a:lnTo>
                <a:cubicBezTo>
                  <a:pt x="17961" y="15596"/>
                  <a:pt x="15384" y="18155"/>
                  <a:pt x="12616" y="18155"/>
                </a:cubicBezTo>
                <a:lnTo>
                  <a:pt x="10954" y="18155"/>
                </a:lnTo>
                <a:cubicBezTo>
                  <a:pt x="8186" y="18155"/>
                  <a:pt x="5610" y="15596"/>
                  <a:pt x="5610" y="12828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AutoShape 14"/>
          <p:cNvSpPr/>
          <p:nvPr/>
        </p:nvSpPr>
        <p:spPr>
          <a:xfrm>
            <a:off x="1371600" y="2438280"/>
            <a:ext cx="465120" cy="381240"/>
          </a:xfrm>
          <a:custGeom>
            <a:avLst/>
            <a:gdLst>
              <a:gd name="textAreaLeft" fmla="*/ 24480 w 465120"/>
              <a:gd name="textAreaRight" fmla="*/ 440640 w 46512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6348" h="21600">
                <a:moveTo>
                  <a:pt x="0" y="0"/>
                </a:moveTo>
                <a:lnTo>
                  <a:pt x="26348" y="0"/>
                </a:lnTo>
                <a:lnTo>
                  <a:pt x="26348" y="21600"/>
                </a:lnTo>
                <a:lnTo>
                  <a:pt x="0" y="21600"/>
                </a:lnTo>
                <a:close/>
              </a:path>
              <a:path fill="lightenLess" w="26348" h="21600">
                <a:moveTo>
                  <a:pt x="0" y="0"/>
                </a:moveTo>
                <a:lnTo>
                  <a:pt x="26348" y="0"/>
                </a:lnTo>
                <a:lnTo>
                  <a:pt x="24948" y="1400"/>
                </a:lnTo>
                <a:lnTo>
                  <a:pt x="1400" y="1400"/>
                </a:lnTo>
                <a:close/>
              </a:path>
              <a:path fill="darken" w="26348" h="21600">
                <a:moveTo>
                  <a:pt x="26348" y="0"/>
                </a:moveTo>
                <a:lnTo>
                  <a:pt x="26348" y="21600"/>
                </a:lnTo>
                <a:lnTo>
                  <a:pt x="24948" y="20200"/>
                </a:lnTo>
                <a:lnTo>
                  <a:pt x="24948" y="1400"/>
                </a:lnTo>
                <a:close/>
              </a:path>
              <a:path fill="darkenLess" w="26348" h="21600">
                <a:moveTo>
                  <a:pt x="26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48" y="20200"/>
                </a:lnTo>
                <a:close/>
              </a:path>
              <a:path fill="lighten" w="26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48" h="21600">
                <a:moveTo>
                  <a:pt x="13174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6348" h="21600">
                <a:moveTo>
                  <a:pt x="14279" y="14281"/>
                </a:moveTo>
                <a:lnTo>
                  <a:pt x="14279" y="12323"/>
                </a:lnTo>
                <a:cubicBezTo>
                  <a:pt x="14279" y="11496"/>
                  <a:pt x="14610" y="10800"/>
                  <a:pt x="15211" y="10800"/>
                </a:cubicBezTo>
                <a:cubicBezTo>
                  <a:pt x="16342" y="10800"/>
                  <a:pt x="17239" y="9434"/>
                  <a:pt x="17239" y="7849"/>
                </a:cubicBezTo>
                <a:cubicBezTo>
                  <a:pt x="17239" y="5534"/>
                  <a:pt x="15385" y="3794"/>
                  <a:pt x="13174" y="3794"/>
                </a:cubicBezTo>
                <a:cubicBezTo>
                  <a:pt x="10963" y="3794"/>
                  <a:pt x="9292" y="5534"/>
                  <a:pt x="9292" y="7849"/>
                </a:cubicBezTo>
                <a:lnTo>
                  <a:pt x="11146" y="7849"/>
                </a:lnTo>
                <a:cubicBezTo>
                  <a:pt x="11146" y="6709"/>
                  <a:pt x="12069" y="5821"/>
                  <a:pt x="13174" y="5821"/>
                </a:cubicBezTo>
                <a:cubicBezTo>
                  <a:pt x="14279" y="5821"/>
                  <a:pt x="15211" y="6709"/>
                  <a:pt x="15211" y="7849"/>
                </a:cubicBezTo>
                <a:cubicBezTo>
                  <a:pt x="15211" y="8589"/>
                  <a:pt x="14741" y="9320"/>
                  <a:pt x="14279" y="9320"/>
                </a:cubicBezTo>
                <a:cubicBezTo>
                  <a:pt x="13174" y="9320"/>
                  <a:pt x="12069" y="10800"/>
                  <a:pt x="12069" y="12323"/>
                </a:cubicBezTo>
                <a:lnTo>
                  <a:pt x="12069" y="14281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AutoShape 15"/>
          <p:cNvSpPr/>
          <p:nvPr/>
        </p:nvSpPr>
        <p:spPr>
          <a:xfrm>
            <a:off x="1371600" y="3048120"/>
            <a:ext cx="465120" cy="382320"/>
          </a:xfrm>
          <a:custGeom>
            <a:avLst/>
            <a:gdLst>
              <a:gd name="textAreaLeft" fmla="*/ 24480 w 465120"/>
              <a:gd name="textAreaRight" fmla="*/ 440640 w 465120"/>
              <a:gd name="textAreaTop" fmla="*/ 24480 h 382320"/>
              <a:gd name="textAreaBottom" fmla="*/ 357840 h 382320"/>
            </a:gdLst>
            <a:ahLst/>
            <a:rect l="textAreaLeft" t="textAreaTop" r="textAreaRight" b="textAreaBottom"/>
            <a:pathLst>
              <a:path w="26274" h="21600">
                <a:moveTo>
                  <a:pt x="0" y="0"/>
                </a:moveTo>
                <a:lnTo>
                  <a:pt x="26274" y="0"/>
                </a:lnTo>
                <a:lnTo>
                  <a:pt x="26274" y="21600"/>
                </a:lnTo>
                <a:lnTo>
                  <a:pt x="0" y="21600"/>
                </a:lnTo>
                <a:close/>
              </a:path>
              <a:path fill="lightenLess" w="26274" h="21600">
                <a:moveTo>
                  <a:pt x="0" y="0"/>
                </a:moveTo>
                <a:lnTo>
                  <a:pt x="26274" y="0"/>
                </a:lnTo>
                <a:lnTo>
                  <a:pt x="24874" y="1400"/>
                </a:lnTo>
                <a:lnTo>
                  <a:pt x="1400" y="1400"/>
                </a:lnTo>
                <a:close/>
              </a:path>
              <a:path fill="darken" w="26274" h="21600">
                <a:moveTo>
                  <a:pt x="26274" y="0"/>
                </a:moveTo>
                <a:lnTo>
                  <a:pt x="26274" y="21600"/>
                </a:lnTo>
                <a:lnTo>
                  <a:pt x="24874" y="20200"/>
                </a:lnTo>
                <a:lnTo>
                  <a:pt x="24874" y="1400"/>
                </a:lnTo>
                <a:close/>
              </a:path>
              <a:path fill="darkenLess" w="26274" h="21600">
                <a:moveTo>
                  <a:pt x="2627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74" y="20200"/>
                </a:lnTo>
                <a:close/>
              </a:path>
              <a:path fill="lighten" w="2627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274" h="21600">
                <a:moveTo>
                  <a:pt x="13137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6274" h="21600">
                <a:moveTo>
                  <a:pt x="14242" y="14281"/>
                </a:moveTo>
                <a:lnTo>
                  <a:pt x="14242" y="12323"/>
                </a:lnTo>
                <a:cubicBezTo>
                  <a:pt x="14242" y="11496"/>
                  <a:pt x="14573" y="10800"/>
                  <a:pt x="15173" y="10800"/>
                </a:cubicBezTo>
                <a:cubicBezTo>
                  <a:pt x="16305" y="10800"/>
                  <a:pt x="17201" y="9434"/>
                  <a:pt x="17201" y="7849"/>
                </a:cubicBezTo>
                <a:cubicBezTo>
                  <a:pt x="17201" y="5534"/>
                  <a:pt x="15348" y="3794"/>
                  <a:pt x="13137" y="3794"/>
                </a:cubicBezTo>
                <a:cubicBezTo>
                  <a:pt x="10926" y="3794"/>
                  <a:pt x="9255" y="5534"/>
                  <a:pt x="9255" y="7849"/>
                </a:cubicBezTo>
                <a:lnTo>
                  <a:pt x="11109" y="7849"/>
                </a:lnTo>
                <a:cubicBezTo>
                  <a:pt x="11109" y="6709"/>
                  <a:pt x="12031" y="5821"/>
                  <a:pt x="13137" y="5821"/>
                </a:cubicBezTo>
                <a:cubicBezTo>
                  <a:pt x="14242" y="5821"/>
                  <a:pt x="15173" y="6709"/>
                  <a:pt x="15173" y="7849"/>
                </a:cubicBezTo>
                <a:cubicBezTo>
                  <a:pt x="15173" y="8589"/>
                  <a:pt x="14703" y="9320"/>
                  <a:pt x="14242" y="9320"/>
                </a:cubicBezTo>
                <a:cubicBezTo>
                  <a:pt x="13137" y="9320"/>
                  <a:pt x="12031" y="10800"/>
                  <a:pt x="12031" y="12323"/>
                </a:cubicBezTo>
                <a:lnTo>
                  <a:pt x="12031" y="14281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AutoShape 16"/>
          <p:cNvSpPr/>
          <p:nvPr/>
        </p:nvSpPr>
        <p:spPr>
          <a:xfrm>
            <a:off x="1371600" y="365760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924" h="21600">
                <a:moveTo>
                  <a:pt x="14067" y="14281"/>
                </a:moveTo>
                <a:lnTo>
                  <a:pt x="14067" y="12323"/>
                </a:lnTo>
                <a:cubicBezTo>
                  <a:pt x="14067" y="11496"/>
                  <a:pt x="14398" y="10800"/>
                  <a:pt x="14999" y="10800"/>
                </a:cubicBezTo>
                <a:cubicBezTo>
                  <a:pt x="16130" y="10800"/>
                  <a:pt x="17027" y="9434"/>
                  <a:pt x="17027" y="7849"/>
                </a:cubicBezTo>
                <a:cubicBezTo>
                  <a:pt x="17027" y="5534"/>
                  <a:pt x="15173" y="3794"/>
                  <a:pt x="12962" y="3794"/>
                </a:cubicBezTo>
                <a:cubicBezTo>
                  <a:pt x="10751" y="3794"/>
                  <a:pt x="9080" y="5534"/>
                  <a:pt x="9080" y="7849"/>
                </a:cubicBezTo>
                <a:lnTo>
                  <a:pt x="10934" y="7849"/>
                </a:lnTo>
                <a:cubicBezTo>
                  <a:pt x="10934" y="6709"/>
                  <a:pt x="11857" y="5821"/>
                  <a:pt x="12962" y="5821"/>
                </a:cubicBezTo>
                <a:cubicBezTo>
                  <a:pt x="14067" y="5821"/>
                  <a:pt x="14999" y="6709"/>
                  <a:pt x="14999" y="7849"/>
                </a:cubicBezTo>
                <a:cubicBezTo>
                  <a:pt x="14999" y="8589"/>
                  <a:pt x="14529" y="9320"/>
                  <a:pt x="14067" y="9320"/>
                </a:cubicBezTo>
                <a:cubicBezTo>
                  <a:pt x="12962" y="9320"/>
                  <a:pt x="11857" y="10800"/>
                  <a:pt x="11857" y="12323"/>
                </a:cubicBezTo>
                <a:lnTo>
                  <a:pt x="11857" y="14281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2"/>
          <p:cNvSpPr/>
          <p:nvPr/>
        </p:nvSpPr>
        <p:spPr>
          <a:xfrm>
            <a:off x="457200" y="304920"/>
            <a:ext cx="8244000" cy="13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Verdana"/>
              </a:rPr>
              <a:t>Построение точки, симметричной данно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16"/>
          <p:cNvSpPr/>
          <p:nvPr/>
        </p:nvSpPr>
        <p:spPr>
          <a:xfrm>
            <a:off x="6300720" y="6093000"/>
            <a:ext cx="180036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3300"/>
                </a:solidFill>
                <a:latin typeface="Verdana"/>
              </a:rPr>
              <a:t>Определен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AutoShape 17"/>
          <p:cNvSpPr/>
          <p:nvPr/>
        </p:nvSpPr>
        <p:spPr>
          <a:xfrm>
            <a:off x="8388360" y="6093000"/>
            <a:ext cx="431640" cy="360360"/>
          </a:xfrm>
          <a:custGeom>
            <a:avLst/>
            <a:gdLst>
              <a:gd name="textAreaLeft" fmla="*/ 23040 w 431640"/>
              <a:gd name="textAreaRight" fmla="*/ 408600 w 431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68" h="21600">
                <a:moveTo>
                  <a:pt x="0" y="0"/>
                </a:moveTo>
                <a:lnTo>
                  <a:pt x="25868" y="0"/>
                </a:lnTo>
                <a:lnTo>
                  <a:pt x="25868" y="21600"/>
                </a:lnTo>
                <a:lnTo>
                  <a:pt x="0" y="21600"/>
                </a:lnTo>
                <a:close/>
              </a:path>
              <a:path fill="lightenLess" w="25868" h="21600">
                <a:moveTo>
                  <a:pt x="0" y="0"/>
                </a:moveTo>
                <a:lnTo>
                  <a:pt x="25868" y="0"/>
                </a:lnTo>
                <a:lnTo>
                  <a:pt x="24468" y="1400"/>
                </a:lnTo>
                <a:lnTo>
                  <a:pt x="1400" y="1400"/>
                </a:lnTo>
                <a:close/>
              </a:path>
              <a:path fill="darken" w="25868" h="21600">
                <a:moveTo>
                  <a:pt x="25868" y="0"/>
                </a:moveTo>
                <a:lnTo>
                  <a:pt x="25868" y="21600"/>
                </a:lnTo>
                <a:lnTo>
                  <a:pt x="24468" y="20200"/>
                </a:lnTo>
                <a:lnTo>
                  <a:pt x="24468" y="1400"/>
                </a:lnTo>
                <a:close/>
              </a:path>
              <a:path fill="darkenLess" w="25868" h="21600">
                <a:moveTo>
                  <a:pt x="258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68" y="20200"/>
                </a:lnTo>
                <a:close/>
              </a:path>
              <a:path fill="lighten" w="258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68" h="21600">
                <a:moveTo>
                  <a:pt x="12934" y="3837"/>
                </a:moveTo>
                <a:lnTo>
                  <a:pt x="15510" y="6448"/>
                </a:lnTo>
                <a:lnTo>
                  <a:pt x="15510" y="4707"/>
                </a:lnTo>
                <a:lnTo>
                  <a:pt x="17286" y="4707"/>
                </a:lnTo>
                <a:lnTo>
                  <a:pt x="17286" y="8224"/>
                </a:lnTo>
                <a:lnTo>
                  <a:pt x="19897" y="10800"/>
                </a:lnTo>
                <a:lnTo>
                  <a:pt x="18243" y="10800"/>
                </a:lnTo>
                <a:lnTo>
                  <a:pt x="18243" y="17989"/>
                </a:lnTo>
                <a:lnTo>
                  <a:pt x="7625" y="17989"/>
                </a:lnTo>
                <a:lnTo>
                  <a:pt x="7625" y="10800"/>
                </a:lnTo>
                <a:lnTo>
                  <a:pt x="5971" y="10800"/>
                </a:lnTo>
                <a:close/>
              </a:path>
              <a:path fill="darkenLess" w="25868" h="21600">
                <a:moveTo>
                  <a:pt x="15510" y="6448"/>
                </a:moveTo>
                <a:lnTo>
                  <a:pt x="15510" y="4707"/>
                </a:lnTo>
                <a:lnTo>
                  <a:pt x="17286" y="4707"/>
                </a:lnTo>
                <a:lnTo>
                  <a:pt x="17286" y="8224"/>
                </a:lnTo>
                <a:close/>
              </a:path>
              <a:path fill="darkenLess" w="25868" h="21600">
                <a:moveTo>
                  <a:pt x="12012" y="14299"/>
                </a:moveTo>
                <a:lnTo>
                  <a:pt x="13857" y="14299"/>
                </a:lnTo>
                <a:lnTo>
                  <a:pt x="13857" y="17989"/>
                </a:lnTo>
                <a:lnTo>
                  <a:pt x="18243" y="17989"/>
                </a:lnTo>
                <a:lnTo>
                  <a:pt x="18243" y="10800"/>
                </a:lnTo>
                <a:lnTo>
                  <a:pt x="7625" y="10800"/>
                </a:lnTo>
                <a:lnTo>
                  <a:pt x="7625" y="17989"/>
                </a:lnTo>
                <a:lnTo>
                  <a:pt x="12012" y="1798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AutoShape 18">
            <a:hlinkClick r:id="" action="ppaction://hlinkshowjump?jump=previousslide"/>
          </p:cNvPr>
          <p:cNvSpPr/>
          <p:nvPr/>
        </p:nvSpPr>
        <p:spPr>
          <a:xfrm>
            <a:off x="5638680" y="6095880"/>
            <a:ext cx="446040" cy="357480"/>
          </a:xfrm>
          <a:custGeom>
            <a:avLst/>
            <a:gdLst>
              <a:gd name="textAreaLeft" fmla="*/ 23040 w 446040"/>
              <a:gd name="textAreaRight" fmla="*/ 423000 w 446040"/>
              <a:gd name="textAreaTop" fmla="*/ 23040 h 357480"/>
              <a:gd name="textAreaBottom" fmla="*/ 334440 h 357480"/>
            </a:gdLst>
            <a:ahLst/>
            <a:rect l="textAreaLeft" t="textAreaTop" r="textAreaRight" b="textAreaBottom"/>
            <a:pathLst>
              <a:path w="26946" h="21600">
                <a:moveTo>
                  <a:pt x="0" y="0"/>
                </a:moveTo>
                <a:lnTo>
                  <a:pt x="26946" y="0"/>
                </a:lnTo>
                <a:lnTo>
                  <a:pt x="26946" y="21600"/>
                </a:lnTo>
                <a:lnTo>
                  <a:pt x="0" y="21600"/>
                </a:lnTo>
                <a:close/>
              </a:path>
              <a:path fill="lightenLess" w="26946" h="21600">
                <a:moveTo>
                  <a:pt x="0" y="0"/>
                </a:moveTo>
                <a:lnTo>
                  <a:pt x="26946" y="0"/>
                </a:lnTo>
                <a:lnTo>
                  <a:pt x="25546" y="1400"/>
                </a:lnTo>
                <a:lnTo>
                  <a:pt x="1400" y="1400"/>
                </a:lnTo>
                <a:close/>
              </a:path>
              <a:path fill="darken" w="26946" h="21600">
                <a:moveTo>
                  <a:pt x="26946" y="0"/>
                </a:moveTo>
                <a:lnTo>
                  <a:pt x="26946" y="21600"/>
                </a:lnTo>
                <a:lnTo>
                  <a:pt x="25546" y="20200"/>
                </a:lnTo>
                <a:lnTo>
                  <a:pt x="25546" y="1400"/>
                </a:lnTo>
                <a:close/>
              </a:path>
              <a:path fill="darkenLess" w="26946" h="21600">
                <a:moveTo>
                  <a:pt x="269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46" y="20200"/>
                </a:lnTo>
                <a:close/>
              </a:path>
              <a:path fill="lighten" w="269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46" h="21600">
                <a:moveTo>
                  <a:pt x="6466" y="7493"/>
                </a:moveTo>
                <a:lnTo>
                  <a:pt x="9974" y="7493"/>
                </a:lnTo>
                <a:lnTo>
                  <a:pt x="9974" y="12828"/>
                </a:lnTo>
                <a:cubicBezTo>
                  <a:pt x="9974" y="13751"/>
                  <a:pt x="10775" y="14482"/>
                  <a:pt x="11810" y="14482"/>
                </a:cubicBezTo>
                <a:lnTo>
                  <a:pt x="13473" y="14482"/>
                </a:lnTo>
                <a:cubicBezTo>
                  <a:pt x="14509" y="14482"/>
                  <a:pt x="15309" y="13751"/>
                  <a:pt x="15309" y="12828"/>
                </a:cubicBezTo>
                <a:lnTo>
                  <a:pt x="15309" y="7493"/>
                </a:lnTo>
                <a:lnTo>
                  <a:pt x="13473" y="7493"/>
                </a:lnTo>
                <a:lnTo>
                  <a:pt x="16980" y="3985"/>
                </a:lnTo>
                <a:lnTo>
                  <a:pt x="20653" y="7493"/>
                </a:lnTo>
                <a:lnTo>
                  <a:pt x="18817" y="7493"/>
                </a:lnTo>
                <a:lnTo>
                  <a:pt x="18817" y="12828"/>
                </a:lnTo>
                <a:cubicBezTo>
                  <a:pt x="18817" y="15596"/>
                  <a:pt x="16241" y="18155"/>
                  <a:pt x="13473" y="18155"/>
                </a:cubicBezTo>
                <a:lnTo>
                  <a:pt x="11810" y="18155"/>
                </a:lnTo>
                <a:cubicBezTo>
                  <a:pt x="9043" y="18155"/>
                  <a:pt x="6466" y="15596"/>
                  <a:pt x="6466" y="12828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19"/>
          <p:cNvSpPr/>
          <p:nvPr/>
        </p:nvSpPr>
        <p:spPr>
          <a:xfrm>
            <a:off x="4876920" y="2971800"/>
            <a:ext cx="4267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ОМ = ОМ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М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– искомая точ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Line 22"/>
          <p:cNvSpPr/>
          <p:nvPr/>
        </p:nvSpPr>
        <p:spPr>
          <a:xfrm>
            <a:off x="685800" y="2209680"/>
            <a:ext cx="2895480" cy="190512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Object 23"/>
              <p:cNvSpPr txBox="1"/>
              <p:nvPr/>
            </p:nvSpPr>
            <p:spPr>
              <a:xfrm>
                <a:off x="609480" y="2133720"/>
                <a:ext cx="22860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Object 24"/>
              <p:cNvSpPr txBox="1"/>
              <p:nvPr/>
            </p:nvSpPr>
            <p:spPr>
              <a:xfrm>
                <a:off x="3505320" y="4038480"/>
                <a:ext cx="22860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51" name="Line 25"/>
          <p:cNvSpPr/>
          <p:nvPr/>
        </p:nvSpPr>
        <p:spPr>
          <a:xfrm flipH="1">
            <a:off x="1447560" y="2666880"/>
            <a:ext cx="75960" cy="152640"/>
          </a:xfrm>
          <a:prstGeom prst="line">
            <a:avLst/>
          </a:prstGeom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Line 26"/>
          <p:cNvSpPr/>
          <p:nvPr/>
        </p:nvSpPr>
        <p:spPr>
          <a:xfrm flipH="1">
            <a:off x="2819160" y="3581280"/>
            <a:ext cx="75960" cy="152640"/>
          </a:xfrm>
          <a:prstGeom prst="line">
            <a:avLst/>
          </a:prstGeom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" name="Object 27"/>
              <p:cNvSpPr txBox="1"/>
              <p:nvPr/>
            </p:nvSpPr>
            <p:spPr>
              <a:xfrm>
                <a:off x="2057400" y="3048120"/>
                <a:ext cx="22860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54" name="Text Box 28"/>
          <p:cNvSpPr/>
          <p:nvPr/>
        </p:nvSpPr>
        <p:spPr>
          <a:xfrm>
            <a:off x="1981080" y="2666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29"/>
          <p:cNvSpPr/>
          <p:nvPr/>
        </p:nvSpPr>
        <p:spPr>
          <a:xfrm>
            <a:off x="457200" y="17524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30"/>
          <p:cNvSpPr/>
          <p:nvPr/>
        </p:nvSpPr>
        <p:spPr>
          <a:xfrm>
            <a:off x="3200400" y="41911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500"/>
                            </p:stCondLst>
                            <p:childTnLst>
                              <p:par>
                                <p:cTn id="1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1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1500"/>
                            </p:stCondLst>
                            <p:childTnLst>
                              <p:par>
                                <p:cTn id="1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2000"/>
                            </p:stCondLst>
                            <p:childTnLst>
                              <p:par>
                                <p:cTn id="1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2500"/>
                            </p:stCondLst>
                            <p:childTnLst>
                              <p:par>
                                <p:cTn id="190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5000"/>
                            </p:stCondLst>
                            <p:childTnLst>
                              <p:par>
                                <p:cTn id="1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5500"/>
                            </p:stCondLst>
                            <p:childTnLst>
                              <p:par>
                                <p:cTn id="1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6000"/>
                            </p:stCondLst>
                            <p:childTnLst>
                              <p:par>
                                <p:cTn id="2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6500"/>
                            </p:stCondLst>
                            <p:childTnLst>
                              <p:par>
                                <p:cTn id="2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7000"/>
                            </p:stCondLst>
                            <p:childTnLst>
                              <p:par>
                                <p:cTn id="20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ser</dc:creator>
  <dc:description/>
  <dc:language>en-US</dc:language>
  <cp:lastModifiedBy>Музей</cp:lastModifiedBy>
  <dcterms:modified xsi:type="dcterms:W3CDTF">2013-10-07T10:24:46Z</dcterms:modified>
  <cp:revision>23</cp:revision>
  <dc:subject/>
  <dc:title>PowerPoint Presentation</dc:title>
</cp:coreProperties>
</file>