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077D-1DF9-461D-BE31-63D5A84AA0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3C43-50E8-4A51-8FED-29C9CB807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F423-61AB-495F-80D9-2E6D9C560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DEAE-A70F-4A2B-BB3A-566BB2C96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6618-9F04-4A7E-B579-2F0CA7C45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BFC0-E0B4-4B42-9A99-847202385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64C0-AAC1-4901-BFFB-D6EC82985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8AB7-45A3-43CC-BD91-9634B7086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782F-A7F7-40DA-A156-F0394BCBF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33E2-E250-4B30-B0E5-AD02334E4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5BA-BAD3-4D06-92C9-63D9881F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7C3-39FD-4DFE-A2B8-06B4CF73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DEAA6-0943-4AE3-98D9-07AF8053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8D47C-C6AE-4838-98D5-695929E4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51CF1-47D8-47C0-B268-3B226831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187F7-A2A7-41D3-83E3-C6E27308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8C532-A246-4D9C-A109-3BE54CE0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967E6-4F76-43EC-9470-7039894E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FD58F-A794-466F-93F5-39DDFC6C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D76E1-46B9-45E9-AA05-962A28FA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47D1F-61EF-4398-A832-347DD8CE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EF3CB-34EE-4998-A3D0-57F36883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CF4-D7B6-49AD-8A49-CFA67505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40509-0839-4D65-AF63-4CA7D2D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E58D7-9BED-4DEE-BCAB-16323F47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07139-563E-4BC3-BC10-ED86E426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3DFE5-8D28-448B-B3CE-A7C506C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ED741-781A-45F4-B062-60F83DAE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DAA42-6B59-4155-A1F6-5F2AAD4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23739-2D73-4E20-B119-73EE07DD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D9D37-05B1-4980-B5D0-540E35BF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9C862-EBE1-4683-A7CA-65426FE5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4632E-C056-4640-90D9-1F62BEDF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AD3-30A4-41B9-B1E9-1E136B62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D0187-846E-4C67-A71A-FAAA6746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4B393-60E5-4AB8-9172-933832B1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5F633-D9B8-4ADB-8852-8FBAB811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64F57-C099-4BD2-BD76-140FB3BA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67A68-A7CE-4F40-9EDC-218CAF82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A2222-2175-4E7D-8B4A-6EFA82DE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4A9FD-84F6-485E-9E08-B3A3400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B75FD-4CA8-4FD3-B441-DF8F498F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B9E0A-D06F-485C-8ED0-39571CBD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082BA-2290-430A-BB2F-9F6D01DE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2AA6-3E6F-49BD-8C59-B4746E68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1A388-B066-4DA5-A37B-A89C1832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D51E5-29EA-4FB6-8E8F-AD1E42B3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3C7D0-8164-4947-8F61-1C8F6B88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DC0D1-509E-41E9-8B24-31210061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C6CF4-4F29-40EA-9B16-16E559AA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B11BA-7BBE-4AE6-813C-CDD6B699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C66BD-CAD7-456F-8F35-BCA370BC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EA4FC-F46A-486F-9647-353C9D56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9D797-E579-46FA-835A-13FB34CE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AC371-1ABB-4456-B616-0D29EE7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9084-1C28-4FB8-8571-328C38F4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F73F5-1F40-42D2-958F-27DC675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A2B86-7CBB-4256-9102-CA5CC17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08B47-D09B-4AFF-8984-7E51C61C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D02BD-5C30-46AF-B5DF-0E886D83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04CE4-8AEA-4CE5-8962-D0CCAA0E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4D74-F9F0-4338-9007-B984BF36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EC87-0C39-4A96-B399-CEB95527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AD79-117A-4BD9-9EAA-93581A8C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A980-EC03-4BEF-8B9F-F39D382D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62B8-4E3B-427D-B2E7-BC7006E4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904-6F52-499A-8D81-7E246B6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5226-9D90-4D33-A903-325C574D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A619-EA78-4C8C-A5CA-D850D72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A204-28D9-4C6C-B3B5-40E3AAD7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A9FA-0CD2-4DA8-BBA3-BBAAD707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AA24-30C0-44F4-AD66-770212B0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4EDC-1723-4D03-80FA-90B66C20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D6A8-5C7A-42A5-ACA1-E2094CD0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3F68-5996-4A0C-A083-A5EC664F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A68E-61E3-4D9C-9A70-1F4B1DFE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CECD-8299-44F7-B08E-F53C3306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55E-BFF3-413B-8FEE-B479BA08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C4BA-FE9A-4443-BA2F-82573D28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7CC7-A690-420F-93B0-D7A25ADB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5C2F-72E6-4333-A915-1C9EA081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5ADF-A62B-499A-BEEA-CCB897B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9BB9-BE49-4003-8F05-629E9236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26AA-75F0-4A86-AA55-245ACA45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220B-11CB-46BF-81A1-EC02870D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1AB31-777F-4934-B08E-87F0D87C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CA61F-DD93-4E6A-A680-CDAB957F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CA71-A9BE-4599-B7A1-2EA63264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EAB-FB2D-415C-B13A-8A682722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9DEEF-E41B-4D30-9AA5-83CB852A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9EA2-5141-470F-8F4C-69059CF4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640D3-3AD5-4B73-8691-A847BB4C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F629-CE47-42B0-BAC8-E31C3504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6CFA-B3A6-4CB9-B755-2B42C98A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F444B-3FE8-4FDB-A3EE-B3EB5DF2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98145-4BC5-4459-89AA-EA9B496D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F895-4BB1-479F-8934-9DB3E4FA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6995-E4D7-4BB1-9CEC-C8546628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8B9B9-58AD-4F7B-B8E3-0486943B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F4C-4570-425F-A420-99267298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11FF-F935-4401-9AA2-84BA28DA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30960-10FF-47AF-9168-E75682FB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2AD4E-54AD-4640-887E-03FC743E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3748-4100-4C7C-B5ED-2381CC89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30865-3F5C-4A76-AEE9-728F00C0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9673C-6663-44E1-8562-6E88151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244A8-64A5-4E0E-BB57-5F3A0CCC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4B8B3-601A-4EE1-BA1A-9FBD5385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5191C-F267-4988-B65F-5AF767BE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84434-B516-4FAE-9542-E2B4FACC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940-AB45-4067-8B64-CE7A56E7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F3680-12F6-4D46-AE4A-F0521B95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AAE9-04FD-4393-A36C-477E0219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AD326-81FB-4E65-83F6-4695CFAC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AD167-0283-4955-BE22-1C0984C1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19EA-84AB-4C63-A4CC-31968A6C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42A7-730E-4647-ABC8-92C919CD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B1A5-CE54-41AA-994F-05FB367B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8C96-1DE8-4CAE-811F-8719663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31AD-A237-470B-834C-7B00D74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9AF0-B855-4EB4-A45C-8710F77B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D46-108C-45F9-9D6C-2EE1DD08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06035-EB40-493A-A375-BFC594FA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C7B2-F41A-4722-9475-08DF50AA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3DE45-7576-4F47-85F5-F9795F19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9D55-5595-4110-9D54-F139A56B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74B23-A706-4438-8220-4E0B7691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5CD68-B853-4D49-9626-A11CB5E5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451C2-C61A-4C3B-864A-3B939639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604E5-C935-43FB-9135-EF99FD7B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8656-EDEB-41E8-B1DF-B60665AA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E47B0-166A-4DE3-ABD8-73F9CAC2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037-F6BE-42D3-8DA9-471677AF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D666-3868-4EF7-A5E8-08887BB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2332-D68E-47A3-9CC5-6306715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48169-54DB-47ED-A0E0-7F5F698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30693-C29A-4778-885D-77E580A2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5D33C-07C8-4453-BF7E-901BC426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3ADF9-A59D-469D-B5D2-FBA60D36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1F8E5-55C6-4D17-BB7D-8CC1A9D2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FE8EF-72AD-4762-8195-0F3B5F03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5B199-806B-45EC-B58B-B988476A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B8FC7-2B7B-42E1-A068-7CE73992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F5D-D302-4034-8A25-0409EC71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ADC17-D719-45BC-A897-15AF523A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BAE00-A1A9-4C0D-AB8C-D44BAA54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CDEC3-EBB9-4D87-BE57-961B6A50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C8717-DBD4-4DD9-99EC-0F5C33F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5E07B-4524-40C7-877C-5FC7ADD5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7D364-899C-4C38-A0E2-8249D477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4C14A-3478-472E-B00A-9BA99A00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70822-6E4B-49E2-900E-4B750920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370A-9C3B-462A-808F-EEF1DF2A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C1B87-4D38-4275-A68E-C1E9F55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A0F-3222-46D3-9EA5-B0D2B99EC5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E44-4527-4DC4-ACF9-70B2C842FA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BA56-4F4E-4E40-9543-E23AF77698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0D7A-68AB-4C5D-B710-791735B3F3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4691-3209-4919-94CB-0FE7FB0561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44E4-E7E0-45A0-82CA-03D5ADB44C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8A8D-6097-4A58-8A26-709FD9B6AC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871E-7F85-4412-AC57-9BCD429B0D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A77F-E288-4B31-8BA3-0DE1632126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06DA-876F-42BE-857B-B8D0A1BCCC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66B7-4432-4C78-AEFB-E26F63EB42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B531-67B2-4BB6-97D7-CFB9AD1094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7"/>
          <p:cNvSpPr/>
          <p:nvPr/>
        </p:nvSpPr>
        <p:spPr>
          <a:xfrm>
            <a:off x="0" y="21337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Arial"/>
              </a:rPr>
              <a:t>ВОЗВЕДЕНИЕ ОДНОЧЛЕНА В СТЕПЕН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22"/>
          <p:cNvSpPr/>
          <p:nvPr/>
        </p:nvSpPr>
        <p:spPr>
          <a:xfrm>
            <a:off x="-181080" y="998640"/>
            <a:ext cx="1309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(ab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500" spc="-1" strike="noStrike" baseline="30000">
                <a:solidFill>
                  <a:srgbClr val="0000ff"/>
                </a:solidFill>
                <a:latin typeface="Bookman Old Style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0"/>
          <p:cNvSpPr/>
          <p:nvPr/>
        </p:nvSpPr>
        <p:spPr>
          <a:xfrm>
            <a:off x="971640" y="996840"/>
            <a:ext cx="42098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=(ab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∙(ab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∙(ab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∙(ab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1"/>
          <p:cNvSpPr/>
          <p:nvPr/>
        </p:nvSpPr>
        <p:spPr>
          <a:xfrm>
            <a:off x="4827600" y="998640"/>
            <a:ext cx="42084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=(a∙a∙a∙a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∙(b∙b∙b∙b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748720" y="998640"/>
            <a:ext cx="431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3276720" y="1628640"/>
            <a:ext cx="1739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=a</a:t>
            </a:r>
            <a:r>
              <a:rPr b="0" lang="en-US" sz="3500" spc="-1" strike="noStrike" baseline="30000">
                <a:solidFill>
                  <a:srgbClr val="0000ff"/>
                </a:solidFill>
                <a:latin typeface="Bookman Old Style"/>
              </a:rPr>
              <a:t>4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b</a:t>
            </a:r>
            <a:r>
              <a:rPr b="0" lang="en-US" sz="3500" spc="-1" strike="noStrike" baseline="30000">
                <a:solidFill>
                  <a:srgbClr val="0000ff"/>
                </a:solidFill>
                <a:latin typeface="Bookman Old Style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4"/>
          <p:cNvSpPr/>
          <p:nvPr/>
        </p:nvSpPr>
        <p:spPr>
          <a:xfrm>
            <a:off x="0" y="2487600"/>
            <a:ext cx="91440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Если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a 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и</a:t>
            </a:r>
            <a:r>
              <a:rPr b="0" lang="ru-RU" sz="2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b </a:t>
            </a:r>
            <a:r>
              <a:rPr b="0" lang="en-US" sz="2600" spc="-1" strike="noStrike">
                <a:solidFill>
                  <a:srgbClr val="008000"/>
                </a:solidFill>
                <a:latin typeface="Bookman Old Style"/>
              </a:rPr>
              <a:t>– 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произвольные числа и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n 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– натуральное число</a:t>
            </a:r>
            <a:r>
              <a:rPr b="0" lang="ru-RU" sz="2600" spc="-1" strike="noStrike">
                <a:solidFill>
                  <a:srgbClr val="ff0000"/>
                </a:solidFill>
                <a:latin typeface="Bookman Old Style"/>
              </a:rPr>
              <a:t>, 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(ab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5"/>
          <p:cNvSpPr/>
          <p:nvPr/>
        </p:nvSpPr>
        <p:spPr>
          <a:xfrm>
            <a:off x="-264960" y="4437000"/>
            <a:ext cx="130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(ab</a:t>
            </a:r>
            <a:r>
              <a:rPr b="0" lang="ru-RU" sz="30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6"/>
          <p:cNvSpPr/>
          <p:nvPr/>
        </p:nvSpPr>
        <p:spPr>
          <a:xfrm>
            <a:off x="938160" y="4435560"/>
            <a:ext cx="421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=(ab</a:t>
            </a:r>
            <a:r>
              <a:rPr b="0" lang="ru-RU" sz="30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∙(ab</a:t>
            </a:r>
            <a:r>
              <a:rPr b="0" lang="ru-RU" sz="30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∙…∙(ab</a:t>
            </a:r>
            <a:r>
              <a:rPr b="0" lang="ru-RU" sz="3000" spc="-1" strike="noStrike">
                <a:solidFill>
                  <a:srgbClr val="ff0000"/>
                </a:solidFill>
                <a:latin typeface="Bookman Old Style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7"/>
          <p:cNvSpPr/>
          <p:nvPr/>
        </p:nvSpPr>
        <p:spPr>
          <a:xfrm>
            <a:off x="3995640" y="443700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=(a∙a∙…∙a</a:t>
            </a:r>
            <a:r>
              <a:rPr b="0" lang="ru-RU" sz="30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∙(b∙b∙…∙b</a:t>
            </a:r>
            <a:r>
              <a:rPr b="0" lang="ru-RU" sz="3000" spc="-1" strike="noStrike">
                <a:solidFill>
                  <a:srgbClr val="ff0000"/>
                </a:solidFill>
                <a:latin typeface="Bookman Old Style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8"/>
          <p:cNvSpPr/>
          <p:nvPr/>
        </p:nvSpPr>
        <p:spPr>
          <a:xfrm>
            <a:off x="7451640" y="4437000"/>
            <a:ext cx="144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b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авая фигурная скобка 23"/>
          <p:cNvSpPr/>
          <p:nvPr/>
        </p:nvSpPr>
        <p:spPr>
          <a:xfrm flipH="1" rot="16200000">
            <a:off x="5004720" y="4298040"/>
            <a:ext cx="363600" cy="1650960"/>
          </a:xfrm>
          <a:custGeom>
            <a:avLst/>
            <a:gdLst>
              <a:gd name="textAreaLeft" fmla="*/ 360 w 363600"/>
              <a:gd name="textAreaRight" fmla="*/ 131760 w 363600"/>
              <a:gd name="textAreaTop" fmla="*/ 9360 h 1650960"/>
              <a:gd name="textAreaBottom" fmla="*/ 1641600 h 165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404"/>
                </a:lnTo>
                <a:cubicBezTo>
                  <a:pt x="10800" y="10602"/>
                  <a:pt x="16200" y="10800"/>
                  <a:pt x="21600" y="10800"/>
                </a:cubicBezTo>
                <a:cubicBezTo>
                  <a:pt x="16200" y="10800"/>
                  <a:pt x="10800" y="10998"/>
                  <a:pt x="10800" y="11196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4"/>
          <p:cNvSpPr/>
          <p:nvPr/>
        </p:nvSpPr>
        <p:spPr>
          <a:xfrm>
            <a:off x="4361040" y="5241960"/>
            <a:ext cx="165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Bookman Old Style"/>
              </a:rPr>
              <a:t>n</a:t>
            </a:r>
            <a:r>
              <a:rPr b="0" lang="ru-RU" sz="2600" spc="-1" strike="noStrike">
                <a:solidFill>
                  <a:srgbClr val="0000ff"/>
                </a:solidFill>
                <a:latin typeface="Bookman Old Style"/>
              </a:rPr>
              <a:t> ра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авая фигурная скобка 25"/>
          <p:cNvSpPr/>
          <p:nvPr/>
        </p:nvSpPr>
        <p:spPr>
          <a:xfrm flipH="1" rot="16200000">
            <a:off x="6727320" y="4297680"/>
            <a:ext cx="363600" cy="1651320"/>
          </a:xfrm>
          <a:custGeom>
            <a:avLst/>
            <a:gdLst>
              <a:gd name="textAreaLeft" fmla="*/ 360 w 363600"/>
              <a:gd name="textAreaRight" fmla="*/ 131760 w 363600"/>
              <a:gd name="textAreaTop" fmla="*/ 9360 h 1651320"/>
              <a:gd name="textAreaBottom" fmla="*/ 1641960 h 165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404"/>
                </a:lnTo>
                <a:cubicBezTo>
                  <a:pt x="10800" y="10602"/>
                  <a:pt x="16200" y="10800"/>
                  <a:pt x="21600" y="10800"/>
                </a:cubicBezTo>
                <a:cubicBezTo>
                  <a:pt x="16200" y="10800"/>
                  <a:pt x="10800" y="10998"/>
                  <a:pt x="10800" y="11196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6"/>
          <p:cNvSpPr/>
          <p:nvPr/>
        </p:nvSpPr>
        <p:spPr>
          <a:xfrm>
            <a:off x="6084720" y="5241960"/>
            <a:ext cx="165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Bookman Old Style"/>
              </a:rPr>
              <a:t>n</a:t>
            </a:r>
            <a:r>
              <a:rPr b="0" lang="ru-RU" sz="2600" spc="-1" strike="noStrike">
                <a:solidFill>
                  <a:srgbClr val="0000ff"/>
                </a:solidFill>
                <a:latin typeface="Bookman Old Style"/>
              </a:rPr>
              <a:t> ра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авая фигурная скобка 27"/>
          <p:cNvSpPr/>
          <p:nvPr/>
        </p:nvSpPr>
        <p:spPr>
          <a:xfrm flipH="1" rot="16200000">
            <a:off x="2517840" y="3682800"/>
            <a:ext cx="363600" cy="2881440"/>
          </a:xfrm>
          <a:custGeom>
            <a:avLst/>
            <a:gdLst>
              <a:gd name="textAreaLeft" fmla="*/ 360 w 363600"/>
              <a:gd name="textAreaRight" fmla="*/ 131760 w 363600"/>
              <a:gd name="textAreaTop" fmla="*/ 9360 h 2881440"/>
              <a:gd name="textAreaBottom" fmla="*/ 287208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4"/>
                  <a:pt x="10800" y="227"/>
                </a:cubicBezTo>
                <a:lnTo>
                  <a:pt x="10800" y="10573"/>
                </a:lnTo>
                <a:cubicBezTo>
                  <a:pt x="10800" y="10687"/>
                  <a:pt x="16200" y="10800"/>
                  <a:pt x="21600" y="10800"/>
                </a:cubicBezTo>
                <a:cubicBezTo>
                  <a:pt x="16200" y="10800"/>
                  <a:pt x="10800" y="10914"/>
                  <a:pt x="10800" y="11027"/>
                </a:cubicBezTo>
                <a:lnTo>
                  <a:pt x="10800" y="21373"/>
                </a:lnTo>
                <a:cubicBezTo>
                  <a:pt x="10800" y="21487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8"/>
          <p:cNvSpPr/>
          <p:nvPr/>
        </p:nvSpPr>
        <p:spPr>
          <a:xfrm>
            <a:off x="1258920" y="5241960"/>
            <a:ext cx="28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Bookman Old Style"/>
              </a:rPr>
              <a:t>n</a:t>
            </a:r>
            <a:r>
              <a:rPr b="0" lang="ru-RU" sz="2600" spc="-1" strike="noStrike">
                <a:solidFill>
                  <a:srgbClr val="0000ff"/>
                </a:solidFill>
                <a:latin typeface="Bookman Old Style"/>
              </a:rPr>
              <a:t> ра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15"/>
          <p:cNvSpPr/>
          <p:nvPr/>
        </p:nvSpPr>
        <p:spPr>
          <a:xfrm>
            <a:off x="2987640" y="984240"/>
            <a:ext cx="13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(abc</a:t>
            </a:r>
            <a:r>
              <a:rPr b="0" lang="ru-RU" sz="30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4211640" y="984240"/>
            <a:ext cx="18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b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c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9"/>
          <p:cNvSpPr/>
          <p:nvPr/>
        </p:nvSpPr>
        <p:spPr>
          <a:xfrm>
            <a:off x="2556000" y="1798560"/>
            <a:ext cx="174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(abcd</a:t>
            </a:r>
            <a:r>
              <a:rPr b="0" lang="ru-RU" sz="30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0"/>
          <p:cNvSpPr/>
          <p:nvPr/>
        </p:nvSpPr>
        <p:spPr>
          <a:xfrm>
            <a:off x="4211640" y="1798560"/>
            <a:ext cx="23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b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c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d</a:t>
            </a:r>
            <a:r>
              <a:rPr b="0" lang="en-US" sz="30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1"/>
          <p:cNvSpPr/>
          <p:nvPr/>
        </p:nvSpPr>
        <p:spPr>
          <a:xfrm>
            <a:off x="0" y="3071880"/>
            <a:ext cx="9142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ЧТОБЫ </a:t>
            </a:r>
            <a:r>
              <a:rPr b="0" i="1" lang="ru-RU" sz="2600" spc="-1" strike="noStrike">
                <a:solidFill>
                  <a:srgbClr val="ff0000"/>
                </a:solidFill>
                <a:latin typeface="Bookman Old Style"/>
              </a:rPr>
              <a:t>ВОЗВЕСТИ В СТЕПЕНЬ ПРОИЗВЕДЕНИЕ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, НУЖНО ВОЗВЕСТИ В ЭТУ СТЕПЕНЬ КАЖДЫЙ МНОЖИТЕЛЬ И РЕЗУЛЬТАТЫ ПЕРЕМНОЖИ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22"/>
          <p:cNvSpPr/>
          <p:nvPr/>
        </p:nvSpPr>
        <p:spPr>
          <a:xfrm>
            <a:off x="1116000" y="838080"/>
            <a:ext cx="1308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(a</a:t>
            </a:r>
            <a:r>
              <a:rPr b="0" lang="ru-RU" sz="3500" spc="-1" strike="noStrike" baseline="30000">
                <a:solidFill>
                  <a:srgbClr val="0000ff"/>
                </a:solidFill>
                <a:latin typeface="Bookman Old Style"/>
              </a:rPr>
              <a:t>5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500" spc="-1" strike="noStrike" baseline="30000">
                <a:solidFill>
                  <a:srgbClr val="0000ff"/>
                </a:solidFill>
                <a:latin typeface="Bookman Old Style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0"/>
          <p:cNvSpPr/>
          <p:nvPr/>
        </p:nvSpPr>
        <p:spPr>
          <a:xfrm>
            <a:off x="2268360" y="836640"/>
            <a:ext cx="4208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=a</a:t>
            </a:r>
            <a:r>
              <a:rPr b="0" lang="ru-RU" sz="3500" spc="-1" strike="noStrike" baseline="30000">
                <a:solidFill>
                  <a:srgbClr val="0000ff"/>
                </a:solidFill>
                <a:latin typeface="Bookman Old Style"/>
              </a:rPr>
              <a:t>5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∙a</a:t>
            </a:r>
            <a:r>
              <a:rPr b="0" lang="ru-RU" sz="3500" spc="-1" strike="noStrike" baseline="30000">
                <a:solidFill>
                  <a:srgbClr val="0000ff"/>
                </a:solidFill>
                <a:latin typeface="Bookman Old Style"/>
              </a:rPr>
              <a:t>5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∙a</a:t>
            </a:r>
            <a:r>
              <a:rPr b="0" lang="ru-RU" sz="3500" spc="-1" strike="noStrike" baseline="30000">
                <a:solidFill>
                  <a:srgbClr val="0000ff"/>
                </a:solidFill>
                <a:latin typeface="Bookman Old Style"/>
              </a:rPr>
              <a:t>5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∙a</a:t>
            </a:r>
            <a:r>
              <a:rPr b="0" lang="ru-RU" sz="3500" spc="-1" strike="noStrike" baseline="30000">
                <a:solidFill>
                  <a:srgbClr val="0000ff"/>
                </a:solidFill>
                <a:latin typeface="Bookman Old Style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1"/>
          <p:cNvSpPr/>
          <p:nvPr/>
        </p:nvSpPr>
        <p:spPr>
          <a:xfrm>
            <a:off x="4788000" y="838080"/>
            <a:ext cx="208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=a</a:t>
            </a:r>
            <a:r>
              <a:rPr b="0" lang="ru-RU" sz="3500" spc="-1" strike="noStrike" baseline="30000">
                <a:solidFill>
                  <a:srgbClr val="0000ff"/>
                </a:solidFill>
                <a:latin typeface="Bookman Old Style"/>
              </a:rPr>
              <a:t>5+5+5+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6659640" y="838080"/>
            <a:ext cx="12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=a</a:t>
            </a:r>
            <a:r>
              <a:rPr b="0" lang="ru-RU" sz="3500" spc="-1" strike="noStrike" baseline="30000">
                <a:solidFill>
                  <a:srgbClr val="0000ff"/>
                </a:solidFill>
                <a:latin typeface="Bookman Old Style"/>
              </a:rPr>
              <a:t>2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4"/>
          <p:cNvSpPr/>
          <p:nvPr/>
        </p:nvSpPr>
        <p:spPr>
          <a:xfrm>
            <a:off x="0" y="2487600"/>
            <a:ext cx="91440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Если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a </a:t>
            </a:r>
            <a:r>
              <a:rPr b="0" lang="en-US" sz="2600" spc="-1" strike="noStrike">
                <a:solidFill>
                  <a:srgbClr val="008000"/>
                </a:solidFill>
                <a:latin typeface="Bookman Old Style"/>
              </a:rPr>
              <a:t>– 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произвольное число,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m 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и</a:t>
            </a:r>
            <a:r>
              <a:rPr b="0" lang="ru-RU" sz="2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n 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– любые натуральные числа,</a:t>
            </a:r>
            <a:r>
              <a:rPr b="0" lang="ru-RU" sz="2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(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авая фигурная скобка 23"/>
          <p:cNvSpPr/>
          <p:nvPr/>
        </p:nvSpPr>
        <p:spPr>
          <a:xfrm rot="16200000">
            <a:off x="6338880" y="4042800"/>
            <a:ext cx="360360" cy="17226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722600"/>
              <a:gd name="textAreaBottom" fmla="*/ 1713240 h 172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16200" y="10800"/>
                  <a:pt x="21600" y="10800"/>
                </a:cubicBezTo>
                <a:cubicBezTo>
                  <a:pt x="162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24"/>
          <p:cNvSpPr/>
          <p:nvPr/>
        </p:nvSpPr>
        <p:spPr>
          <a:xfrm>
            <a:off x="5651640" y="4221000"/>
            <a:ext cx="172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Bookman Old Style"/>
              </a:rPr>
              <a:t>n</a:t>
            </a:r>
            <a:r>
              <a:rPr b="0" lang="ru-RU" sz="2600" spc="-1" strike="noStrike">
                <a:solidFill>
                  <a:srgbClr val="0000ff"/>
                </a:solidFill>
                <a:latin typeface="Bookman Old Style"/>
              </a:rPr>
              <a:t> ра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авая фигурная скобка 27"/>
          <p:cNvSpPr/>
          <p:nvPr/>
        </p:nvSpPr>
        <p:spPr>
          <a:xfrm flipH="1" rot="16200000">
            <a:off x="3670200" y="4473720"/>
            <a:ext cx="363600" cy="2449440"/>
          </a:xfrm>
          <a:custGeom>
            <a:avLst/>
            <a:gdLst>
              <a:gd name="textAreaLeft" fmla="*/ 360 w 363600"/>
              <a:gd name="textAreaRight" fmla="*/ 131760 w 363600"/>
              <a:gd name="textAreaTop" fmla="*/ 9360 h 2449440"/>
              <a:gd name="textAreaBottom" fmla="*/ 244008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7"/>
                </a:cubicBezTo>
                <a:lnTo>
                  <a:pt x="10800" y="10533"/>
                </a:lnTo>
                <a:cubicBezTo>
                  <a:pt x="10800" y="10667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7"/>
                </a:cubicBezTo>
                <a:lnTo>
                  <a:pt x="10800" y="21333"/>
                </a:lnTo>
                <a:cubicBezTo>
                  <a:pt x="10800" y="21467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2627280" y="5816520"/>
            <a:ext cx="244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Bookman Old Style"/>
              </a:rPr>
              <a:t>n</a:t>
            </a:r>
            <a:r>
              <a:rPr b="0" lang="ru-RU" sz="2600" spc="-1" strike="noStrike">
                <a:solidFill>
                  <a:srgbClr val="0000ff"/>
                </a:solidFill>
                <a:latin typeface="Bookman Old Style"/>
              </a:rPr>
              <a:t> ра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9"/>
          <p:cNvSpPr/>
          <p:nvPr/>
        </p:nvSpPr>
        <p:spPr>
          <a:xfrm>
            <a:off x="1116000" y="4959360"/>
            <a:ext cx="1308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(a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0"/>
          <p:cNvSpPr/>
          <p:nvPr/>
        </p:nvSpPr>
        <p:spPr>
          <a:xfrm>
            <a:off x="2268360" y="4957920"/>
            <a:ext cx="4208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∙a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∙…∙a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1"/>
          <p:cNvSpPr/>
          <p:nvPr/>
        </p:nvSpPr>
        <p:spPr>
          <a:xfrm>
            <a:off x="5076720" y="4957920"/>
            <a:ext cx="2374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ru-RU" sz="3500" spc="-1" strike="noStrike" baseline="30000">
                <a:solidFill>
                  <a:srgbClr val="ff0000"/>
                </a:solidFill>
                <a:latin typeface="Bookman Old Style"/>
              </a:rPr>
              <a:t>+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ru-RU" sz="3500" spc="-1" strike="noStrike" baseline="30000">
                <a:solidFill>
                  <a:srgbClr val="ff0000"/>
                </a:solidFill>
                <a:latin typeface="Bookman Old Style"/>
              </a:rPr>
              <a:t>+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…</a:t>
            </a:r>
            <a:r>
              <a:rPr b="0" lang="ru-RU" sz="3500" spc="-1" strike="noStrike" baseline="30000">
                <a:solidFill>
                  <a:srgbClr val="ff0000"/>
                </a:solidFill>
                <a:latin typeface="Bookman Old Style"/>
              </a:rPr>
              <a:t>+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9"/>
          <p:cNvSpPr/>
          <p:nvPr/>
        </p:nvSpPr>
        <p:spPr>
          <a:xfrm>
            <a:off x="7308720" y="4957920"/>
            <a:ext cx="1295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m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Box 21"/>
          <p:cNvSpPr/>
          <p:nvPr/>
        </p:nvSpPr>
        <p:spPr>
          <a:xfrm>
            <a:off x="0" y="2349360"/>
            <a:ext cx="9142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ЧТОБЫ </a:t>
            </a:r>
            <a:r>
              <a:rPr b="0" i="1" lang="ru-RU" sz="2600" spc="-1" strike="noStrike">
                <a:solidFill>
                  <a:srgbClr val="ff0000"/>
                </a:solidFill>
                <a:latin typeface="Bookman Old Style"/>
              </a:rPr>
              <a:t>ВОЗВЕСТИ СТЕПЕНЬ В СТЕПЕНЬ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, НУЖНО ОСНОВАНИЕ ОСТАВИТЬ ТЕМ ЖЕ, А ПОКАЗАТЕЛИ СТЕПЕНЕЙ ПЕРЕМНОЖИ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авая фигурная скобка 27"/>
          <p:cNvSpPr/>
          <p:nvPr/>
        </p:nvSpPr>
        <p:spPr>
          <a:xfrm flipH="1" rot="16200000">
            <a:off x="4451400" y="911160"/>
            <a:ext cx="363600" cy="2519280"/>
          </a:xfrm>
          <a:custGeom>
            <a:avLst/>
            <a:gdLst>
              <a:gd name="textAreaLeft" fmla="*/ 360 w 363600"/>
              <a:gd name="textAreaRight" fmla="*/ 131760 w 363600"/>
              <a:gd name="textAreaTop" fmla="*/ 9360 h 2519280"/>
              <a:gd name="textAreaBottom" fmla="*/ 250992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0"/>
                  <a:pt x="10800" y="260"/>
                </a:cubicBezTo>
                <a:lnTo>
                  <a:pt x="10800" y="10540"/>
                </a:lnTo>
                <a:cubicBezTo>
                  <a:pt x="10800" y="10670"/>
                  <a:pt x="16200" y="10800"/>
                  <a:pt x="21600" y="10800"/>
                </a:cubicBezTo>
                <a:cubicBezTo>
                  <a:pt x="16200" y="10800"/>
                  <a:pt x="10800" y="10930"/>
                  <a:pt x="10800" y="11060"/>
                </a:cubicBezTo>
                <a:lnTo>
                  <a:pt x="10800" y="21340"/>
                </a:lnTo>
                <a:cubicBezTo>
                  <a:pt x="10800" y="2147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28"/>
          <p:cNvSpPr/>
          <p:nvPr/>
        </p:nvSpPr>
        <p:spPr>
          <a:xfrm>
            <a:off x="3373560" y="2289240"/>
            <a:ext cx="253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Bookman Old Style"/>
              </a:rPr>
              <a:t>n</a:t>
            </a:r>
            <a:r>
              <a:rPr b="0" lang="ru-RU" sz="2600" spc="-1" strike="noStrike">
                <a:solidFill>
                  <a:srgbClr val="0000ff"/>
                </a:solidFill>
                <a:latin typeface="Bookman Old Style"/>
              </a:rPr>
              <a:t> ра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9"/>
          <p:cNvSpPr/>
          <p:nvPr/>
        </p:nvSpPr>
        <p:spPr>
          <a:xfrm>
            <a:off x="2136600" y="1052640"/>
            <a:ext cx="1163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0"/>
          <p:cNvSpPr/>
          <p:nvPr/>
        </p:nvSpPr>
        <p:spPr>
          <a:xfrm>
            <a:off x="2941560" y="1285920"/>
            <a:ext cx="3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Левая круглая скобка 16"/>
          <p:cNvSpPr/>
          <p:nvPr/>
        </p:nvSpPr>
        <p:spPr>
          <a:xfrm>
            <a:off x="2136600" y="1251000"/>
            <a:ext cx="216000" cy="863640"/>
          </a:xfrm>
          <a:custGeom>
            <a:avLst/>
            <a:gdLst>
              <a:gd name="textAreaLeft" fmla="*/ 63360 w 216000"/>
              <a:gd name="textAreaRight" fmla="*/ 216360 w 216000"/>
              <a:gd name="textAreaTop" fmla="*/ 9000 h 863640"/>
              <a:gd name="textAreaBottom" fmla="*/ 855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5"/>
                  <a:pt x="0" y="450"/>
                </a:cubicBezTo>
                <a:lnTo>
                  <a:pt x="0" y="21150"/>
                </a:lnTo>
                <a:cubicBezTo>
                  <a:pt x="0" y="21375"/>
                  <a:pt x="10800" y="21600"/>
                  <a:pt x="21600" y="21600"/>
                </a:cubicBezTo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18"/>
          <p:cNvSpPr/>
          <p:nvPr/>
        </p:nvSpPr>
        <p:spPr>
          <a:xfrm>
            <a:off x="2244600" y="1611360"/>
            <a:ext cx="503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25"/>
          <p:cNvSpPr/>
          <p:nvPr/>
        </p:nvSpPr>
        <p:spPr>
          <a:xfrm>
            <a:off x="2087640" y="1555920"/>
            <a:ext cx="768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Левая круглая скобка 26"/>
          <p:cNvSpPr/>
          <p:nvPr/>
        </p:nvSpPr>
        <p:spPr>
          <a:xfrm flipH="1">
            <a:off x="2639880" y="1251000"/>
            <a:ext cx="216000" cy="863640"/>
          </a:xfrm>
          <a:custGeom>
            <a:avLst/>
            <a:gdLst>
              <a:gd name="textAreaLeft" fmla="*/ 63720 w 216000"/>
              <a:gd name="textAreaRight" fmla="*/ 216720 w 216000"/>
              <a:gd name="textAreaTop" fmla="*/ 9000 h 863640"/>
              <a:gd name="textAreaBottom" fmla="*/ 855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5"/>
                  <a:pt x="0" y="450"/>
                </a:cubicBezTo>
                <a:lnTo>
                  <a:pt x="0" y="21150"/>
                </a:lnTo>
                <a:cubicBezTo>
                  <a:pt x="0" y="21375"/>
                  <a:pt x="10800" y="21600"/>
                  <a:pt x="21600" y="21600"/>
                </a:cubicBezTo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4"/>
          <p:cNvSpPr/>
          <p:nvPr/>
        </p:nvSpPr>
        <p:spPr>
          <a:xfrm>
            <a:off x="3276720" y="1052640"/>
            <a:ext cx="72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36"/>
          <p:cNvSpPr/>
          <p:nvPr/>
        </p:nvSpPr>
        <p:spPr>
          <a:xfrm>
            <a:off x="3384720" y="1611360"/>
            <a:ext cx="504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37"/>
          <p:cNvSpPr/>
          <p:nvPr/>
        </p:nvSpPr>
        <p:spPr>
          <a:xfrm>
            <a:off x="3228840" y="1555920"/>
            <a:ext cx="768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42"/>
          <p:cNvSpPr/>
          <p:nvPr/>
        </p:nvSpPr>
        <p:spPr>
          <a:xfrm>
            <a:off x="3828960" y="1285920"/>
            <a:ext cx="36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∙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43"/>
          <p:cNvSpPr/>
          <p:nvPr/>
        </p:nvSpPr>
        <p:spPr>
          <a:xfrm>
            <a:off x="3997440" y="1052640"/>
            <a:ext cx="71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ая соединительная линия 44"/>
          <p:cNvSpPr/>
          <p:nvPr/>
        </p:nvSpPr>
        <p:spPr>
          <a:xfrm>
            <a:off x="4105440" y="1611360"/>
            <a:ext cx="502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45"/>
          <p:cNvSpPr/>
          <p:nvPr/>
        </p:nvSpPr>
        <p:spPr>
          <a:xfrm>
            <a:off x="3948120" y="1555920"/>
            <a:ext cx="768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46"/>
          <p:cNvSpPr/>
          <p:nvPr/>
        </p:nvSpPr>
        <p:spPr>
          <a:xfrm>
            <a:off x="4548240" y="1303200"/>
            <a:ext cx="9842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∙…∙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7"/>
          <p:cNvSpPr/>
          <p:nvPr/>
        </p:nvSpPr>
        <p:spPr>
          <a:xfrm>
            <a:off x="5292720" y="1071720"/>
            <a:ext cx="72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ая соединительная линия 48"/>
          <p:cNvSpPr/>
          <p:nvPr/>
        </p:nvSpPr>
        <p:spPr>
          <a:xfrm>
            <a:off x="5400720" y="1628640"/>
            <a:ext cx="504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9"/>
          <p:cNvSpPr/>
          <p:nvPr/>
        </p:nvSpPr>
        <p:spPr>
          <a:xfrm>
            <a:off x="5245200" y="1574640"/>
            <a:ext cx="768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50"/>
          <p:cNvSpPr/>
          <p:nvPr/>
        </p:nvSpPr>
        <p:spPr>
          <a:xfrm>
            <a:off x="5892840" y="1303200"/>
            <a:ext cx="35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51"/>
          <p:cNvSpPr/>
          <p:nvPr/>
        </p:nvSpPr>
        <p:spPr>
          <a:xfrm>
            <a:off x="6227640" y="1071720"/>
            <a:ext cx="72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ая соединительная линия 52"/>
          <p:cNvSpPr/>
          <p:nvPr/>
        </p:nvSpPr>
        <p:spPr>
          <a:xfrm>
            <a:off x="6335640" y="1628640"/>
            <a:ext cx="504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3"/>
          <p:cNvSpPr/>
          <p:nvPr/>
        </p:nvSpPr>
        <p:spPr>
          <a:xfrm>
            <a:off x="6180120" y="1574640"/>
            <a:ext cx="768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b</a:t>
            </a:r>
            <a:r>
              <a:rPr b="0" lang="en-US" sz="35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4"/>
          <p:cNvSpPr/>
          <p:nvPr/>
        </p:nvSpPr>
        <p:spPr>
          <a:xfrm>
            <a:off x="0" y="3357720"/>
            <a:ext cx="9142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ЧТОБЫ </a:t>
            </a:r>
            <a:r>
              <a:rPr b="0" i="1" lang="ru-RU" sz="2600" spc="-1" strike="noStrike">
                <a:solidFill>
                  <a:srgbClr val="ff0000"/>
                </a:solidFill>
                <a:latin typeface="Bookman Old Style"/>
              </a:rPr>
              <a:t>ВОЗВЕСТИ В СТЕПЕНЬ ДРОБЬ</a:t>
            </a:r>
            <a:r>
              <a:rPr b="0" lang="ru-RU" sz="2600" spc="-1" strike="noStrike">
                <a:solidFill>
                  <a:srgbClr val="008000"/>
                </a:solidFill>
                <a:latin typeface="Bookman Old Style"/>
              </a:rPr>
              <a:t>, НУЖНО ВОЗВЕСТИ В ЭТУ СТЕПЕНЬ ЧИСЛИТЕЛЬ И ЗНАМЕНАТЕЛЬ, ПЕРВОЕ ВЫРАЖЕНИЕ ЗАПИСАТЬ В ЧИСЛИТЕЛЬ, А ВТОРОЕ – В ЗНАМЕН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22"/>
          <p:cNvSpPr/>
          <p:nvPr/>
        </p:nvSpPr>
        <p:spPr>
          <a:xfrm>
            <a:off x="0" y="1917720"/>
            <a:ext cx="91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Bookman Old Style"/>
              </a:rPr>
              <a:t>Возведем одночлен 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-3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b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2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ru-RU" sz="3000" spc="-1" strike="noStrike">
                <a:solidFill>
                  <a:srgbClr val="008000"/>
                </a:solidFill>
                <a:latin typeface="Bookman Old Style"/>
              </a:rPr>
              <a:t>в шестую степен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8"/>
          <p:cNvSpPr/>
          <p:nvPr/>
        </p:nvSpPr>
        <p:spPr>
          <a:xfrm>
            <a:off x="0" y="1413000"/>
            <a:ext cx="914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Bookman Old Style"/>
              </a:rPr>
              <a:t>ПРИМЕР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539640" y="316224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(-3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b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2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2771640" y="3162240"/>
            <a:ext cx="31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=(-3)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6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∙(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6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∙(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b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2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4"/>
          <p:cNvSpPr/>
          <p:nvPr/>
        </p:nvSpPr>
        <p:spPr>
          <a:xfrm>
            <a:off x="5651640" y="3162240"/>
            <a:ext cx="23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=729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18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b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22"/>
          <p:cNvSpPr/>
          <p:nvPr/>
        </p:nvSpPr>
        <p:spPr>
          <a:xfrm>
            <a:off x="0" y="1917720"/>
            <a:ext cx="91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Bookman Old Style"/>
              </a:rPr>
              <a:t>Возведем одночлен 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–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x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4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y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z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ru-RU" sz="3000" spc="-1" strike="noStrike">
                <a:solidFill>
                  <a:srgbClr val="008000"/>
                </a:solidFill>
                <a:latin typeface="Bookman Old Style"/>
              </a:rPr>
              <a:t>в третью степен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8"/>
          <p:cNvSpPr/>
          <p:nvPr/>
        </p:nvSpPr>
        <p:spPr>
          <a:xfrm>
            <a:off x="0" y="1413000"/>
            <a:ext cx="914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Bookman Old Style"/>
              </a:rPr>
              <a:t>ПРИМЕР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2"/>
          <p:cNvSpPr/>
          <p:nvPr/>
        </p:nvSpPr>
        <p:spPr>
          <a:xfrm>
            <a:off x="539640" y="316224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(–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x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4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y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z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2771640" y="3162240"/>
            <a:ext cx="36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=(-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1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∙(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x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4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∙(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y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∙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z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4"/>
          <p:cNvSpPr/>
          <p:nvPr/>
        </p:nvSpPr>
        <p:spPr>
          <a:xfrm>
            <a:off x="6012000" y="3162240"/>
            <a:ext cx="23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=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-x</a:t>
            </a:r>
            <a:r>
              <a:rPr b="0" lang="ru-RU" sz="3000" spc="-1" strike="noStrike" baseline="30000">
                <a:solidFill>
                  <a:srgbClr val="0000ff"/>
                </a:solidFill>
                <a:latin typeface="Bookman Old Style"/>
              </a:rPr>
              <a:t>1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2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y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9</a:t>
            </a:r>
            <a:r>
              <a:rPr b="0" lang="en-US" sz="3000" spc="-1" strike="noStrike">
                <a:solidFill>
                  <a:srgbClr val="0000ff"/>
                </a:solidFill>
                <a:latin typeface="Bookman Old Style"/>
              </a:rPr>
              <a:t>z</a:t>
            </a:r>
            <a:r>
              <a:rPr b="0" lang="en-US" sz="3000" spc="-1" strike="noStrike" baseline="30000">
                <a:solidFill>
                  <a:srgbClr val="0000ff"/>
                </a:solidFill>
                <a:latin typeface="Bookman Old Style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9"/>
          <p:cNvSpPr/>
          <p:nvPr/>
        </p:nvSpPr>
        <p:spPr>
          <a:xfrm>
            <a:off x="0" y="2276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(ab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0" y="292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(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=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Bookman Old Style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4:16:17Z</dcterms:created>
  <dc:creator>User</dc:creator>
  <dc:description/>
  <dc:language>en-US</dc:language>
  <cp:lastModifiedBy>татьяна</cp:lastModifiedBy>
  <dcterms:modified xsi:type="dcterms:W3CDTF">2013-10-07T10:13:02Z</dcterms:modified>
  <cp:revision>349</cp:revision>
  <dc:subject/>
  <dc:title>Слайд 1</dc:title>
</cp:coreProperties>
</file>