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7A2-EA06-487F-8530-B3D85AE0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1C4-6E10-487C-BAD3-FC7C0AA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A1-86DB-4DFB-BB53-91C5754E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224-22FD-430C-91AB-7F60F23D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556-D27E-4F0C-9582-3BC306FB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12F7-B459-4920-8EBC-C93FB37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083-E62E-427A-A8AB-9ECD3F9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779-7D77-403A-B4D3-79F3597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9DF6-E48A-4D75-AAB4-C1899F4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D6A-080E-4C28-B88F-017482C1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3DC2-8E3D-49DF-95F9-FC7A533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BA6-3E8D-4207-B7A0-7A87796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175-D2EC-4D37-9C40-2A60E05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4A1D-30BA-4C7C-A7AA-0A654FAC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B9B-3219-4ECE-9D55-7C954F14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BB8A-C396-43F5-B0A5-EB653A1B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5EF3-1980-4512-BCE7-6A224C33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866-22B1-4822-8CE6-4F83FB98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FC2-12F8-4A5D-98FB-29CE8A0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78D-2772-4803-B75D-B6BDF6A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5F-8588-4117-BB0F-67BF8820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EFB-779E-47E0-B6C9-C5DC45B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906-4CFD-4370-9BD1-1A6DBA7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D3C-E946-4407-838A-50FCBED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3D1B-4979-427D-9C86-316F97B1EE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14FD-8C2E-4534-A716-E96BB6D7B1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ОВТОРЕНИЕ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МАТЕРИАЛ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79280" y="907560"/>
            <a:ext cx="885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Дан список радикалов и вещест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3, CH4, C2H5OH, -CH3, HCOH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C2H5, CH3COOH, C2H4, -C3H7, C2H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Распредели их по группам и назови по номенклату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371628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Радика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3789360"/>
            <a:ext cx="13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К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27640" y="3789360"/>
            <a:ext cx="26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У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4365720"/>
            <a:ext cx="2663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СН3 мет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С2Н5 эт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С3Н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п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0" y="4365720"/>
            <a:ext cx="2663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2Н5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3СО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27640" y="4365720"/>
            <a:ext cx="266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4 мет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2Н4 эт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2Н2 эт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ВЫВ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836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изшие представители аминов взаим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йствуют с водой и кислотами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анал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гично аммиаку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 так к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270828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меют </a:t>
            </a: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сходно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с ним </a:t>
            </a: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стро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860640"/>
            <a:ext cx="86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изшие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амины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 как и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аммиа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прояв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яют в реакциях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13280" y="4508640"/>
            <a:ext cx="333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ОСНОВАНИ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равнение  основных  свойст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2060640"/>
            <a:ext cx="201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80000" y="206064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59640" y="155736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804000" y="2133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20000" y="2133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0400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04000" y="278136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600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020000" y="278136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77080" y="2349360"/>
            <a:ext cx="287280" cy="4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9280" y="2997360"/>
            <a:ext cx="20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метила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4000" y="285264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2997360"/>
            <a:ext cx="2089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фенила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27640" y="3573360"/>
            <a:ext cx="20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ани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56000" y="2205000"/>
            <a:ext cx="647640" cy="144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555640" y="2349360"/>
            <a:ext cx="64764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8360" y="2133720"/>
            <a:ext cx="936360" cy="21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219280" y="2349360"/>
            <a:ext cx="86508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3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омашнее  зада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68360" y="1197000"/>
            <a:ext cx="8424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Параграф параграф 2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Выписать способы получения    аминов, стр. 214-21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стр. 220 упр.2, 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Закрепление. Тренаже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1. Соотнесите формулы и наз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155736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155736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-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49228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39640" y="2492280"/>
            <a:ext cx="388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-СН-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С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763640" y="306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76360" y="3284640"/>
            <a:ext cx="107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00536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4360" y="4003560"/>
            <a:ext cx="2447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501336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4360" y="5013360"/>
            <a:ext cx="388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-NH-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16360" y="155736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92720" y="1557360"/>
            <a:ext cx="36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н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16360" y="242100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92720" y="2421000"/>
            <a:ext cx="36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пила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378936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19640" y="3789360"/>
            <a:ext cx="36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-аминобут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4941720"/>
            <a:ext cx="64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92720" y="4941720"/>
            <a:ext cx="36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илэтила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00d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00d1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Закрепление.  Тренаже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179280" y="765000"/>
            <a:ext cx="8280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2. Укажите среди веществ ами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79280" y="1916280"/>
            <a:ext cx="72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1916280"/>
            <a:ext cx="2663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-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8000" y="2492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2708280"/>
            <a:ext cx="1079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35280" y="1916280"/>
            <a:ext cx="72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56000" y="1916280"/>
            <a:ext cx="3384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0920" y="3716280"/>
            <a:ext cx="72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3789360"/>
            <a:ext cx="25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92360" y="3716280"/>
            <a:ext cx="72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1640" y="3716280"/>
            <a:ext cx="237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63640" y="4941720"/>
            <a:ext cx="72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84360" y="5013360"/>
            <a:ext cx="3382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Закрепление.  Тренаже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620640"/>
            <a:ext cx="896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3.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Амины – это органические производ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ны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91628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71640" y="1989000"/>
            <a:ext cx="374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зотной кисл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32360" y="1989000"/>
            <a:ext cx="79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1916280"/>
            <a:ext cx="180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0920" y="278136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116000" y="278136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ммиа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788000" y="270828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5640" y="270828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ета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50920" y="3573360"/>
            <a:ext cx="8893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4.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Метиламин в хим. реакциях проявл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ет свойст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5280" y="5084640"/>
            <a:ext cx="79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6000" y="5084640"/>
            <a:ext cx="230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исл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75280" y="5084640"/>
            <a:ext cx="79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32360" y="5084640"/>
            <a:ext cx="33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сн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03280" y="587700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587700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мфотерного соед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137160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Критерий  оцен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1844640"/>
            <a:ext cx="759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0 – 1 ошибки  -  «5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ошибки – «4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ошибки – «3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ьше 3 ошибок – тема урока не усво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АМИНЫ.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СТРО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856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cc"/>
                </a:solidFill>
                <a:uFillTx/>
                <a:latin typeface="Tahoma"/>
              </a:rPr>
              <a:t>ЗАДАНИЕ.</a:t>
            </a: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 Составьте структурные формулы соедин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87280" y="321300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2565360"/>
            <a:ext cx="194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16360" y="2565360"/>
            <a:ext cx="1942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2565360"/>
            <a:ext cx="19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357336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71640" y="3573360"/>
            <a:ext cx="266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08720" y="3573360"/>
            <a:ext cx="266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29080" y="4941720"/>
            <a:ext cx="5038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-NH</a:t>
            </a: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аминогру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07640" y="189000"/>
            <a:ext cx="3887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изводные У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олекулах котор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ли неск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ов водорода за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щены на амин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у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4788000" y="115920"/>
            <a:ext cx="3887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изводные ам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ака, в молекуле к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рого один или не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ько атомов вод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а замещены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-радика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8920" y="4365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8920" y="393372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476360" y="4149720"/>
            <a:ext cx="0" cy="2872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476360" y="4797360"/>
            <a:ext cx="0" cy="2872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4365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19280" y="4653000"/>
            <a:ext cx="288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1640" y="4653000"/>
            <a:ext cx="288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3573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4365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8920" y="508464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79640" y="4365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92360" y="5589720"/>
            <a:ext cx="107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2000" y="4365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72360" y="4653000"/>
            <a:ext cx="288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96000" y="4653000"/>
            <a:ext cx="288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227640" y="4797360"/>
            <a:ext cx="0" cy="2872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2720" y="4437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515772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92720" y="4437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6720" y="5516640"/>
            <a:ext cx="115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4.16667E-006 0.36204 E">
                                      <p:cBhvr>
                                        <p:cTn id="155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1064 L -0.004 -0.17835 E">
                                      <p:cBhvr>
                                        <p:cTn id="16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4.16667E-006 0.34398 E">
                                      <p:cBhvr>
                                        <p:cTn id="223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79 -0.00903 L -0.01579 -0.15741 E">
                                      <p:cBhvr>
                                        <p:cTn id="232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79280" y="0"/>
            <a:ext cx="8856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МИНЫ.  КЛАССИФИКАЦИЯ  И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ОМЕНКЛ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1413000"/>
            <a:ext cx="54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1. По характеру радик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205000"/>
            <a:ext cx="34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а) Непред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80000" y="2205000"/>
            <a:ext cx="34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б) Пред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71640" y="4292640"/>
            <a:ext cx="36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в) Арома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27813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3357720"/>
            <a:ext cx="28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=C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N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278136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12000" y="3284640"/>
            <a:ext cx="28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3-CH2-N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95640" y="486900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67280" y="551664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200"/>
                            </p:stCondLst>
                            <p:childTnLst>
                              <p:par>
                                <p:cTn id="2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600"/>
                            </p:stCondLst>
                            <p:childTnLst>
                              <p:par>
                                <p:cTn id="2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78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АМИНЫ. КЛАССИФИКАЦИЯ  И  НОМЕНКЛ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1413000"/>
            <a:ext cx="87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2. По числу аминогруп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280" y="2205000"/>
            <a:ext cx="28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а) перв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2060640"/>
            <a:ext cx="28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б) втор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4076640"/>
            <a:ext cx="28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в) трет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3429000"/>
            <a:ext cx="28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л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19640" y="342900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илэтил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484360" y="609300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метилэтил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9640" y="2781360"/>
            <a:ext cx="28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2Н5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76720" y="2781360"/>
            <a:ext cx="28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-C2H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4653000"/>
            <a:ext cx="23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-CH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5128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5280" y="544500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2H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19280" y="0"/>
            <a:ext cx="770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Физические  свойства  ами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196920" y="1484280"/>
            <a:ext cx="8748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ЗАДАНИЕ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Работа  с учебником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Прочитать стр. 215  и выписать физические свойства аминов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6920" y="3716280"/>
            <a:ext cx="8748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 – С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4-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NH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2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низшие амины) – газы с запахом аммиа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5 –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9-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NH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2  -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редние амины) – жид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ольше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9-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NH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2  -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высшие амины) – тверд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161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Горение  амин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5280" y="907920"/>
            <a:ext cx="8893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ahoma"/>
              </a:rPr>
              <a:t>С – С4-</a:t>
            </a: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NH2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низшие амины) – газы с запахом        аммиа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2060640"/>
            <a:ext cx="885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Горение  аммиа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8000" y="2708280"/>
            <a:ext cx="46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2708280"/>
            <a:ext cx="10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19280" y="270828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27082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270828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9640" y="2637000"/>
            <a:ext cx="43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70828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48360" y="270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24360" y="2708280"/>
            <a:ext cx="35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56360" y="270828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2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571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9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 Ш.Вюрц установил отличие го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2920" y="4941720"/>
            <a:ext cx="88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Горение  низших амин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3NH2 + 9O2 = 2N2 + 10H2O +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12000" y="5734080"/>
            <a:ext cx="11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323640" y="11556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Химические  свойства  ами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170028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170028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63640" y="198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" y="1916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2276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1628640"/>
            <a:ext cx="43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95640" y="1700280"/>
            <a:ext cx="4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32000" y="2565360"/>
            <a:ext cx="43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76360" y="1628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19280" y="1628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00360" y="1700280"/>
            <a:ext cx="4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48000" y="1700280"/>
            <a:ext cx="107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4560" y="1700280"/>
            <a:ext cx="4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1700280"/>
            <a:ext cx="172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4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59640" y="1700280"/>
            <a:ext cx="24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547640" y="1125360"/>
            <a:ext cx="648000" cy="4320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195640" y="692280"/>
            <a:ext cx="38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нор (эл. пар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3635280" y="2276640"/>
            <a:ext cx="216000" cy="5760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3640" y="2851200"/>
            <a:ext cx="367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цептор эл. п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63640" y="1330200"/>
            <a:ext cx="1800360" cy="370080"/>
          </a:xfrm>
          <a:custGeom>
            <a:avLst/>
            <a:gdLst/>
            <a:ahLst/>
            <a:rect l="l" t="t" r="r" b="b"/>
            <a:pathLst>
              <a:path w="1134" h="233">
                <a:moveTo>
                  <a:pt x="0" y="188"/>
                </a:moveTo>
                <a:cubicBezTo>
                  <a:pt x="223" y="94"/>
                  <a:pt x="446" y="0"/>
                  <a:pt x="635" y="7"/>
                </a:cubicBezTo>
                <a:cubicBezTo>
                  <a:pt x="824" y="14"/>
                  <a:pt x="1013" y="120"/>
                  <a:pt x="1134" y="23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472428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3-N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4653000"/>
            <a:ext cx="730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32000" y="4653000"/>
            <a:ext cx="730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050920" y="4724280"/>
            <a:ext cx="43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4724280"/>
            <a:ext cx="1079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35280" y="4653000"/>
            <a:ext cx="4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40360" y="4653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CH3-NH3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12000" y="4365720"/>
            <a:ext cx="433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00720" y="4653000"/>
            <a:ext cx="7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77080" y="4365720"/>
            <a:ext cx="4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8920" y="4221000"/>
            <a:ext cx="1584360" cy="432000"/>
          </a:xfrm>
          <a:custGeom>
            <a:avLst/>
            <a:gdLst/>
            <a:ahLst/>
            <a:rect l="l" t="t" r="r" b="b"/>
            <a:pathLst>
              <a:path w="1134" h="233">
                <a:moveTo>
                  <a:pt x="0" y="188"/>
                </a:moveTo>
                <a:cubicBezTo>
                  <a:pt x="223" y="94"/>
                  <a:pt x="446" y="0"/>
                  <a:pt x="635" y="7"/>
                </a:cubicBezTo>
                <a:cubicBezTo>
                  <a:pt x="824" y="14"/>
                  <a:pt x="1013" y="120"/>
                  <a:pt x="1134" y="23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5300640"/>
            <a:ext cx="46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ксид метиламм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1640" y="6021360"/>
            <a:ext cx="30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реда  раство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227664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реда  раство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0920" y="5661000"/>
            <a:ext cx="165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ь о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55640" y="5229360"/>
            <a:ext cx="647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68360" y="5661000"/>
            <a:ext cx="187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ль к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2987280" y="5229360"/>
            <a:ext cx="647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Химические  свойства  амин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126828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92360" y="155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5640" y="155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0328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32000" y="126828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76360" y="126828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95640" y="12682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16000" y="213372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9280" y="126828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126828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3640" y="126828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03280" y="884160"/>
            <a:ext cx="2160720" cy="457200"/>
          </a:xfrm>
          <a:custGeom>
            <a:avLst/>
            <a:gdLst/>
            <a:ahLst/>
            <a:rect l="l" t="t" r="r" b="b"/>
            <a:pathLst>
              <a:path w="1361" h="288">
                <a:moveTo>
                  <a:pt x="0" y="197"/>
                </a:moveTo>
                <a:cubicBezTo>
                  <a:pt x="317" y="98"/>
                  <a:pt x="635" y="0"/>
                  <a:pt x="862" y="15"/>
                </a:cubicBezTo>
                <a:cubicBezTo>
                  <a:pt x="1089" y="30"/>
                  <a:pt x="1225" y="159"/>
                  <a:pt x="1361" y="288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82920" y="1268280"/>
            <a:ext cx="5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59280" y="134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51640" y="105264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40360" y="134136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3640" y="105264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948360" y="1413000"/>
            <a:ext cx="0" cy="5760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3080" y="1197000"/>
            <a:ext cx="172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хлор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амм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03640" y="2060640"/>
            <a:ext cx="172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б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2781360"/>
            <a:ext cx="194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осн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619280" y="1915920"/>
            <a:ext cx="288720" cy="936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7640" y="278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635280" y="1988640"/>
            <a:ext cx="73080" cy="8636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407664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44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63640" y="407664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8000" y="4076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50920" y="407664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71640" y="407664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76720" y="4076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705120"/>
            <a:ext cx="1584360" cy="371520"/>
          </a:xfrm>
          <a:custGeom>
            <a:avLst/>
            <a:gdLst/>
            <a:ahLst/>
            <a:rect l="l" t="t" r="r" b="b"/>
            <a:pathLst>
              <a:path w="998" h="234">
                <a:moveTo>
                  <a:pt x="0" y="189"/>
                </a:moveTo>
                <a:cubicBezTo>
                  <a:pt x="234" y="94"/>
                  <a:pt x="469" y="0"/>
                  <a:pt x="635" y="7"/>
                </a:cubicBezTo>
                <a:cubicBezTo>
                  <a:pt x="801" y="14"/>
                  <a:pt x="930" y="196"/>
                  <a:pt x="998" y="234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211640" y="4076640"/>
            <a:ext cx="5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407664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24360" y="44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6360" y="4076640"/>
            <a:ext cx="10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04000" y="378936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308720" y="4076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380360" y="37162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407664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[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20000" y="400536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4869000"/>
            <a:ext cx="39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хлорид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етиламм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172360" y="3933720"/>
            <a:ext cx="0" cy="9352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8360" y="551664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белый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9640" y="4869000"/>
            <a:ext cx="20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метила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51:46Z</dcterms:created>
  <dc:creator>Admin</dc:creator>
  <dc:description/>
  <dc:language>en-US</dc:language>
  <cp:lastModifiedBy>Admin</cp:lastModifiedBy>
  <dcterms:modified xsi:type="dcterms:W3CDTF">2010-03-11T14:29:38Z</dcterms:modified>
  <cp:revision>138</cp:revision>
  <dc:subject/>
  <dc:title>ПОВТОРЕНИЕ  МАТЕРИАЛА.</dc:title>
</cp:coreProperties>
</file>