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4AA-8B5D-4428-ABFF-8F53B905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9B1-45DA-410B-8CDF-F7BCACCC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151-DF70-45FA-BF63-30543A90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F92-75F9-4410-B67E-96FDAA5B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BA5-1E68-4127-8F25-81DCF738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2A6-037A-47AB-B164-5E57A141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7B6-30A1-4A22-8834-4477FDC3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6DD-D899-46C1-AB6D-84DD9BB0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FC1-49EB-457B-9BA8-B592CC32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0BB-5701-4BEE-88C9-67A73BDA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8B6-6F7D-4B1E-95C0-CC721BF8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FC1-C1A2-423F-A828-955B4FCF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AAA1-D217-4B3D-AB07-97E84788C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4;&#1086;&#1080;&#1095;&#1085;&#1072;&#1103;_&#1089;&#1080;&#1089;&#1090;&#1077;&#1084;&#1072;_&#1089;&#1095;&#1080;&#1089;&#1083;&#1077;&#1085;&#1080;&#1103;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136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Архитектура компьютера с хранимой программ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Джон фон Ней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жон фон Нейм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125360"/>
            <a:ext cx="6049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дился в Будапеште 28 декабря 1903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 1911 по 1916 год посещал лютеранскую гимназ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1921 году был зачислен в университет в Будапеште, но большую часть образования получил в других Институ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 марта 1926 года получил докторскую степень по математике в университете в Будапеш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120" y="4673520"/>
            <a:ext cx="83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 1927 по 1930 г. Фон Нейман был лектором по математике в университете в Бер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267804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76200" y="281160"/>
            <a:ext cx="851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Там он опубликовал 5 научных рабо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ри о математической структуре для квантовой те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етвертую о первой попытке изучения теории и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ятая рассматривала связь между формальными логическими системами пределов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9120" y="2224080"/>
            <a:ext cx="83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К 30м годам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века фон Нейман был признан одним из ведущих математиков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7840" y="3376440"/>
            <a:ext cx="822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1930 году он приехал в США, где стал читать лекции по квантовой статистике в Принстоне, а в 1931 году был назначен на должность проф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6200" y="4600440"/>
            <a:ext cx="84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1933 году фон Нейман стал профессором  Института перспективных исслед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19120" y="352440"/>
            <a:ext cx="837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44 году Джон фон Нейман стал лицом проект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IAC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VA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бщив увиденно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написал отчет под названием «Предварительный доклад о машин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VA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3276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2421000"/>
            <a:ext cx="46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99"/>
                </a:solidFill>
                <a:uFillTx/>
                <a:latin typeface="Arial"/>
              </a:rPr>
              <a:t>EDVAC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ffff99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ffff99"/>
                </a:solidFill>
                <a:latin typeface="Arial"/>
              </a:rPr>
              <a:t>lectronic </a:t>
            </a:r>
            <a:r>
              <a:rPr b="1" i="1" lang="ru-RU" sz="2000" spc="-1" strike="noStrike">
                <a:solidFill>
                  <a:srgbClr val="ffff99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ffff99"/>
                </a:solidFill>
                <a:latin typeface="Arial"/>
              </a:rPr>
              <a:t>iscrete </a:t>
            </a:r>
            <a:r>
              <a:rPr b="1" i="1" lang="ru-RU" sz="2000" spc="-1" strike="noStrike">
                <a:solidFill>
                  <a:srgbClr val="ffff99"/>
                </a:solidFill>
                <a:latin typeface="Arial"/>
              </a:rPr>
              <a:t>V</a:t>
            </a:r>
            <a:r>
              <a:rPr b="0" i="1" lang="ru-RU" sz="2000" spc="-1" strike="noStrike">
                <a:solidFill>
                  <a:srgbClr val="ffff99"/>
                </a:solidFill>
                <a:latin typeface="Arial"/>
              </a:rPr>
              <a:t>ariable </a:t>
            </a:r>
            <a:r>
              <a:rPr b="1" i="1" lang="ru-RU" sz="2000" spc="-1" strike="noStrike">
                <a:solidFill>
                  <a:srgbClr val="ffff99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ffff99"/>
                </a:solidFill>
                <a:latin typeface="Arial"/>
              </a:rPr>
              <a:t>utomatic </a:t>
            </a:r>
            <a:r>
              <a:rPr b="1" i="1" lang="ru-RU" sz="2000" spc="-1" strike="noStrike">
                <a:solidFill>
                  <a:srgbClr val="ffff99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ffff99"/>
                </a:solidFill>
                <a:latin typeface="Arial"/>
              </a:rPr>
              <a:t>omputer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) — одна из первых электронных вычислительных машин. В отличие от </a:t>
            </a:r>
            <a:r>
              <a:rPr b="0" lang="ru-RU" sz="2000" spc="-1" strike="noStrike" u="sng">
                <a:solidFill>
                  <a:srgbClr val="ffff99"/>
                </a:solidFill>
                <a:uFillTx/>
                <a:latin typeface="Arial"/>
              </a:rPr>
              <a:t>ENIAC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, это компьютер на двоичной, а не десятичной основе.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120" y="208080"/>
            <a:ext cx="8300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99"/>
                </a:solidFill>
                <a:uFillTx/>
                <a:latin typeface="Arial"/>
              </a:rPr>
              <a:t>ЭНИАК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lang="ru-RU" sz="2000" spc="-1" strike="noStrike" u="sng">
                <a:solidFill>
                  <a:srgbClr val="ffff99"/>
                </a:solidFill>
                <a:uFillTx/>
                <a:latin typeface="Arial"/>
              </a:rPr>
              <a:t>ENIAC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, сокр. от Electronical Numerical Integrator and Computer — Электронный числовой интегратор и вычислитель) — первый широкомасштабный электронный цифровой компьютер, который можно было перепрограммировать для решения полного диапазона зад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4578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63480" y="351000"/>
            <a:ext cx="80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IAS –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компьютер был начат в 1946 году и закончен 5 лет спуст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648040" cy="4371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10880" y="6165720"/>
            <a:ext cx="50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жон фон Нейман на фоне компьютер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A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Блок-схема компьютера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IA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563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765000"/>
            <a:ext cx="815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октябре 1954 года фон Нейман был назначен членом комиссии по атомной энерге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етом 1954 года фон Нейману был поставлен диагноз костная форма рака. 8 февраля 1957 года он у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Принцип фон Нейм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25360"/>
            <a:ext cx="820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Принцип двоичного кодирования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представления данных и команд используется двоичная система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Принцип однородности памят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 программы (команды), так и данные хранятся в одной и той же памяти (и кодируются в одной и той же системе счисления — чаще всег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воичной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. Над командами можно выполнять такие же действия, как и над дан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Принцип адресуемости памяти.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руктурно основная память состоит из пронумерованных ячеек; процессору в произвольный момент времени доступна любая ячейка; память внутрення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Принцип последовательного программного управления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 команды располагаются в памяти и выполняются последовательно, одна после завершения другой, в последовательности, определяемой програм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Принцип жесткости архитектуры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изменяемость в процессе работы топологии, архитектуры, списка кома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1:25:57Z</dcterms:created>
  <dc:creator>Katerina</dc:creator>
  <dc:description/>
  <dc:language>en-US</dc:language>
  <cp:lastModifiedBy>Katerina</cp:lastModifiedBy>
  <dcterms:modified xsi:type="dcterms:W3CDTF">2011-05-04T19:24:54Z</dcterms:modified>
  <cp:revision>23</cp:revision>
  <dc:subject/>
  <dc:title>Архитектура компьютера с хранимой программой</dc:title>
</cp:coreProperties>
</file>