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620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2640" y="676440"/>
            <a:ext cx="4568760" cy="34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f291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868644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6200" y="868644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550B1-D64A-4C7A-935B-FEAAA5179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826CF-3044-40C4-BF48-5C3FAF6F9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C3305-0526-495D-BB63-450D59E30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42314-40EE-452C-9C2D-9AF80164D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F7C4A-E183-47E7-B7C8-11189FF3F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3C68B-0231-4153-AB84-BF387715F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FCB1D-0220-4F99-84D9-C4BC4E3E5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FBD51F-72E0-412C-980A-24BC23FE2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E4A95-6478-4B7C-9085-F3132BC3E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4D3FC-A650-40E9-A539-575A3F82F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F9BC7-823A-4C52-9BC5-08DFAF573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8AFD5-81B6-4AB1-B897-EE5BD0B17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26F07-4B60-4175-962E-0B4022E88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9873B-ACEA-42B4-B685-10B36D090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A7AD7-8E5D-490E-AC4A-66B52CB9C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8F84B-0341-4D5C-8DBE-18F120CC5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AFDA77-15F5-4FA9-A9B9-E17CCEB59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37312-20E7-4F71-AE5E-C69D2CB82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4D1E6-B887-4905-9655-41CED455E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1DDDE-FA83-4B8F-B643-D643415A4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72A621-2FDF-4D99-8BF1-B50AA2C68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E9998-3E62-4E9B-A32A-7218E0391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16A0-21E0-4058-B611-5BFBD9CB8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99840" y="1296720"/>
            <a:ext cx="6093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85A4-70B7-4B52-A240-B7EBD720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99840" y="1296720"/>
            <a:ext cx="6093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1758-9C45-44EE-8132-C5E9ACC73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99840" y="1296720"/>
            <a:ext cx="6093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3726-AE2F-41AC-B4B7-55FB460B5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A965-80FB-4BC5-B979-EDADE6B40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99840" y="1296720"/>
            <a:ext cx="6093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2D41-7862-475C-82A0-FE10ED11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1296720"/>
            <a:ext cx="6093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44E4-62D1-4775-8DC7-B0974D3E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1296720"/>
            <a:ext cx="6093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F37F-9425-4101-9E76-97435A53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99840" y="1296720"/>
            <a:ext cx="6093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4D95-8F16-4DFB-910A-312B6AC2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599840" y="1296720"/>
            <a:ext cx="609300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C7405-81FB-4219-9182-4DC4D166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1296720"/>
            <a:ext cx="6093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FF49-DEFA-4F5F-A2F1-018CB84E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99840" y="1296720"/>
            <a:ext cx="6093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FB8C-2430-4FB9-A12D-13C31A74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1296720"/>
            <a:ext cx="6093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56E6-25BA-46EC-8702-789D2A21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1296720"/>
            <a:ext cx="6093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7062-8459-4D6F-8C7E-4B879EE6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9840" y="1296720"/>
            <a:ext cx="6093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F999-ED62-4B0B-ADE1-12BC46EC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99840" y="1296720"/>
            <a:ext cx="6093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462C-48BE-4DF4-8987-3C53FC739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99840" y="1296720"/>
            <a:ext cx="6093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A719-6BD0-4C78-820A-3CF3102BB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1296720"/>
            <a:ext cx="6093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8D68-86A9-47CC-A35E-0D171142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1296720"/>
            <a:ext cx="6093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262E-4248-4B51-B18E-FC13D7B4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1296720"/>
            <a:ext cx="6093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135D-5FDF-42B5-A3B2-F42E1B46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99840" y="1296720"/>
            <a:ext cx="609300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9A13-4E00-47D0-832C-AED5B243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1296720"/>
            <a:ext cx="6093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EE58-98A6-40BD-877F-58BF5E42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99840" y="1296720"/>
            <a:ext cx="6093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C788-ADD4-4501-86A0-9EE92DE4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99840" y="1296720"/>
            <a:ext cx="6093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53C6-D935-441E-AF29-72C4AE76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34920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f291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251424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4f291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f291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4f2913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f291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f291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f291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f2913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f291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f2913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f291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f291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f291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4f291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4f2913"/>
                </a:solidFill>
                <a:latin typeface="Times New Roman"/>
              </a:rPr>
              <a:t>29.03.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4f291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09B35AE-DF9A-46E2-B11D-F3CB4B078752}" type="slidenum">
              <a:rPr b="0" lang="ru-RU" sz="1400" spc="-1" strike="noStrike">
                <a:solidFill>
                  <a:srgbClr val="4f291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296720"/>
            <a:ext cx="6093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f291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3.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9B49EA-0BAE-4E3B-BA21-A5751C7A2D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99"/>
              </a:spcBef>
              <a:buClr>
                <a:srgbClr val="4f291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f291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4f2913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f291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f291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f291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f2913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f291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f2913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f291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f291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f291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f291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y-chekhov.com/ru/images/foto/chehov_41.jpg" TargetMode="External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643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ccff"/>
                </a:solidFill>
                <a:latin typeface="Arial"/>
              </a:rPr>
              <a:t>Жизнь и творчество </a:t>
            </a:r>
            <a:br>
              <a:rPr sz="4000"/>
            </a:br>
            <a:r>
              <a:rPr b="1" lang="ru-RU" sz="4000" spc="-1" strike="noStrike">
                <a:solidFill>
                  <a:srgbClr val="ffccff"/>
                </a:solidFill>
                <a:latin typeface="Arial"/>
              </a:rPr>
              <a:t>Антона Павловича Чехова</a:t>
            </a:r>
            <a:br>
              <a:rPr sz="4000"/>
            </a:br>
            <a:r>
              <a:rPr b="1" lang="ru-RU" sz="4000" spc="-1" strike="noStrike">
                <a:solidFill>
                  <a:srgbClr val="ffccff"/>
                </a:solidFill>
                <a:latin typeface="Arial"/>
              </a:rPr>
              <a:t>(1860 – 1904)</a:t>
            </a:r>
            <a:r>
              <a:rPr b="1" lang="ar-SA" sz="4000" spc="-1" strike="noStrike">
                <a:solidFill>
                  <a:srgbClr val="ffccff"/>
                </a:solidFill>
                <a:latin typeface="Arial"/>
                <a:ea typeface="Arial"/>
              </a:rPr>
              <a:t>‏</a:t>
            </a:r>
            <a:endParaRPr b="0" lang="en-US" sz="4000" spc="-1" strike="noStrike">
              <a:solidFill>
                <a:srgbClr val="4f291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448000" y="3428640"/>
            <a:ext cx="6696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"Не успокаивайтесь, </a:t>
            </a:r>
            <a:endParaRPr b="0" lang="en-US" sz="2400" spc="-1" strike="noStrike">
              <a:solidFill>
                <a:srgbClr val="4f2913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давайте усыплять себя! </a:t>
            </a:r>
            <a:endParaRPr b="0" lang="en-US" sz="2400" spc="-1" strike="noStrike">
              <a:solidFill>
                <a:srgbClr val="4f2913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ка молоды, сильны, бодры, </a:t>
            </a:r>
            <a:endParaRPr b="0" lang="en-US" sz="2400" spc="-1" strike="noStrike">
              <a:solidFill>
                <a:srgbClr val="4f2913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уставайте делать добро".</a:t>
            </a:r>
            <a:endParaRPr b="0" lang="en-US" sz="2400" spc="-1" strike="noStrike">
              <a:solidFill>
                <a:srgbClr val="4f2913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                              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.П.Чехов.</a:t>
            </a:r>
            <a:endParaRPr b="0" lang="en-US" sz="2800" spc="-1" strike="noStrike">
              <a:solidFill>
                <a:srgbClr val="4f2913"/>
              </a:solidFill>
              <a:latin typeface="Arial"/>
            </a:endParaRPr>
          </a:p>
        </p:txBody>
      </p:sp>
      <p:pic>
        <p:nvPicPr>
          <p:cNvPr id="94" name="Picture 4" descr="chekhov"/>
          <p:cNvPicPr/>
          <p:nvPr/>
        </p:nvPicPr>
        <p:blipFill>
          <a:blip r:embed="rId2"/>
          <a:stretch/>
        </p:blipFill>
        <p:spPr>
          <a:xfrm rot="21250200">
            <a:off x="179280" y="2204640"/>
            <a:ext cx="2955960" cy="4248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539640" y="4724280"/>
            <a:ext cx="806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802002"/>
                </a:solidFill>
                <a:latin typeface="Arial"/>
              </a:rPr>
              <a:t>Чехов работал неимоверно много. В литературной поденщине надрывалось и гибло немало дарований. Только удивительной талантливостью и целеустремленностью Чехова можно объяснить, почему он не сломился в этих услови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2521080" y="547560"/>
            <a:ext cx="4066920" cy="4176720"/>
          </a:xfrm>
          <a:prstGeom prst="rect">
            <a:avLst/>
          </a:prstGeom>
          <a:ln w="19080">
            <a:solidFill>
              <a:srgbClr val="321100"/>
            </a:solidFill>
            <a:miter/>
          </a:ln>
        </p:spPr>
      </p:pic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468360" y="2060640"/>
            <a:ext cx="374328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802002"/>
                </a:solidFill>
                <a:latin typeface="Arial"/>
              </a:rPr>
              <a:t>               </a:t>
            </a:r>
            <a:r>
              <a:rPr b="1" lang="ru-RU" sz="2000" spc="-1" strike="noStrike">
                <a:solidFill>
                  <a:srgbClr val="802002"/>
                </a:solidFill>
                <a:latin typeface="Arial"/>
              </a:rPr>
              <a:t>Молодого Чехова влекли литературные интересы. Вместе с братом Николаем Антон Павлович начал сотрудничать в юмористических журналах «Стрекоза» и «Будильник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80200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2002"/>
                </a:solidFill>
                <a:latin typeface="Arial"/>
              </a:rPr>
              <a:t>Тексты Антона  Павловича иллюстрировал его брат Никола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4211640" y="5805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21100"/>
                </a:solidFill>
                <a:latin typeface="Arial"/>
              </a:rPr>
              <a:t>А.П. Чехов с братом Никола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4397400" y="907920"/>
            <a:ext cx="4152960" cy="4681800"/>
          </a:xfrm>
          <a:prstGeom prst="rect">
            <a:avLst/>
          </a:prstGeom>
          <a:ln w="19080">
            <a:solidFill>
              <a:srgbClr val="321100"/>
            </a:solidFill>
            <a:miter/>
          </a:ln>
        </p:spPr>
      </p:pic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395280" y="484200"/>
            <a:ext cx="835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802002"/>
                </a:solidFill>
                <a:latin typeface="Arial"/>
              </a:rPr>
              <a:t>Сатирические миниатюры А.П. Чехова – блестящие зарисовки характернейших социально-психологических явлений 80-х годов </a:t>
            </a:r>
            <a:r>
              <a:rPr b="1" lang="en-US" sz="2000" spc="-1" strike="noStrike">
                <a:solidFill>
                  <a:srgbClr val="802002"/>
                </a:solidFill>
                <a:latin typeface="Arial"/>
              </a:rPr>
              <a:t>XIX </a:t>
            </a:r>
            <a:r>
              <a:rPr b="1" lang="ru-RU" sz="2000" spc="-1" strike="noStrike">
                <a:solidFill>
                  <a:srgbClr val="802002"/>
                </a:solidFill>
                <a:latin typeface="Arial"/>
              </a:rPr>
              <a:t>века. От сатирических миниатюр писатель проходит стремительный путь к лирической прозе. В 1886 году выходит сборник «Пестрые рассказы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754200" y="5595840"/>
            <a:ext cx="31669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21100"/>
                </a:solidFill>
                <a:latin typeface="Arial"/>
              </a:rPr>
              <a:t>«Толстый и тонкий». </a:t>
            </a:r>
            <a:r>
              <a:rPr b="1" lang="ru-RU" sz="1600" spc="-1" strike="noStrike">
                <a:solidFill>
                  <a:srgbClr val="321100"/>
                </a:solidFill>
                <a:latin typeface="Arial"/>
              </a:rPr>
              <a:t>Илл. Б. Калауши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5076720" y="5595840"/>
            <a:ext cx="31672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21100"/>
                </a:solidFill>
                <a:latin typeface="Arial"/>
              </a:rPr>
              <a:t>«Унтер Пришибеев». </a:t>
            </a:r>
            <a:r>
              <a:rPr b="1" lang="ru-RU" sz="1600" spc="-1" strike="noStrike">
                <a:solidFill>
                  <a:srgbClr val="321100"/>
                </a:solidFill>
                <a:latin typeface="Arial"/>
              </a:rPr>
              <a:t>Илл. Б. Калауши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003640" y="2211480"/>
            <a:ext cx="3356280" cy="3300480"/>
          </a:xfrm>
          <a:prstGeom prst="rect">
            <a:avLst/>
          </a:prstGeom>
          <a:ln w="28440">
            <a:solidFill>
              <a:srgbClr val="321100"/>
            </a:solidFill>
            <a:miter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681120" y="2211480"/>
            <a:ext cx="3386160" cy="3300480"/>
          </a:xfrm>
          <a:prstGeom prst="rect">
            <a:avLst/>
          </a:prstGeom>
          <a:ln w="28440">
            <a:solidFill>
              <a:srgbClr val="321100"/>
            </a:solidFill>
            <a:miter/>
          </a:ln>
        </p:spPr>
      </p:pic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468360" y="2060640"/>
            <a:ext cx="395928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2002"/>
                </a:solidFill>
                <a:latin typeface="Arial"/>
              </a:rPr>
              <a:t>                       </a:t>
            </a:r>
            <a:r>
              <a:rPr b="1" lang="ru-RU" sz="2400" spc="-1" strike="noStrike">
                <a:solidFill>
                  <a:srgbClr val="802002"/>
                </a:solidFill>
                <a:latin typeface="Arial"/>
              </a:rPr>
              <a:t>А.П. Чехов</a:t>
            </a:r>
            <a:r>
              <a:rPr b="1" lang="ru-RU" sz="2000" spc="-1" strike="noStrike">
                <a:solidFill>
                  <a:srgbClr val="802002"/>
                </a:solidFill>
                <a:latin typeface="Arial"/>
              </a:rPr>
              <a:t> все более утверждается в том, что «осмысленная жизнь без определенного мировоззрения – не жизнь, а тягота, ужас». «Подвижники нужны как солнце, - говорит А.П. Чехов, - обществу нужны люди подвига, веры и ясно осознанной цели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4603680" y="907920"/>
            <a:ext cx="4000680" cy="5040360"/>
          </a:xfrm>
          <a:prstGeom prst="rect">
            <a:avLst/>
          </a:prstGeom>
          <a:ln w="19080">
            <a:solidFill>
              <a:srgbClr val="321100"/>
            </a:solidFill>
            <a:miter/>
          </a:ln>
        </p:spPr>
      </p:pic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324000" y="4997520"/>
            <a:ext cx="835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802002"/>
                </a:solidFill>
                <a:latin typeface="Arial"/>
              </a:rPr>
              <a:t>Людей, близко знавших Антона Павловича, поражал и его талант человечности, душевной чуткости, дар общения. В московском доме Чеховых на Садово-Кудринской всегда было оживленно и многолюд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4211640" y="454500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21100"/>
                </a:solidFill>
                <a:latin typeface="Arial"/>
              </a:rPr>
              <a:t>Дом в Кудрине.</a:t>
            </a:r>
            <a:r>
              <a:rPr b="1" lang="ru-RU" sz="2000" spc="-1" strike="noStrike">
                <a:solidFill>
                  <a:srgbClr val="3211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21100"/>
                </a:solidFill>
                <a:latin typeface="Arial"/>
              </a:rPr>
              <a:t>Рис. М.П. Чехо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826920" y="549360"/>
            <a:ext cx="7201080" cy="3933720"/>
          </a:xfrm>
          <a:prstGeom prst="rect">
            <a:avLst/>
          </a:prstGeom>
          <a:ln w="19080">
            <a:solidFill>
              <a:srgbClr val="321100"/>
            </a:solidFill>
            <a:miter/>
          </a:ln>
        </p:spPr>
      </p:pic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395280" y="47628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802002"/>
                </a:solidFill>
                <a:latin typeface="Arial"/>
              </a:rPr>
              <a:t>Осенью 1889 года А.П. Чехов начинает готовиться к поездке на Сахалин, куда его ведет огромное желание рассказать правду об этом месте «невыносимых страданий, на какие только бывает способен человек вольный и подневольный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1692360" y="5911920"/>
            <a:ext cx="54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21100"/>
                </a:solidFill>
                <a:latin typeface="Arial"/>
              </a:rPr>
              <a:t>А.П. Чехов перед отъездом на Сахал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2700360" y="1916280"/>
            <a:ext cx="3806640" cy="3817800"/>
          </a:xfrm>
          <a:prstGeom prst="rect">
            <a:avLst/>
          </a:prstGeom>
          <a:ln w="19080">
            <a:solidFill>
              <a:srgbClr val="321100"/>
            </a:solidFill>
            <a:miter/>
          </a:ln>
        </p:spPr>
      </p:pic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468360" y="4724280"/>
            <a:ext cx="820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802002"/>
                </a:solidFill>
                <a:latin typeface="Arial"/>
              </a:rPr>
              <a:t>Почти 4500 верст на лошадях, сквозь холода, весеннюю распутицу… С дороги Антон Павлович шлет путевые заметки. Огромное впечатление производит Сибирь, могучий Енисей: «Я стоял и думал: какая полная, умная и смелая жизнь осветит со временем эти берега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826920" y="404640"/>
            <a:ext cx="7129800" cy="4216680"/>
          </a:xfrm>
          <a:prstGeom prst="rect">
            <a:avLst/>
          </a:prstGeom>
          <a:ln w="19080">
            <a:solidFill>
              <a:srgbClr val="321100"/>
            </a:solidFill>
            <a:miter/>
          </a:ln>
        </p:spPr>
      </p:pic>
      <p:sp>
        <p:nvSpPr>
          <p:cNvPr id="142" name="Rectangle 3"/>
          <p:cNvSpPr/>
          <p:nvPr/>
        </p:nvSpPr>
        <p:spPr>
          <a:xfrm>
            <a:off x="826920" y="414972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21100"/>
                </a:solidFill>
                <a:latin typeface="Arial"/>
              </a:rPr>
              <a:t>Карта поездок А.П. Чех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468360" y="5229360"/>
            <a:ext cx="820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802002"/>
                </a:solidFill>
                <a:latin typeface="Arial"/>
              </a:rPr>
              <a:t>Итогом поездки стала книга «Остров Сахалин», полная раздумий писателя о социальном устройстве общества, которое порождает несправедливость и насил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1042920" y="479736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21100"/>
                </a:solidFill>
                <a:latin typeface="Arial"/>
              </a:rPr>
              <a:t>Арестантов на Сахалине заковывают в кандалы, 80-е г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755640" y="577800"/>
            <a:ext cx="7632720" cy="4073400"/>
          </a:xfrm>
          <a:prstGeom prst="rect">
            <a:avLst/>
          </a:prstGeom>
          <a:ln w="19080">
            <a:solidFill>
              <a:srgbClr val="321100"/>
            </a:solidFill>
            <a:miter/>
          </a:ln>
        </p:spPr>
      </p:pic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395280" y="411120"/>
            <a:ext cx="820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802002"/>
                </a:solidFill>
                <a:latin typeface="Arial"/>
              </a:rPr>
              <a:t>Тяжелый груз сахалинских переживаний явился основой, пожалуй, самого трагического чеховского произведения – повести «Палата № 6». «Когда я дочитал вчера вечером этот рассказ, мне стало прямо-таки жутко, я не мог оставаться в своей комнате, я встал и вышел. У меня такое ощущение, точно и я заперт в палате № 6» - так передал свое впечатление от повести В.И. Лен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2050920" y="2637000"/>
            <a:ext cx="4969080" cy="3189240"/>
          </a:xfrm>
          <a:prstGeom prst="rect">
            <a:avLst/>
          </a:prstGeom>
          <a:ln w="19080">
            <a:solidFill>
              <a:srgbClr val="321100"/>
            </a:solidFill>
            <a:miter/>
          </a:ln>
        </p:spPr>
      </p:pic>
      <p:sp>
        <p:nvSpPr>
          <p:cNvPr id="148" name="Text Box 3"/>
          <p:cNvSpPr/>
          <p:nvPr/>
        </p:nvSpPr>
        <p:spPr>
          <a:xfrm>
            <a:off x="2050920" y="5877000"/>
            <a:ext cx="48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21100"/>
                </a:solidFill>
                <a:latin typeface="Arial"/>
              </a:rPr>
              <a:t>«Палата № 6». </a:t>
            </a:r>
            <a:r>
              <a:rPr b="1" lang="ru-RU" sz="1600" spc="-1" strike="noStrike">
                <a:solidFill>
                  <a:srgbClr val="321100"/>
                </a:solidFill>
                <a:latin typeface="Arial"/>
              </a:rPr>
              <a:t>Ил-ция А. Ванециа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395280" y="33336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802002"/>
                </a:solidFill>
                <a:latin typeface="Arial"/>
              </a:rPr>
              <a:t>90-е годы были временем расцвета творчества писателя. Один за другим появляются замечательные рассказы «Ионыч», «Крыжовник», «Человек в футляре», «О любви». Чехов показал, как много заложено в людях прекрасного и доброго и как незаметно и необратимо все это может утонуть в тине мелочей жиз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1095480" y="5667480"/>
            <a:ext cx="261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21100"/>
                </a:solidFill>
                <a:latin typeface="Arial"/>
              </a:rPr>
              <a:t>«Ионыч».                   </a:t>
            </a:r>
            <a:r>
              <a:rPr b="1" lang="ru-RU" sz="1600" spc="-1" strike="noStrike">
                <a:solidFill>
                  <a:srgbClr val="321100"/>
                </a:solidFill>
                <a:latin typeface="Arial"/>
              </a:rPr>
              <a:t>Ил-ция Т. Шишмарев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219640" y="5667480"/>
            <a:ext cx="31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21100"/>
                </a:solidFill>
                <a:latin typeface="Arial"/>
              </a:rPr>
              <a:t>«Человек в футляре».     </a:t>
            </a:r>
            <a:r>
              <a:rPr b="1" lang="ru-RU" sz="1600" spc="-1" strike="noStrike">
                <a:solidFill>
                  <a:srgbClr val="321100"/>
                </a:solidFill>
                <a:latin typeface="Arial"/>
              </a:rPr>
              <a:t>Ил-ция Кукрыникс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5580000" y="2278080"/>
            <a:ext cx="2398680" cy="3382920"/>
          </a:xfrm>
          <a:prstGeom prst="rect">
            <a:avLst/>
          </a:prstGeom>
          <a:ln w="19080">
            <a:solidFill>
              <a:srgbClr val="321100"/>
            </a:solidFill>
            <a:miter/>
          </a:ln>
        </p:spPr>
      </p:pic>
      <p:pic>
        <p:nvPicPr>
          <p:cNvPr id="153" name="Picture 5" descr=""/>
          <p:cNvPicPr/>
          <p:nvPr/>
        </p:nvPicPr>
        <p:blipFill>
          <a:blip r:embed="rId3"/>
          <a:stretch/>
        </p:blipFill>
        <p:spPr>
          <a:xfrm>
            <a:off x="1187280" y="2276640"/>
            <a:ext cx="2399040" cy="3382920"/>
          </a:xfrm>
          <a:prstGeom prst="rect">
            <a:avLst/>
          </a:prstGeom>
          <a:ln w="19080">
            <a:solidFill>
              <a:srgbClr val="321100"/>
            </a:solidFill>
            <a:miter/>
          </a:ln>
        </p:spPr>
      </p:pic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2"/>
          <a:stretch/>
        </p:blipFill>
        <p:spPr>
          <a:xfrm>
            <a:off x="2700360" y="2133720"/>
            <a:ext cx="5977080" cy="30859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"/>
          <p:cNvSpPr/>
          <p:nvPr/>
        </p:nvSpPr>
        <p:spPr>
          <a:xfrm>
            <a:off x="3276720" y="476280"/>
            <a:ext cx="511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802002"/>
                </a:solidFill>
                <a:latin typeface="Arial"/>
              </a:rPr>
              <a:t>«Хорошо вспомнить о таком человеке, тотчас в жизнь твою возвращается бодрость, снова входит в нее ясный смысл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6372360" y="155736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21100"/>
                </a:solidFill>
                <a:latin typeface="Arial"/>
              </a:rPr>
              <a:t>М. Горь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95280" y="519120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802002"/>
                </a:solidFill>
                <a:latin typeface="Arial"/>
              </a:rPr>
              <a:t>А.П. Чехов родился 17 января 1860 года в Таганроге. Оба деда – со стороны отца и со стороны матери – были крепостными. Отец – Павел Егорович – открыл свое торговое дело, но предприимчивостью не отличался и вскоре разорил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95280" y="4437000"/>
            <a:ext cx="22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321100"/>
                </a:solidFill>
                <a:latin typeface="Arial"/>
              </a:rPr>
              <a:t>Дом, в котором родился А.П. Чех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3"/>
          <a:stretch/>
        </p:blipFill>
        <p:spPr>
          <a:xfrm>
            <a:off x="395280" y="549360"/>
            <a:ext cx="2851200" cy="3024000"/>
          </a:xfrm>
          <a:prstGeom prst="rect">
            <a:avLst/>
          </a:prstGeom>
          <a:ln w="19080">
            <a:solidFill>
              <a:srgbClr val="321100"/>
            </a:solidFill>
            <a:miter/>
          </a:ln>
        </p:spPr>
      </p:pic>
    </p:spTree>
  </p:cSld>
  <p:transition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395280" y="436572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802002"/>
                </a:solidFill>
                <a:latin typeface="Arial"/>
              </a:rPr>
              <a:t>В 1892 году Чехов покупает небольшую усадьбу в селе Мелихово. «Нужен хоть кусочек общественной и политической жизни», - объяснял Антон Павлович свое решение уехать в деревню. В Мелихове А.П. Чехов – бескорыстный и самоотверженный доктор, общественный деятель, радетель о нуждах люд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1763640" y="393372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21100"/>
                </a:solidFill>
                <a:latin typeface="Arial"/>
              </a:rPr>
              <a:t>Школа, построенная Чеховым в Мелихове. 1898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900000" y="549360"/>
            <a:ext cx="7201080" cy="3305160"/>
          </a:xfrm>
          <a:prstGeom prst="rect">
            <a:avLst/>
          </a:prstGeom>
          <a:ln w="19080">
            <a:solidFill>
              <a:srgbClr val="802002"/>
            </a:solidFill>
            <a:miter/>
          </a:ln>
        </p:spPr>
      </p:pic>
    </p:spTree>
  </p:cSld>
  <p:transition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250920" y="4941720"/>
            <a:ext cx="47527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802002"/>
                </a:solidFill>
                <a:latin typeface="Arial"/>
              </a:rPr>
              <a:t>В Мелихове Чехов создает «Чайку». Это был опыт новой психологической драмы. Премьера пьесы состоялась в Петербурге 17 октября 1896 года. Спектакль провалился.</a:t>
            </a:r>
            <a:r>
              <a:rPr b="1" lang="ru-RU" sz="2000" spc="-1" strike="noStrike">
                <a:solidFill>
                  <a:srgbClr val="80200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3492360" y="404640"/>
            <a:ext cx="51832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802002"/>
                </a:solidFill>
                <a:latin typeface="Arial"/>
              </a:rPr>
              <a:t>На мелиховском материале Чехов пишет повесть «Мужики», где рисует страшную картину безысходной нужды, бедственного положения народа, жестокую правду крушения всех иллюзий, связанных с реформой 1861 года</a:t>
            </a:r>
            <a:r>
              <a:rPr b="1" lang="ru-RU" sz="2000" spc="-1" strike="noStrike">
                <a:solidFill>
                  <a:srgbClr val="80200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5651640" y="5877000"/>
            <a:ext cx="26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321100"/>
                </a:solidFill>
                <a:latin typeface="Arial"/>
              </a:rPr>
              <a:t>Ил-ция Т. Шишмарев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395280" y="1844640"/>
            <a:ext cx="290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321100"/>
                </a:solidFill>
                <a:latin typeface="Arial"/>
              </a:rPr>
              <a:t>Ил-ция И. Ивашинцев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2"/>
          <a:stretch/>
        </p:blipFill>
        <p:spPr>
          <a:xfrm>
            <a:off x="395280" y="2384280"/>
            <a:ext cx="4537080" cy="2533680"/>
          </a:xfrm>
          <a:prstGeom prst="rect">
            <a:avLst/>
          </a:prstGeom>
          <a:ln w="19080">
            <a:solidFill>
              <a:srgbClr val="802002"/>
            </a:solidFill>
            <a:miter/>
          </a:ln>
        </p:spPr>
      </p:pic>
      <p:pic>
        <p:nvPicPr>
          <p:cNvPr id="162" name="Picture 6" descr=""/>
          <p:cNvPicPr/>
          <p:nvPr/>
        </p:nvPicPr>
        <p:blipFill>
          <a:blip r:embed="rId3"/>
          <a:stretch/>
        </p:blipFill>
        <p:spPr>
          <a:xfrm>
            <a:off x="5867280" y="2276640"/>
            <a:ext cx="2343240" cy="3420720"/>
          </a:xfrm>
          <a:prstGeom prst="rect">
            <a:avLst/>
          </a:prstGeom>
          <a:ln w="19080">
            <a:solidFill>
              <a:srgbClr val="802002"/>
            </a:solidFill>
            <a:miter/>
          </a:ln>
        </p:spPr>
      </p:pic>
      <p:pic>
        <p:nvPicPr>
          <p:cNvPr id="163" name="Picture 7" descr=""/>
          <p:cNvPicPr/>
          <p:nvPr/>
        </p:nvPicPr>
        <p:blipFill>
          <a:blip r:embed="rId4"/>
          <a:stretch/>
        </p:blipFill>
        <p:spPr>
          <a:xfrm>
            <a:off x="324000" y="549360"/>
            <a:ext cx="3095640" cy="1216080"/>
          </a:xfrm>
          <a:prstGeom prst="rect">
            <a:avLst/>
          </a:prstGeom>
          <a:ln w="19080">
            <a:solidFill>
              <a:srgbClr val="802002"/>
            </a:solidFill>
            <a:miter/>
          </a:ln>
        </p:spPr>
      </p:pic>
    </p:spTree>
  </p:cSld>
  <p:transition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А.П. Чехов - последняя фотография (1904 г.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189000"/>
            <a:ext cx="1714680" cy="252072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5"/>
          <p:cNvSpPr/>
          <p:nvPr/>
        </p:nvSpPr>
        <p:spPr>
          <a:xfrm>
            <a:off x="160560" y="2707200"/>
            <a:ext cx="1896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Palatino Linotype"/>
              </a:rPr>
              <a:t>А.П. Чехов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Palatino Linotype"/>
              </a:rPr>
              <a:t>Последня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Palatino Linotype"/>
              </a:rPr>
              <a:t>фотограф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Palatino Linotype"/>
              </a:rPr>
              <a:t>(1904 г.)</a:t>
            </a:r>
            <a:r>
              <a:rPr b="1" lang="en-US" sz="2000" spc="-1" strike="noStrike">
                <a:solidFill>
                  <a:srgbClr val="0033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10" descr="f871"/>
          <p:cNvPicPr/>
          <p:nvPr/>
        </p:nvPicPr>
        <p:blipFill>
          <a:blip r:embed="rId4"/>
          <a:srcRect l="88357" t="0" r="0" b="0"/>
          <a:stretch/>
        </p:blipFill>
        <p:spPr>
          <a:xfrm>
            <a:off x="7812000" y="5759280"/>
            <a:ext cx="1332000" cy="10987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1"/>
          <p:cNvSpPr/>
          <p:nvPr/>
        </p:nvSpPr>
        <p:spPr>
          <a:xfrm>
            <a:off x="5190480" y="2347920"/>
            <a:ext cx="4283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Medium"/>
              </a:rPr>
              <a:t>ч</a:t>
            </a:r>
            <a:r>
              <a:rPr b="1" lang="en-US" sz="2000" spc="-1" strike="noStrike">
                <a:solidFill>
                  <a:srgbClr val="000000"/>
                </a:solidFill>
                <a:latin typeface="Franklin Gothic Medium"/>
              </a:rPr>
              <a:t>еховские заветы любв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Franklin Gothic Medium"/>
              </a:rPr>
              <a:t>к людям, отзывчивос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Medium"/>
              </a:rPr>
              <a:t>на их горести и милосердия</a:t>
            </a:r>
            <a:r>
              <a:rPr b="1" lang="ru-RU" sz="2000" spc="-1" strike="noStrike">
                <a:solidFill>
                  <a:srgbClr val="000000"/>
                </a:solidFill>
                <a:latin typeface="Franklin Gothic Medium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Medium"/>
              </a:rPr>
              <a:t>к их недостатка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Franklin Gothic Medium"/>
              </a:rPr>
              <a:t>живы в наших сердцах ка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Medium"/>
              </a:rPr>
              <a:t>воспоминанья о чем-то оч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Medium"/>
              </a:rPr>
              <a:t>дорогом и нужном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Medium"/>
              </a:rPr>
              <a:t>бесконечно близком, пу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Medium"/>
              </a:rPr>
              <a:t>даже невозвратн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12"/>
          <p:cNvSpPr/>
          <p:nvPr/>
        </p:nvSpPr>
        <p:spPr>
          <a:xfrm>
            <a:off x="2700360" y="260280"/>
            <a:ext cx="60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В творчестве Чехова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отразились черт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русского национального характ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3"/>
          <p:cNvSpPr/>
          <p:nvPr/>
        </p:nvSpPr>
        <p:spPr>
          <a:xfrm flipH="1">
            <a:off x="2843280" y="981000"/>
            <a:ext cx="1009440" cy="57636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6804000" y="981000"/>
            <a:ext cx="576360" cy="115272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5651640" y="981000"/>
            <a:ext cx="0" cy="57636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7596360" y="981000"/>
            <a:ext cx="720720" cy="57636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17"/>
          <p:cNvSpPr/>
          <p:nvPr/>
        </p:nvSpPr>
        <p:spPr>
          <a:xfrm flipH="1">
            <a:off x="3924360" y="907920"/>
            <a:ext cx="503280" cy="122580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2161080" y="148428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Medium"/>
              </a:rPr>
              <a:t>мягк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4543920" y="1484280"/>
            <a:ext cx="210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Medium"/>
              </a:rPr>
              <a:t>задушев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7416000" y="1484280"/>
            <a:ext cx="138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Medium"/>
              </a:rPr>
              <a:t>прост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2058840" y="2060640"/>
            <a:ext cx="359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Medium"/>
              </a:rPr>
              <a:t>совершенное отсутств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Medium"/>
              </a:rPr>
              <a:t>позы, лицемер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Medium"/>
              </a:rPr>
              <a:t>и ханже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23"/>
          <p:cNvSpPr/>
          <p:nvPr/>
        </p:nvSpPr>
        <p:spPr>
          <a:xfrm>
            <a:off x="329040" y="4362840"/>
            <a:ext cx="56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Чехов — это трогательная страниц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подлинно нашей культуры, нежн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и изящной, которо</a:t>
            </a:r>
            <a:r>
              <a:rPr b="1" i="1" lang="ru-RU" sz="2400" spc="-1" strike="noStrike">
                <a:solidFill>
                  <a:srgbClr val="ffffff"/>
                </a:solidFill>
                <a:latin typeface="Arial Narrow"/>
              </a:rPr>
              <a:t>й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 мы справедлив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гордимся как драгоценным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неотъемлемым достояни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русского духа и русского</a:t>
            </a:r>
            <a:r>
              <a:rPr b="1" i="1" lang="ru-RU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народного гения</a:t>
            </a:r>
            <a:r>
              <a:rPr b="1" i="1" lang="en-US" sz="2400" spc="-1" strike="noStrike">
                <a:solidFill>
                  <a:srgbClr val="6633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395280" y="537372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802002"/>
                </a:solidFill>
                <a:latin typeface="Arial"/>
              </a:rPr>
              <a:t>Частым гостем Антона Павловича был М. Горький, считавший знакомство с Чеховым «самым ценным подарком судьбы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>
            <a:off x="900000" y="765000"/>
            <a:ext cx="7274160" cy="4429440"/>
          </a:xfrm>
          <a:prstGeom prst="rect">
            <a:avLst/>
          </a:prstGeom>
          <a:ln w="19080">
            <a:solidFill>
              <a:srgbClr val="802002"/>
            </a:solidFill>
            <a:miter/>
          </a:ln>
        </p:spPr>
      </p:pic>
    </p:spTree>
  </p:cSld>
  <p:transition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395280" y="546408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802002"/>
                </a:solidFill>
                <a:latin typeface="Arial"/>
              </a:rPr>
              <a:t>Россия, весь прогрессивный мир помнят, читают, любят Чехова – писателя, драматурга, ЧЕЛ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2"/>
          <a:stretch/>
        </p:blipFill>
        <p:spPr>
          <a:xfrm>
            <a:off x="684360" y="736560"/>
            <a:ext cx="7704000" cy="4575240"/>
          </a:xfrm>
          <a:prstGeom prst="rect">
            <a:avLst/>
          </a:prstGeom>
          <a:ln w="19080">
            <a:solidFill>
              <a:srgbClr val="802002"/>
            </a:solidFill>
            <a:miter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9" descr="Павел Егорович Чехов"/>
          <p:cNvPicPr/>
          <p:nvPr/>
        </p:nvPicPr>
        <p:blipFill>
          <a:blip r:embed="rId2"/>
          <a:stretch/>
        </p:blipFill>
        <p:spPr>
          <a:xfrm>
            <a:off x="250920" y="333360"/>
            <a:ext cx="3273480" cy="40323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3"/>
          <p:cNvSpPr/>
          <p:nvPr/>
        </p:nvSpPr>
        <p:spPr>
          <a:xfrm>
            <a:off x="324000" y="4508640"/>
            <a:ext cx="31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ernhardFashion BT"/>
              </a:rPr>
              <a:t>П.Е.Чех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ernhardFashion BT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BernhardFashion BT"/>
              </a:rPr>
              <a:t>(отец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850920" y="404280"/>
            <a:ext cx="4832280" cy="536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99"/>
              </a:spcBef>
              <a:buClr>
                <a:srgbClr val="4f291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вел Егорович Чех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был весьма интересной личностью. Он имел в Таганроге бакалейную лавку, будучи купцом 3-й гильдии, но занимался торговлей без особого рвения, больше уделяя внимание посещению церковных служб, пению и общественным делам.</a:t>
            </a:r>
            <a:r>
              <a:rPr b="0" lang="ru-RU" sz="2800" spc="-1" strike="noStrike">
                <a:solidFill>
                  <a:srgbClr val="4f291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f29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932360" y="475920"/>
            <a:ext cx="37512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f2913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ь - Евгения Яковлев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рекрасная хозяйка, очень заботливая и любящая, жила исключительно жизнью детей и мужа. Но, при этом, страстно любила театр, хотя и посещала его нечасто. В ранней молодости она была отдана в таганрогский частный пансион благородных девиц, где обучалась танцам и хорошим манерам.</a:t>
            </a:r>
            <a:r>
              <a:rPr b="0" lang="ru-RU" sz="2400" spc="-1" strike="noStrike">
                <a:solidFill>
                  <a:srgbClr val="4f291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f2913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4f2913"/>
              </a:solidFill>
              <a:latin typeface="Arial"/>
            </a:endParaRPr>
          </a:p>
        </p:txBody>
      </p:sp>
      <p:pic>
        <p:nvPicPr>
          <p:cNvPr id="105" name="Picture 10" descr="Евгения Яковлевна Морозова"/>
          <p:cNvPicPr/>
          <p:nvPr/>
        </p:nvPicPr>
        <p:blipFill>
          <a:blip r:embed="rId2"/>
          <a:stretch/>
        </p:blipFill>
        <p:spPr>
          <a:xfrm>
            <a:off x="250920" y="333360"/>
            <a:ext cx="3348000" cy="424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4"/>
          <p:cNvSpPr/>
          <p:nvPr/>
        </p:nvSpPr>
        <p:spPr>
          <a:xfrm>
            <a:off x="324000" y="4869000"/>
            <a:ext cx="33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ernhardFashion BT"/>
              </a:rPr>
              <a:t>Е.Я.Чех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ernhardFashion BT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BernhardFashion BT"/>
              </a:rPr>
              <a:t>(мат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324000" y="1341360"/>
            <a:ext cx="3816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802002"/>
                </a:solidFill>
                <a:latin typeface="Arial"/>
              </a:rPr>
              <a:t>Семья жила трудно. Дети помогали отцу в лавочке, пели в церковном хоре. Нрав отца был тяжелым, но он любил искусство, старался дать детям хорошее образование. Лаской и нежностью смягчала жизнь детей мать – Евгения Яковлевна. Позже Антон Павлович скажет: «Талант у нас со стороны отца, а душа со стороны матери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4572000" y="587700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21100"/>
                </a:solidFill>
                <a:latin typeface="Arial"/>
              </a:rPr>
              <a:t>Семья Чеховых в Таганрог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4221000" y="1197000"/>
            <a:ext cx="4422960" cy="4537080"/>
          </a:xfrm>
          <a:prstGeom prst="rect">
            <a:avLst/>
          </a:prstGeom>
          <a:ln w="19080">
            <a:solidFill>
              <a:srgbClr val="321100"/>
            </a:solidFill>
            <a:miter/>
          </a:ln>
        </p:spPr>
      </p:pic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4284720" y="2133720"/>
            <a:ext cx="42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2002"/>
                </a:solidFill>
                <a:latin typeface="Arial"/>
              </a:rPr>
              <a:t>Обширен круг чтения Чехова-гимназиста:</a:t>
            </a:r>
            <a:r>
              <a:rPr b="1" lang="ru-RU" sz="2000" spc="-1" strike="noStrike">
                <a:solidFill>
                  <a:srgbClr val="802002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2002"/>
                </a:solidFill>
                <a:latin typeface="Arial"/>
              </a:rPr>
              <a:t>Пушкин, Лермонтов, Тургенев, Гончаров, Сервантес, Белинский, Добролюбов, Писарев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24000" y="555300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21100"/>
                </a:solidFill>
                <a:latin typeface="Arial"/>
              </a:rPr>
              <a:t>Чехов – гимназист. 1874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468360" y="801720"/>
            <a:ext cx="3578040" cy="4608360"/>
          </a:xfrm>
          <a:prstGeom prst="rect">
            <a:avLst/>
          </a:prstGeom>
          <a:ln w="19080">
            <a:solidFill>
              <a:srgbClr val="321100"/>
            </a:solidFill>
            <a:miter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395280" y="519120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802002"/>
                </a:solidFill>
                <a:latin typeface="Arial"/>
              </a:rPr>
              <a:t>На сцене таганрогского театра Чехов впервые увидел пьесы Шекспира, Островского, Гоголя. Юноша увлекается театром, а дома разыгрывает с братьями спектакли, пишет сценки, сказки в стихах, водеви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3635280" y="465300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21100"/>
                </a:solidFill>
                <a:latin typeface="Arial"/>
              </a:rPr>
              <a:t>Таганрогский театр времен Чех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755640" y="620640"/>
            <a:ext cx="7416720" cy="3951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468360" y="1989000"/>
            <a:ext cx="3960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802002"/>
                </a:solidFill>
                <a:latin typeface="Arial"/>
              </a:rPr>
              <a:t>В 1878 году семья Чеховых перебралась в Москву. Антон остался в Таганроге один: заканчивать гимназию. На жизнь он зарабатывает случайными уроками. Это были годы неотступной бед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4500720" y="546408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21100"/>
                </a:solidFill>
                <a:latin typeface="Arial"/>
              </a:rPr>
              <a:t>А.П. Чехов в год окончания гимназ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4643280" y="836640"/>
            <a:ext cx="3719520" cy="4319640"/>
          </a:xfrm>
          <a:prstGeom prst="rect">
            <a:avLst/>
          </a:prstGeom>
          <a:ln w="19080">
            <a:solidFill>
              <a:srgbClr val="321100"/>
            </a:solidFill>
            <a:miter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395280" y="5097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802002"/>
                </a:solidFill>
                <a:latin typeface="Arial"/>
              </a:rPr>
              <a:t>«Не сомневаюсь, - писал Чехов, - занятия медицинскими науками имели серьезное влияние на мою литературную деятельность; они значительно раздвинули область моих наблюдений, обогатили меня знаниями…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324000" y="58705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21100"/>
                </a:solidFill>
                <a:latin typeface="Arial"/>
              </a:rPr>
              <a:t>Университетская клиника, где Чехов проходил студенческую практи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1476360" y="1792440"/>
            <a:ext cx="6192720" cy="3871800"/>
          </a:xfrm>
          <a:prstGeom prst="rect">
            <a:avLst/>
          </a:prstGeom>
          <a:ln w="19080">
            <a:solidFill>
              <a:srgbClr val="321100"/>
            </a:solidFill>
            <a:miter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оловинский</dc:creator>
  <dc:description/>
  <dc:language>en-US</dc:language>
  <cp:lastModifiedBy>Customer</cp:lastModifiedBy>
  <dcterms:modified xsi:type="dcterms:W3CDTF">2013-03-11T00:00:13Z</dcterms:modified>
  <cp:revision>6</cp:revision>
  <dc:subject/>
  <dc:title>Жизнь и творчество      Чехова Антона Павловича (1860 – 1904 годы)</dc:title>
</cp:coreProperties>
</file>