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8C8-451C-45EE-BF58-CEF1A07B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986-234A-48A3-80F6-E6C1AF6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EF4-2479-481D-8496-3F5DD283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20C-AB20-4501-BA62-D1788A1B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9D3-B3D4-41BF-9870-50F6AA7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7DA-E91D-4231-8F78-D719A06E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13B-BCE4-44FD-A590-990B8DFA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E33-8549-4E1D-8FEB-E19BC40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E20-BBA9-4015-8234-41A1596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2C0-A2F4-4F26-86F9-2D5F17A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09E-E03E-49A9-918D-B1E32EA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F22-1AFD-4D95-8182-5F8140F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603C-6FE9-4E5F-9EE2-07052278D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620640"/>
            <a:ext cx="56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Impact"/>
              </a:rPr>
              <a:t>Как и чем работают</a:t>
            </a: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Impact"/>
              </a:rPr>
              <a:t> </a:t>
            </a: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Impact"/>
              </a:rPr>
              <a:t>худож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21000"/>
            <a:ext cx="53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во 2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Б.М.Нем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36450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чител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Трапезникова Окс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515772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У СОШ №4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ского Административного района 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5546880"/>
            <a:ext cx="75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Горбатов Константин Иванович. «Потонувший город (Китеж?)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59640" cy="5238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762680" cy="5191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547640" y="5734080"/>
            <a:ext cx="63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А.Н. Бенуа. Парад при Павле 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890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112536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МАСЛЯНЫМИ КРАС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4176720" cy="3311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364000" y="3500280"/>
            <a:ext cx="33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Гу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епрозра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042920" y="1989000"/>
            <a:ext cx="4399200" cy="43214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09" name="Picture 534" descr="карандаш"/>
          <p:cNvPicPr/>
          <p:nvPr/>
        </p:nvPicPr>
        <p:blipFill>
          <a:blip r:embed="rId3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2124000" y="549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асляные краски разводят  специальной жид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5261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-925920" y="5805360"/>
            <a:ext cx="112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И.К. Айвазовский "Неаполитанский залив"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19280" y="595008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Николай Усов «Сухой бук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752720" cy="5589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62064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141300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ВОСКОВЫМИ МЕЛ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4608720" cy="31528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227640" y="4149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Тверд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87280" y="2492280"/>
            <a:ext cx="4535640" cy="399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4" descr="карандаш"/>
          <p:cNvPicPr/>
          <p:nvPr/>
        </p:nvPicPr>
        <p:blipFill>
          <a:blip r:embed="rId3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971640" y="76500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восковые мелки когда рисуют сильно нажи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5241960"/>
            <a:ext cx="8137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Лариса Луканев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«Натюрморт с цветами и фрукт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175280" cy="511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62064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148428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ПАСТЕЛ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5184720" cy="3573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659640" y="371628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я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е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9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046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ля того чтобы передать в своем рисунке все разнообразие и многоцветие мира, надо научиться рисовать крас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421000"/>
            <a:ext cx="5616720" cy="2376360"/>
          </a:xfrm>
          <a:prstGeom prst="cloudCallout">
            <a:avLst>
              <a:gd name="adj1" fmla="val 52291"/>
              <a:gd name="adj2" fmla="val 63361"/>
            </a:avLst>
          </a:prstGeom>
          <a:gradFill rotWithShape="0">
            <a:gsLst>
              <a:gs pos="0">
                <a:srgbClr val="ccff33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14172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акими же красками рисует худож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34" descr="карандаш"/>
          <p:cNvPicPr/>
          <p:nvPr/>
        </p:nvPicPr>
        <p:blipFill>
          <a:blip r:embed="rId2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4390920" cy="411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971640" y="2421000"/>
            <a:ext cx="5256000" cy="366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34" descr="карандаш"/>
          <p:cNvPicPr/>
          <p:nvPr/>
        </p:nvPicPr>
        <p:blipFill>
          <a:blip r:embed="rId3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1187280" y="62064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пастель нажимают слегка. Изображение получается будто пушистое, не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534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971640" y="616572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5877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Paul Knight «Кошки» 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248360" cy="5761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332000" y="6156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И Левитан «Луг на опушке ле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620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413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ТУШ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4896000" cy="40561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>
    <p:wheel spokes="1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971640" y="2997360"/>
            <a:ext cx="4667040" cy="34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900000" y="1700280"/>
            <a:ext cx="468648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1116000" y="4653000"/>
            <a:ext cx="4514760" cy="352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34" descr="карандаш"/>
          <p:cNvPicPr/>
          <p:nvPr/>
        </p:nvPicPr>
        <p:blipFill>
          <a:blip r:embed="rId5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"/>
          <p:cNvSpPr/>
          <p:nvPr/>
        </p:nvSpPr>
        <p:spPr>
          <a:xfrm>
            <a:off x="1116000" y="4046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и рисовании тушью используют кисть, перо, пал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2133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Изображение мяг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50028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Изображение тонкое и чет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15772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Изображение воздушное и изящ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05840" cy="5479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2340000" y="59500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Цзюй Ин. Пейзаж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59280" y="2421000"/>
          <a:ext cx="5905440" cy="4064040"/>
        </p:xfrm>
        <a:graphic>
          <a:graphicData uri="http://schemas.openxmlformats.org/drawingml/2006/table">
            <a:tbl>
              <a:tblPr/>
              <a:tblGrid>
                <a:gridCol w="658440"/>
                <a:gridCol w="633600"/>
                <a:gridCol w="704520"/>
                <a:gridCol w="669600"/>
                <a:gridCol w="668520"/>
                <a:gridCol w="669600"/>
                <a:gridCol w="669960"/>
                <a:gridCol w="667800"/>
                <a:gridCol w="5634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2764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Г    У    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 Ш 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512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3141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   К    В   А   </a:t>
            </a: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Р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Е    Л  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508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    А    </a:t>
            </a: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Т    Е   Л  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. Нежная, прозрачная 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76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. Мягкий ме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. Густая и непрозрачная 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9162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. Каких материалов не хват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4581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3657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4292640"/>
            <a:ext cx="371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Восковые м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Ту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333360"/>
            <a:ext cx="7272360" cy="3456000"/>
          </a:xfrm>
          <a:prstGeom prst="cloudCallout">
            <a:avLst>
              <a:gd name="adj1" fmla="val 29282"/>
              <a:gd name="adj2" fmla="val 8298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751000">
            <a:off x="1072440" y="996840"/>
            <a:ext cx="63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34" descr="карандаш"/>
          <p:cNvPicPr/>
          <p:nvPr/>
        </p:nvPicPr>
        <p:blipFill>
          <a:blip r:embed="rId1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34" descr="карандаш"/>
          <p:cNvPicPr/>
          <p:nvPr/>
        </p:nvPicPr>
        <p:blipFill>
          <a:blip r:embed="rId2"/>
          <a:stretch/>
        </p:blipFill>
        <p:spPr>
          <a:xfrm>
            <a:off x="589932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"/>
          <p:cNvSpPr/>
          <p:nvPr/>
        </p:nvSpPr>
        <p:spPr>
          <a:xfrm>
            <a:off x="395280" y="3213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акие материалы нам нужны, чтобы выполнить работу акварельными крас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981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 теперь давайте сами нарисуем рисунок акварельными крас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907920"/>
            <a:ext cx="3456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Пали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Тря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Ки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Фар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3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333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125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АКВАРЕЛ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314172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5184720" cy="3943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6012000" y="2637000"/>
            <a:ext cx="266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еж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озра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5373720"/>
            <a:ext cx="5545080" cy="1224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5084640"/>
            <a:ext cx="755640" cy="14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1628640"/>
            <a:ext cx="287280" cy="936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59280" y="2708280"/>
            <a:ext cx="1152360" cy="43344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48360" y="4076640"/>
            <a:ext cx="215640" cy="11527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56720" y="3860640"/>
            <a:ext cx="21564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076640"/>
            <a:ext cx="288720" cy="12956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67280" y="404640"/>
            <a:ext cx="4537080" cy="1224000"/>
          </a:xfrm>
          <a:prstGeom prst="cloudCallout">
            <a:avLst>
              <a:gd name="adj1" fmla="val -12912"/>
              <a:gd name="adj2" fmla="val 3953"/>
            </a:avLst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20000" y="1700280"/>
            <a:ext cx="1871640" cy="2665440"/>
          </a:xfrm>
          <a:prstGeom prst="cloudCallout">
            <a:avLst>
              <a:gd name="adj1" fmla="val -20569"/>
              <a:gd name="adj2" fmla="val 5388"/>
            </a:avLst>
          </a:prstGeom>
          <a:gradFill rotWithShape="0">
            <a:gsLst>
              <a:gs pos="0">
                <a:srgbClr val="008000"/>
              </a:gs>
              <a:gs pos="100000">
                <a:srgbClr val="33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79640" y="907920"/>
            <a:ext cx="4392720" cy="1297080"/>
          </a:xfrm>
          <a:prstGeom prst="cloudCallout">
            <a:avLst>
              <a:gd name="adj1" fmla="val -11689"/>
              <a:gd name="adj2" fmla="val 916"/>
            </a:avLst>
          </a:prstGeom>
          <a:gradFill rotWithShape="0">
            <a:gsLst>
              <a:gs pos="0">
                <a:srgbClr val="ffcccc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7280" y="260280"/>
            <a:ext cx="1295640" cy="1079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1628640"/>
            <a:ext cx="1871640" cy="2880000"/>
          </a:xfrm>
          <a:prstGeom prst="cloudCallout">
            <a:avLst>
              <a:gd name="adj1" fmla="val 32953"/>
              <a:gd name="adj2" fmla="val -8875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1125360"/>
            <a:ext cx="1871640" cy="3384720"/>
          </a:xfrm>
          <a:prstGeom prst="cloudCallout">
            <a:avLst>
              <a:gd name="adj1" fmla="val 11407"/>
              <a:gd name="adj2" fmla="val -5958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3141720"/>
            <a:ext cx="1944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2000" y="3141720"/>
            <a:ext cx="935280" cy="15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5516640"/>
            <a:ext cx="55450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71640" y="1700280"/>
            <a:ext cx="2448000" cy="1441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4000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3500280"/>
            <a:ext cx="431640" cy="6494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ccec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716280"/>
            <a:ext cx="574560" cy="1006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3257640" y="530280"/>
            <a:ext cx="504720" cy="8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27" y="1445"/>
                  <a:pt x="8054" y="5080"/>
                  <a:pt x="8054" y="10800"/>
                </a:cubicBezTo>
                <a:cubicBezTo>
                  <a:pt x="8054" y="16520"/>
                  <a:pt x="14827" y="20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3581280" y="1035000"/>
            <a:ext cx="504720" cy="82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27" y="1445"/>
                  <a:pt x="8054" y="5080"/>
                  <a:pt x="8054" y="10800"/>
                </a:cubicBezTo>
                <a:cubicBezTo>
                  <a:pt x="8054" y="16520"/>
                  <a:pt x="14827" y="20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4734000" y="1035000"/>
            <a:ext cx="504720" cy="8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27" y="1445"/>
                  <a:pt x="8054" y="5080"/>
                  <a:pt x="8054" y="10800"/>
                </a:cubicBezTo>
                <a:cubicBezTo>
                  <a:pt x="8054" y="16520"/>
                  <a:pt x="14827" y="20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3978360" y="134640"/>
            <a:ext cx="431640" cy="82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27" y="1445"/>
                  <a:pt x="8054" y="5080"/>
                  <a:pt x="8054" y="10800"/>
                </a:cubicBezTo>
                <a:cubicBezTo>
                  <a:pt x="8054" y="16520"/>
                  <a:pt x="14827" y="20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5597640" y="530280"/>
            <a:ext cx="504720" cy="8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27" y="1445"/>
                  <a:pt x="8054" y="5080"/>
                  <a:pt x="8054" y="10800"/>
                </a:cubicBezTo>
                <a:cubicBezTo>
                  <a:pt x="8054" y="16520"/>
                  <a:pt x="14827" y="20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03640" y="1052640"/>
            <a:ext cx="216000" cy="215640"/>
          </a:xfrm>
          <a:prstGeom prst="ellips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35280" y="1557360"/>
            <a:ext cx="216000" cy="2160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620640"/>
            <a:ext cx="215640" cy="2160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280" y="1484280"/>
            <a:ext cx="216000" cy="2160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51640" y="981000"/>
            <a:ext cx="215640" cy="2160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981000"/>
            <a:ext cx="432000" cy="144360"/>
          </a:xfrm>
          <a:prstGeom prst="rtTriangl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981000"/>
            <a:ext cx="431640" cy="144360"/>
          </a:xfrm>
          <a:prstGeom prst="rtTriangl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27640" y="549360"/>
            <a:ext cx="431640" cy="144360"/>
          </a:xfrm>
          <a:prstGeom prst="rtTriangl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76720" y="1484280"/>
            <a:ext cx="432000" cy="144360"/>
          </a:xfrm>
          <a:prstGeom prst="rtTriangl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1484280"/>
            <a:ext cx="431640" cy="144360"/>
          </a:xfrm>
          <a:prstGeom prst="rtTriangle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32000" y="1125360"/>
            <a:ext cx="144720" cy="142920"/>
          </a:xfrm>
          <a:prstGeom prst="triangle">
            <a:avLst>
              <a:gd name="adj" fmla="val 10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95640" y="692280"/>
            <a:ext cx="144720" cy="142920"/>
          </a:xfrm>
          <a:prstGeom prst="triangle">
            <a:avLst>
              <a:gd name="adj" fmla="val 10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628640"/>
            <a:ext cx="144360" cy="142920"/>
          </a:xfrm>
          <a:prstGeom prst="triangle">
            <a:avLst>
              <a:gd name="adj" fmla="val 10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1557360"/>
            <a:ext cx="144360" cy="142920"/>
          </a:xfrm>
          <a:prstGeom prst="triangle">
            <a:avLst>
              <a:gd name="adj" fmla="val 10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1052640"/>
            <a:ext cx="144360" cy="142920"/>
          </a:xfrm>
          <a:prstGeom prst="triangle">
            <a:avLst>
              <a:gd name="adj" fmla="val 10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19280" y="5084640"/>
            <a:ext cx="7524720" cy="14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47640" y="4581360"/>
            <a:ext cx="759636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5128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82000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7236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5164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5964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12000" y="4437000"/>
            <a:ext cx="10764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9272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4328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1128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581360"/>
            <a:ext cx="755640" cy="14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4437000"/>
            <a:ext cx="10764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437000"/>
            <a:ext cx="10800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476280" y="4716000"/>
            <a:ext cx="919080" cy="360360"/>
          </a:xfrm>
          <a:custGeom>
            <a:avLst/>
            <a:gdLst>
              <a:gd name="textAreaLeft" fmla="*/ 201960 w 919080"/>
              <a:gd name="textAreaRight" fmla="*/ 717120 w 91908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7" y="21600"/>
                </a:lnTo>
                <a:lnTo>
                  <a:pt x="5393" y="216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96360" y="35733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1989000"/>
            <a:ext cx="287280" cy="287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56360" y="2637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72360" y="292428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48360" y="2421000"/>
            <a:ext cx="28764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2060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16360" y="3357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59640" y="3860640"/>
            <a:ext cx="287280" cy="287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92720" y="3068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1628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01080" y="2205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93080" y="2205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28000" y="5805360"/>
            <a:ext cx="647640" cy="216000"/>
          </a:xfrm>
          <a:custGeom>
            <a:avLst/>
            <a:gdLst>
              <a:gd name="textAreaLeft" fmla="*/ 147600 w 647640"/>
              <a:gd name="textAreaRight" fmla="*/ 500040 w 64764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36000" y="5805360"/>
            <a:ext cx="647640" cy="216000"/>
          </a:xfrm>
          <a:custGeom>
            <a:avLst/>
            <a:gdLst>
              <a:gd name="textAreaLeft" fmla="*/ 147600 w 647640"/>
              <a:gd name="textAreaRight" fmla="*/ 500040 w 64764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5300640"/>
            <a:ext cx="433440" cy="216000"/>
          </a:xfrm>
          <a:custGeom>
            <a:avLst/>
            <a:gdLst>
              <a:gd name="textAreaLeft" fmla="*/ 99000 w 433440"/>
              <a:gd name="textAreaRight" fmla="*/ 334440 w 43344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32720" y="5445000"/>
            <a:ext cx="503280" cy="216000"/>
          </a:xfrm>
          <a:custGeom>
            <a:avLst/>
            <a:gdLst>
              <a:gd name="textAreaLeft" fmla="*/ 114840 w 503280"/>
              <a:gd name="textAreaRight" fmla="*/ 388440 w 50328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59640" y="6165720"/>
            <a:ext cx="576360" cy="21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6920" y="6165720"/>
            <a:ext cx="432000" cy="216000"/>
          </a:xfrm>
          <a:custGeom>
            <a:avLst/>
            <a:gdLst>
              <a:gd name="textAreaLeft" fmla="*/ 98640 w 432000"/>
              <a:gd name="textAreaRight" fmla="*/ 333360 w 43200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19280" y="6308640"/>
            <a:ext cx="504720" cy="216000"/>
          </a:xfrm>
          <a:custGeom>
            <a:avLst/>
            <a:gdLst>
              <a:gd name="textAreaLeft" fmla="*/ 115200 w 504720"/>
              <a:gd name="textAreaRight" fmla="*/ 389520 w 50472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6381720"/>
            <a:ext cx="431640" cy="142920"/>
          </a:xfrm>
          <a:custGeom>
            <a:avLst/>
            <a:gdLst>
              <a:gd name="textAreaLeft" fmla="*/ 98280 w 431640"/>
              <a:gd name="textAreaRight" fmla="*/ 333360 w 431640"/>
              <a:gd name="textAreaTop" fmla="*/ 32400 h 142920"/>
              <a:gd name="textAreaBottom" fmla="*/ 1105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496360" y="5950080"/>
            <a:ext cx="647640" cy="215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48960 h 215640"/>
              <a:gd name="textAreaBottom" fmla="*/ 1666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75640" y="5373720"/>
            <a:ext cx="468360" cy="216000"/>
          </a:xfrm>
          <a:custGeom>
            <a:avLst/>
            <a:gdLst>
              <a:gd name="textAreaLeft" fmla="*/ 106920 w 468360"/>
              <a:gd name="textAreaRight" fmla="*/ 361440 w 46836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64360" y="6093000"/>
            <a:ext cx="647640" cy="215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48960 h 215640"/>
              <a:gd name="textAreaBottom" fmla="*/ 1666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6720" y="5589720"/>
            <a:ext cx="431640" cy="144360"/>
          </a:xfrm>
          <a:custGeom>
            <a:avLst/>
            <a:gdLst>
              <a:gd name="textAreaLeft" fmla="*/ 98280 w 431640"/>
              <a:gd name="textAreaRight" fmla="*/ 333360 w 431640"/>
              <a:gd name="textAreaTop" fmla="*/ 32760 h 144360"/>
              <a:gd name="textAreaBottom" fmla="*/ 1116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85080" y="6308640"/>
            <a:ext cx="647640" cy="216000"/>
          </a:xfrm>
          <a:custGeom>
            <a:avLst/>
            <a:gdLst>
              <a:gd name="textAreaLeft" fmla="*/ 147600 w 647640"/>
              <a:gd name="textAreaRight" fmla="*/ 500040 w 64764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20000" y="6381720"/>
            <a:ext cx="504720" cy="216000"/>
          </a:xfrm>
          <a:custGeom>
            <a:avLst/>
            <a:gdLst>
              <a:gd name="textAreaLeft" fmla="*/ 115200 w 504720"/>
              <a:gd name="textAreaRight" fmla="*/ 389520 w 50472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6165720"/>
            <a:ext cx="502920" cy="216000"/>
          </a:xfrm>
          <a:custGeom>
            <a:avLst/>
            <a:gdLst>
              <a:gd name="textAreaLeft" fmla="*/ 114840 w 502920"/>
              <a:gd name="textAreaRight" fmla="*/ 388080 w 50292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3280" y="6381720"/>
            <a:ext cx="576360" cy="21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35640" y="5373720"/>
            <a:ext cx="504720" cy="216000"/>
          </a:xfrm>
          <a:custGeom>
            <a:avLst/>
            <a:gdLst>
              <a:gd name="textAreaLeft" fmla="*/ 115200 w 504720"/>
              <a:gd name="textAreaRight" fmla="*/ 389520 w 50472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40360" y="5445000"/>
            <a:ext cx="503280" cy="216000"/>
          </a:xfrm>
          <a:custGeom>
            <a:avLst/>
            <a:gdLst>
              <a:gd name="textAreaLeft" fmla="*/ 114840 w 503280"/>
              <a:gd name="textAreaRight" fmla="*/ 388440 w 50328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68360" y="6642000"/>
            <a:ext cx="503280" cy="216000"/>
          </a:xfrm>
          <a:custGeom>
            <a:avLst/>
            <a:gdLst>
              <a:gd name="textAreaLeft" fmla="*/ 114840 w 503280"/>
              <a:gd name="textAreaRight" fmla="*/ 388440 w 50328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116000" y="2924280"/>
            <a:ext cx="4603680" cy="32922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65" name="Picture 534" descr="карандаш"/>
          <p:cNvPicPr/>
          <p:nvPr/>
        </p:nvPicPr>
        <p:blipFill>
          <a:blip r:embed="rId3"/>
          <a:stretch/>
        </p:blipFill>
        <p:spPr>
          <a:xfrm>
            <a:off x="565164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"/>
          <p:cNvSpPr/>
          <p:nvPr/>
        </p:nvSpPr>
        <p:spPr>
          <a:xfrm>
            <a:off x="2627280" y="47628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огда работают акварелью, используют много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628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кварелью можно рисовать по влажной бум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059280" y="1700280"/>
            <a:ext cx="2665080" cy="1589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3203640" y="3716280"/>
            <a:ext cx="1755720" cy="2817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468360" y="1989000"/>
            <a:ext cx="2355840" cy="196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300720" y="260280"/>
            <a:ext cx="2497320" cy="174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11280" y="4076640"/>
            <a:ext cx="2016000" cy="191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34" descr="карандаш"/>
          <p:cNvPicPr/>
          <p:nvPr/>
        </p:nvPicPr>
        <p:blipFill>
          <a:blip r:embed="rId7"/>
          <a:stretch/>
        </p:blipFill>
        <p:spPr>
          <a:xfrm>
            <a:off x="5796000" y="2133720"/>
            <a:ext cx="3143160" cy="446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"/>
          <p:cNvSpPr/>
          <p:nvPr/>
        </p:nvSpPr>
        <p:spPr>
          <a:xfrm>
            <a:off x="324000" y="333360"/>
            <a:ext cx="62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 работы с  акварелью пользуются следующими принадлежнос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42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950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3141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Тряп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566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Фарт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177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али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1440" cy="57596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24000" y="6093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Виктория Кирьянова «Дачные подсолнух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915" t="0" r="0" b="602"/>
          <a:stretch/>
        </p:blipFill>
        <p:spPr>
          <a:xfrm>
            <a:off x="684360" y="260280"/>
            <a:ext cx="7777080" cy="5256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900000" y="57340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арл Ларсон «Рождественский веч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35280" y="47628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Художник рис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126828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ГУАШ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2316240"/>
            <a:ext cx="4608360" cy="3994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64000" y="3429000"/>
            <a:ext cx="33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Густ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епрозра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11280" y="5805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11280" y="2133720"/>
            <a:ext cx="5240160" cy="3902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94" name="Picture 534" descr="карандаш"/>
          <p:cNvPicPr/>
          <p:nvPr/>
        </p:nvPicPr>
        <p:blipFill>
          <a:blip r:embed="rId3"/>
          <a:stretch/>
        </p:blipFill>
        <p:spPr>
          <a:xfrm>
            <a:off x="5899320" y="1989000"/>
            <a:ext cx="3244680" cy="46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1187280" y="90792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Гуашь также как и акварель разводят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7:15:14Z</dcterms:created>
  <dc:creator>Oksana</dc:creator>
  <dc:description/>
  <dc:language>en-US</dc:language>
  <cp:lastModifiedBy>Школа</cp:lastModifiedBy>
  <dcterms:modified xsi:type="dcterms:W3CDTF">2013-10-08T10:20:11Z</dcterms:modified>
  <cp:revision>22</cp:revision>
  <dc:subject/>
  <dc:title>Слайд 1</dc:title>
</cp:coreProperties>
</file>