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0A6-4399-4EFD-B433-889D8436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F36-90D2-4195-9257-D36F2AF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9F6-AEB3-429F-AD56-AF58AA6C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A4D-E3BC-45ED-864E-653D1D31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3589-3E6B-45CE-886F-284B05CF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EB9-A5EA-4C07-A695-18F9445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77F-0B7F-4E3D-AF47-374F7CF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4255-B055-4107-A233-391CEE1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B1F-0384-4C94-A918-A5AB35D5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EAF3-CF4E-4785-A491-865F357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B87-B341-4705-90F9-2722E4A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A80-C233-451D-AA48-539357D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73F8-1006-441C-9B00-4222F6B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B07-3D02-49F6-B63F-22EE3F8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31A-FED9-4FE6-9CBD-DC14A94F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B46-96FE-4415-9103-78672A9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74B-5385-4C52-8A49-AE8EF27C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8621-1F1D-4E8F-B773-38C02EEE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AE5D-AF7B-43E0-A396-48EC8F1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13FA-1CC3-474F-BC45-B8E71A3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83CA-59EA-4D15-AAA0-802FD59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6530-F208-457C-AE66-38C403C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65F-322A-4F73-80CA-D48161C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F92E-D7AD-4890-8803-A69BF5E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495E-C366-4513-9679-845875A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30E4-B318-4783-8964-DB5688A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CDE7-D1D2-4CE6-984C-A1D8016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866C-041B-4B7E-B17D-D9C2A73B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5BFE-026C-4ED7-B6CC-4B81390A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0FB1-6830-4F22-83F0-137358F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30F0-3078-4638-A904-18297DFF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9415-5A38-4333-8FF9-7255C5FA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14D3-8461-40CC-BC25-A5F739A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99F-A4F0-4F31-B834-46220C8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7FED-450B-4ED8-82C8-E508649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ACAF-59E6-4DD8-A4A8-92B3DB7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340E-4D76-4F6E-A8E8-21BF1CC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6F82-3714-4149-9BAB-AA9B6D46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EFB4-CFAA-4724-9AE6-5329938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85C0-80D4-43F8-8FF6-6657044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B95F-8C97-45FE-B857-A90AD9B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4CA7-0B2F-41DE-AC69-611838F7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FD0C-D5B9-46C9-91D9-C5D5D83F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16301-A4B7-4B65-B2E3-81B45D84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9A5-2E76-4CD4-BC1C-E4E35AD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6C6F-946B-45AA-9D1B-C075F20E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2193-D72B-4485-B992-824D88E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FB4C-2511-4E64-ACE3-DAE0F36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8F3C-5265-4B0C-9959-C199C7F8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E77C-13F3-4FBD-9E7D-E16E14F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F943-3A2C-4533-9FAA-B6DD704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FAF6-7D0D-4C64-B414-AB31498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1A5F-3CE8-407E-9AF4-3CC16FE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BE8F-9E3C-4096-8298-CE67BE3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27C7-3A6B-4A37-8388-9A3DD539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6F9-245F-4B74-9CA8-942F1CE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DED8-C4E3-4451-A40D-CDE06BFA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5B0F2-1313-4EE6-A938-ACCC18B9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59ED-8867-4203-BC8A-6DAC39C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91795-4494-47F6-AEB5-0EEA2B2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0665-6F84-4777-BE6D-5C657786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9D4F-9E0B-4A45-95CD-002297E3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EC81-3CC7-4F15-BCB7-7A92EB4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530C-2921-4581-B912-49EE65DE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AC5E-F370-4FE7-8434-93374C6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E45D-2331-40E4-B021-7C1A563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3B5-CCF7-4960-854B-25F3FAB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EA092-9B22-4A13-846B-D26EE9B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6744-7B38-4645-B4DD-21C23F1B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2451-6127-4F4E-B47C-ABBF7C38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2B6-AD42-42BB-B630-F119187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296-8187-4C92-8315-F17C39E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0B9-E764-4707-8578-9D1D7F4526F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188-FDAB-4415-843B-20FBF87D26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5C21-60BE-4829-BFC5-25F2691890B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A18-A4A7-42A3-8B03-C40684B611F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FB1E-A277-4822-BB21-6E4DF314B7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C318-F70C-4F90-9D16-C0350235F41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213000"/>
            <a:ext cx="8076960" cy="296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ал студент 4 курса специальности 230106 Т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ГОУ СПО «Черемховский горнотехнический колледж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ышев Константин Константи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: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Franklin Gothic Book"/>
              </a:rPr>
              <a:t>Технические параметры и организационные момент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52388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лощад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личество око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сота потол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жим 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962520" y="3581280"/>
            <a:ext cx="472428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ветозвуковая с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е сопровождение (произведения Баха, Шопена, Бетховена и др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ома-эле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Вид комнаты сверху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Picture 2" descr="F:\5.jpg"/>
          <p:cNvPicPr/>
          <p:nvPr/>
        </p:nvPicPr>
        <p:blipFill>
          <a:blip r:embed="rId1"/>
          <a:srcRect l="1283" t="25961" r="0" b="20197"/>
          <a:stretch/>
        </p:blipFill>
        <p:spPr>
          <a:xfrm>
            <a:off x="228600" y="692280"/>
            <a:ext cx="84582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7467480" cy="246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a8c6d0"/>
                </a:solidFill>
                <a:latin typeface="Franklin Gothic Book"/>
              </a:rPr>
              <a:t>Создание дизайн-проекта комнаты психологической разгрузки для преподавателей и сотрудников колледж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Прямоугольник 4" descr=""/>
          <p:cNvPicPr/>
          <p:nvPr/>
        </p:nvPicPr>
        <p:blipFill>
          <a:blip r:embed="rId1"/>
          <a:stretch/>
        </p:blipFill>
        <p:spPr>
          <a:xfrm>
            <a:off x="3164040" y="4041720"/>
            <a:ext cx="60163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кабинета психологической разгрузки является одним из важных моментов в организации благоприятной атмосферы в работе преподавателей и сотрудников колледж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1981080"/>
            <a:ext cx="746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диагностике участвовали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Arial"/>
              </a:rPr>
              <a:t>32 педагогических работника: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еподаватели, администрац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результате диагностики выяснилось, что преподаватели страдают разнообразными хроническими заболеваниями. Было установлено, что </a:t>
            </a:r>
            <a:r>
              <a:rPr b="0" lang="ru-RU" sz="3100" spc="-1" strike="noStrike">
                <a:solidFill>
                  <a:srgbClr val="c00000"/>
                </a:solidFill>
                <a:latin typeface="Arial"/>
              </a:rPr>
              <a:t>большинство сотрудников находятся в состоянии стресс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914400" y="533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e0d6"/>
                </a:solidFill>
                <a:latin typeface="Arial"/>
              </a:rPr>
              <a:t>Диагностика стресса у педагогов Черемховского горнотехнического колледж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214200" y="1352520"/>
          <a:ext cx="870912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352520"/>
                    <a:ext cx="870912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сихологическая разгруз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сихологический настрой (мобилизаци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сихологическая разгруз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нятие психологической нагруз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сихопрофилактическая раб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ение процесса релакс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Интерьер кабинета психологической разгрузк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Цветовая гамма при оформлении комнаты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ягкая мебел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Автоматическая система затемнения окон (жалюзи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Акустическая систем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Аппаратура для ионизации, увлажнения и кондиционирования воздух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Аквариу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стенные картины с аудиовизуальными эффектам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Лампы дневного света и светильник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стительность и д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F: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F: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 Викторовна</cp:lastModifiedBy>
  <dcterms:modified xsi:type="dcterms:W3CDTF">2009-05-28T03:44:33Z</dcterms:modified>
  <cp:revision>10</cp:revision>
  <dc:subject/>
  <dc:title>Дизайн-проект           «комната отдыха» </dc:title>
</cp:coreProperties>
</file>