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applause.wav" ContentType="audio/x-wav"/>
  <Override PartName="/ppt/media/image7.gif" ContentType="image/gif"/>
  <Override PartName="/ppt/media/image12.gif" ContentType="image/gif"/>
  <Override PartName="/ppt/media/image2.gif" ContentType="image/gif"/>
  <Override PartName="/ppt/media/image3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28A-7B62-411B-8068-C54FFAB1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CA3-BE15-4FCA-A909-6A5F38D4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D68-85ED-4D97-8981-B29F9526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797-2B09-4A0F-B1D7-1F86726E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D77-1D67-44FD-AC99-EEF1EC7C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F62-DB68-49B9-A816-C0B65BCC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A22-BB0A-4E43-8FBA-27A92A1D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343-E946-4394-81D0-EA94E1F3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055-F77F-4D9F-80C3-42BC031F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620-0E15-4783-80F1-E33D18B2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FF5-A45D-449C-AC05-2330D4F7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87F-F3DD-46E4-9F88-2A4ABE15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DC5C-59C6-40FA-8E3A-BBA433A1C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Две сестрицы –две ру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8760" y="6071760"/>
            <a:ext cx="82864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6092"/>
                </a:solidFill>
                <a:latin typeface="Calibri"/>
              </a:rPr>
              <a:t>Компанеец Екатерина Анатольевна, учитель начальных классов Гимназии г.Лабытнанг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рисунки\анимашки\танцы спорт\126598fc0d9c1fe87eb0b111e43e8ac8.gif"/>
          <p:cNvPicPr/>
          <p:nvPr/>
        </p:nvPicPr>
        <p:blipFill>
          <a:blip r:embed="rId2"/>
          <a:stretch/>
        </p:blipFill>
        <p:spPr>
          <a:xfrm>
            <a:off x="571680" y="35712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dve_ruki.mp3" descr=""/>
          <p:cNvPicPr/>
          <p:nvPr/>
        </p:nvPicPr>
        <p:blipFill>
          <a:blip r:embed="rId3"/>
          <a:stretch/>
        </p:blipFill>
        <p:spPr>
          <a:xfrm>
            <a:off x="-642960" y="4857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рисунки\анимашки\танцы спорт\165432618.jpg"/>
          <p:cNvPicPr/>
          <p:nvPr/>
        </p:nvPicPr>
        <p:blipFill>
          <a:blip r:embed="rId2"/>
          <a:stretch/>
        </p:blipFill>
        <p:spPr>
          <a:xfrm>
            <a:off x="1249200" y="317520"/>
            <a:ext cx="6251760" cy="56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рисунки\анимашки\РАЗНОЕ\Руки.gif"/>
          <p:cNvPicPr/>
          <p:nvPr/>
        </p:nvPicPr>
        <p:blipFill>
          <a:blip r:embed="rId2"/>
          <a:stretch/>
        </p:blipFill>
        <p:spPr>
          <a:xfrm>
            <a:off x="3143160" y="3071880"/>
            <a:ext cx="3419640" cy="3289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14200" y="357120"/>
            <a:ext cx="864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р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доровь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молод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рисунки\анимашки\танцы спорт\366870342.gif"/>
          <p:cNvPicPr/>
          <p:nvPr/>
        </p:nvPicPr>
        <p:blipFill>
          <a:blip r:embed="rId2"/>
          <a:stretch/>
        </p:blipFill>
        <p:spPr>
          <a:xfrm>
            <a:off x="2214720" y="571680"/>
            <a:ext cx="5208480" cy="42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рисунки\анимашки\танцы спорт\sporta-490.gif"/>
          <p:cNvPicPr/>
          <p:nvPr/>
        </p:nvPicPr>
        <p:blipFill>
          <a:blip r:embed="rId2"/>
          <a:stretch/>
        </p:blipFill>
        <p:spPr>
          <a:xfrm>
            <a:off x="2103480" y="1928880"/>
            <a:ext cx="597204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рисунки\анимашки\танцы спорт\sporta-1097.gif"/>
          <p:cNvPicPr/>
          <p:nvPr/>
        </p:nvPicPr>
        <p:blipFill>
          <a:blip r:embed="rId2"/>
          <a:stretch/>
        </p:blipFill>
        <p:spPr>
          <a:xfrm>
            <a:off x="2928960" y="1000080"/>
            <a:ext cx="343368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рисунки\анимашки\танцы спорт\sports-5.gif"/>
          <p:cNvPicPr/>
          <p:nvPr/>
        </p:nvPicPr>
        <p:blipFill>
          <a:blip r:embed="rId2"/>
          <a:stretch/>
        </p:blipFill>
        <p:spPr>
          <a:xfrm>
            <a:off x="1714680" y="1857240"/>
            <a:ext cx="555120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рисунки\анимашки\танцы спорт\sports-373.gif"/>
          <p:cNvPicPr/>
          <p:nvPr/>
        </p:nvPicPr>
        <p:blipFill>
          <a:blip r:embed="rId2"/>
          <a:stretch/>
        </p:blipFill>
        <p:spPr>
          <a:xfrm>
            <a:off x="1979640" y="979560"/>
            <a:ext cx="4592520" cy="45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рисунки\анимашки\танцы спорт\1eea639589fa1f2f4b4af4dafe942428.gif"/>
          <p:cNvPicPr/>
          <p:nvPr/>
        </p:nvPicPr>
        <p:blipFill>
          <a:blip r:embed="rId2"/>
          <a:stretch/>
        </p:blipFill>
        <p:spPr>
          <a:xfrm>
            <a:off x="2500200" y="-149400"/>
            <a:ext cx="4214880" cy="700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рисунки\анимашки\танцы спорт\3fde2f8e4bcce9d1d1dee2ce082a06f7.gif"/>
          <p:cNvPicPr/>
          <p:nvPr/>
        </p:nvPicPr>
        <p:blipFill>
          <a:blip r:embed="rId2"/>
          <a:stretch/>
        </p:blipFill>
        <p:spPr>
          <a:xfrm>
            <a:off x="2286000" y="714240"/>
            <a:ext cx="4403880" cy="559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рисунки\анимашки\танцы спорт\5ba19a1d79cb449be32002025714f5ba.gif"/>
          <p:cNvPicPr/>
          <p:nvPr/>
        </p:nvPicPr>
        <p:blipFill>
          <a:blip r:embed="rId2"/>
          <a:stretch/>
        </p:blipFill>
        <p:spPr>
          <a:xfrm>
            <a:off x="2857680" y="1143000"/>
            <a:ext cx="3286080" cy="468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3:10:48Z</dcterms:created>
  <dc:creator>Катя</dc:creator>
  <dc:description/>
  <dc:language>en-US</dc:language>
  <cp:lastModifiedBy>Катя</cp:lastModifiedBy>
  <dcterms:modified xsi:type="dcterms:W3CDTF">2011-11-14T14:34:20Z</dcterms:modified>
  <cp:revision>9</cp:revision>
  <dc:subject/>
  <dc:title>Физминутка  «Две сестрицы –две руки»</dc:title>
</cp:coreProperties>
</file>