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4A3-581E-436D-AAD2-1AA1798C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B22-5352-473F-9DAC-1662024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761-E2FF-4A74-A7ED-ED3E312B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4EA-2904-4390-BAD8-6494ED1B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50BB-2831-4C43-904A-39EEFCE4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5BC0-412C-4CCE-9BAD-FBF93EB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84B33-6973-41F8-9BF2-D19F763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4E5A4-D035-4ECF-A12D-806738A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1E217-4C8A-4A25-9642-FAA634D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927CB-F2B2-47F1-94FE-CB86AF6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98E4C-C181-4363-BF6B-189299D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993-87FE-4CD9-81DC-6C6D98BA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822B-DD4B-4127-A592-47DD6F6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D6A30-AD1D-4C75-9C0D-0CEBCCB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CE78-EDB5-4675-A609-104BEEE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428AD-B772-4C32-8FD8-4F518E8F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A26B0-461C-4F95-937E-F786DB24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802-0719-4780-A19B-0A680B6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E0A-276A-4466-A2DC-59E9E3B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299-6A02-4FEB-B943-20327F3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751-EAFB-41D5-A698-46B9235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D23-3709-4C7B-9FF5-EE829AFA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067-5D3F-4EB7-B48C-F0B6B15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4BE-3698-45D1-B5B4-EC51D4A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b88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5212-8095-4A60-AA4E-1F9024482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b88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58E-CB5C-4D3D-910E-7D59D7CBE2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2f"/>
                </a:solidFill>
                <a:latin typeface="Tahoma"/>
              </a:rPr>
              <a:t>Презентация по русскому языку на тему: </a:t>
            </a:r>
            <a:br>
              <a:rPr sz="4400"/>
            </a:br>
            <a:r>
              <a:rPr b="1" lang="ru-RU" sz="4400" spc="-1" strike="noStrike">
                <a:solidFill>
                  <a:srgbClr val="750b3d"/>
                </a:solidFill>
                <a:latin typeface="Cambria"/>
              </a:rPr>
              <a:t>«Безличные предложения»</a:t>
            </a: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038480" y="4876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ила уч-ся 9 А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йвас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http://static.kharkovforum.com/customprofilepics/profilepic83182_1.gif"/>
          <p:cNvPicPr/>
          <p:nvPr/>
        </p:nvPicPr>
        <p:blipFill>
          <a:blip r:embed="rId1"/>
          <a:stretch/>
        </p:blipFill>
        <p:spPr>
          <a:xfrm>
            <a:off x="146160" y="4492800"/>
            <a:ext cx="29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192f"/>
                </a:solidFill>
                <a:latin typeface="Tahoma"/>
              </a:rPr>
              <a:t>Безличные предложения</a:t>
            </a:r>
            <a:endParaRPr b="0" lang="en-US" sz="44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2f"/>
                </a:solidFill>
                <a:latin typeface="Tahoma"/>
              </a:rPr>
              <a:t>(предложения, в которых сказуемое не указывает и по своей форме не может указывать на действующее лиц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2f"/>
                </a:solidFill>
                <a:latin typeface="Tahoma"/>
              </a:rPr>
              <a:t>Безличные предложения являются самым употребительным видом глагольных односоставных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http://im2.freeforumzone.it/up/24/27/1168468236.gif"/>
          <p:cNvPicPr/>
          <p:nvPr/>
        </p:nvPicPr>
        <p:blipFill>
          <a:blip r:embed="rId1"/>
          <a:stretch/>
        </p:blipFill>
        <p:spPr>
          <a:xfrm>
            <a:off x="7162920" y="4724280"/>
            <a:ext cx="163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2f"/>
                </a:solidFill>
                <a:latin typeface="Tahoma"/>
              </a:rPr>
              <a:t>Безличные глаголы имеют только форму инфинитива (светать, знобить), форму, совпадающую с формой 3-го лица единственного числа (светает, знобит), и форму среднего рода единственного числа (светало, знобил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http://im2.freeforumzone.it/up/24/27/1168468236.gif"/>
          <p:cNvPicPr/>
          <p:nvPr/>
        </p:nvPicPr>
        <p:blipFill>
          <a:blip r:embed="rId1"/>
          <a:stretch/>
        </p:blipFill>
        <p:spPr>
          <a:xfrm>
            <a:off x="6934320" y="4686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2f"/>
                </a:solidFill>
                <a:latin typeface="Tahoma"/>
              </a:rPr>
              <a:t>Группа безличных глаголов пополняется за счёт личных глаголов путём присоединения к ним постфикса -ся: не читается, не спится, не верится, легко дышится, живётся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http://im2.freeforumzone.it/up/24/27/1168468236.gif"/>
          <p:cNvPicPr/>
          <p:nvPr/>
        </p:nvPicPr>
        <p:blipFill>
          <a:blip r:embed="rId1"/>
          <a:stretch/>
        </p:blipFill>
        <p:spPr>
          <a:xfrm>
            <a:off x="7162920" y="4724280"/>
            <a:ext cx="163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Tahoma"/>
              </a:rPr>
              <a:t>Сказуемое в безличных</a:t>
            </a:r>
            <a:r>
              <a:rPr b="0" lang="ru-RU" sz="4000" spc="-1" strike="noStrike">
                <a:solidFill>
                  <a:srgbClr val="00192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192f"/>
                </a:solidFill>
                <a:latin typeface="Tahoma"/>
              </a:rPr>
              <a:t>предложениях может быть выражено:</a:t>
            </a:r>
            <a:endParaRPr b="0" lang="en-US" sz="28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безличным глаголом, при котором подлежащее невозмож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безличной формой личного глагола, который может употребляться в двусоставном предло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словами нет, не было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неопределенной формой глагола (инфинитив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неопределенной формой в сочетании с безличным вспомогательным глаго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наречиями или краткими страдательными причастиями в форме среднего рода со словом быть или без н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2f"/>
                </a:solidFill>
                <a:latin typeface="Tahoma"/>
              </a:rPr>
              <a:t>По образованию безличные глаголы могут быть невозвратной и возвратной:</a:t>
            </a:r>
            <a:endParaRPr b="0" lang="en-US" sz="2800" spc="-1" strike="noStrike">
              <a:solidFill>
                <a:srgbClr val="d6e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Невозвратная форма безличных глаголов имеет разновидност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1. собственно-безличные глаголы: И рассветает уж давно (Баратынский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2. личные глаголы в безличном употреблении; ср.: Там русский дух, там Русью пахнет (Пушкин.); Как сильно пахнет полынь на межах! (Тургенев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Возвратная форма безличных глаголов в большинстве случаев образуется от личных глаголов (чаще непереходных) посредством суффикса -ся; не спит - не спится. Выделяются такие разновидности возвратной формы безличных глаголо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1. глаголы с безличным значением, не имеющие соответствий в группе личных глаголов: Правду сказать, отлично лежалось на этом диване (Тургенев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2. безличные глаголы, совпадающие по форме с личными: Одному сбылось (ср. предсказание сбылось), другому грезилось (ср. счастье грезилось) (погов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По сравнению с личными, безличные глаголы не изменяются по лицам и числам, а также по родам. Они употребляются только в форме 3-го лица ед. ч. настоящего и будущего времени и в форме ед. ч. прошедшего времени среднего 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Tahoma"/>
              </a:rPr>
              <a:t>Эти формы безличных глаголов, в отличие от соответствующих личных форм, не обусловлены согласованием с подлежащим, так как употребляются в безличных предложениях. Безличные глаголы имеют форму сослагательного наклонения среднего рода ед. ч. и неопределенную форму; формы повелительного наклонения они не име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min</dc:creator>
  <dc:description/>
  <dc:language>en-US</dc:language>
  <cp:lastModifiedBy>завуч</cp:lastModifiedBy>
  <dcterms:modified xsi:type="dcterms:W3CDTF">2013-10-08T16:30:38Z</dcterms:modified>
  <cp:revision>5</cp:revision>
  <dc:subject/>
  <dc:title>Презентация по русскому языку на тему:  «Безличные предложен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