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1152-CD7A-4D84-9D5F-F0B7DC31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AB08-2FFA-4ABA-8C1B-7D6CDFFC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F49C-F272-4278-8684-92046862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FC18-BE1C-4C32-AE16-B1A35CF7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803F-8132-4937-A1B3-C7101A24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EE22-3CE2-46C2-926C-EF1C45FE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E4ED-758F-43EE-987D-5BED77BD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10E8-3C3F-48F6-8489-0CE385B8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F278-45C8-4E42-86E1-064F0E48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DCCC-AF51-40D8-BC0E-D2D799E3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430D-8156-45E3-98C9-085CE31A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C344-B7F0-4E3F-A5EB-FE734A08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1AE6-FA72-4685-828C-02E4A79C8A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роды сев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у выполнила ученица 4 «А» класса МАОУ СОШ №7 г.Стрежевого Том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йс Фр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ный руководитель: Литосова Т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овицы народов ха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ля и небо одним умом живут. Они знают, кому что д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о боятся, того не люб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анив лебедя- поранишь свою душ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ла и мала, и хрупка, а сила в ней вел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а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АНТЫ- это коренной малочисленный угорский народ, издревле проживающий на севере Российской Федерации, преимущественно на территориях Ханты-Мансийского и Ямало-Ненецкого автономных округов. Общая численность: 29 тыс. челов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 название «ханты» означает «люд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анты- не единственное название данного народа, на западе он известен как остяки или юг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еди ханты выделяется 3 этнографические группы- северная, южная, восточная. Они отличаются диалектами, особенностями в хозяйстве и культуре. Говорят на хантыйском языке, письменность на основе русской граф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anty-Mansiysky_AO"/>
          <p:cNvPicPr/>
          <p:nvPr/>
        </p:nvPicPr>
        <p:blipFill>
          <a:blip r:embed="rId1"/>
          <a:stretch/>
        </p:blipFill>
        <p:spPr>
          <a:xfrm>
            <a:off x="457200" y="2516040"/>
            <a:ext cx="4038480" cy="2692440"/>
          </a:xfrm>
          <a:prstGeom prst="rect">
            <a:avLst/>
          </a:prstGeom>
          <a:ln w="0">
            <a:noFill/>
          </a:ln>
        </p:spPr>
      </p:pic>
      <p:sp>
        <p:nvSpPr>
          <p:cNvPr id="46" name="Заголовок 4"/>
          <p:cNvSpPr/>
          <p:nvPr/>
        </p:nvSpPr>
        <p:spPr>
          <a:xfrm flipH="1">
            <a:off x="4535640" y="3406680"/>
            <a:ext cx="7272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marL="639720" indent="-457200">
              <a:buClr>
                <a:srgbClr val="222268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еш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, ханты –это люди невысокого роста, около 1,5-1,6м , с прямыми черными или темно- каштановыми волосами, смуглой кожей, глаза темные. Тип лица можно охарактеризовать как монгольский, но разрез глаз правильной формы- немного плоское лицо, скулы заметно выдаются, губы толстоватые, но не пол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cazic-n-vhimm-iqytjyko-bjfq"/>
          <p:cNvPicPr/>
          <p:nvPr/>
        </p:nvPicPr>
        <p:blipFill>
          <a:blip r:embed="rId1"/>
          <a:stretch/>
        </p:blipFill>
        <p:spPr>
          <a:xfrm>
            <a:off x="45720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ежда хантов существенно отличалась по группам: у северных преобладала глухая( без разреза надеваемая через голову), у южных и восточных распаш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вь меховая, замшевая или кожаная. Суконная одежда расшита бисером, металлическими бляшками, аппликацией. Женщины носят украшения из бисера, кольца, серь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1332348106_0_6bbb2_8e2de0ea_xl"/>
          <p:cNvPicPr/>
          <p:nvPr/>
        </p:nvPicPr>
        <p:blipFill>
          <a:blip r:embed="rId1"/>
          <a:stretch/>
        </p:blipFill>
        <p:spPr>
          <a:xfrm>
            <a:off x="457200" y="2540160"/>
            <a:ext cx="403848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они кушаю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родукты питания- рыба, мясо оленя, лося и других животных, ягоды, орехи. Ханты пьют много чая, едят много хлеба. Излюбленное блюдо- рыбья икра, вываренная в рыбьем ж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a0cbba39575be0080065a67682b268c4"/>
          <p:cNvPicPr/>
          <p:nvPr/>
        </p:nvPicPr>
        <p:blipFill>
          <a:blip r:embed="rId1"/>
          <a:stretch/>
        </p:blipFill>
        <p:spPr>
          <a:xfrm>
            <a:off x="457200" y="2536920"/>
            <a:ext cx="403848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жные ханты в основном занимались рыболовством, однако им были известны также земледелие и скотоводство. Основным занятиями северных хантов были оленеводство и охота, реже рыболов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нты с древности почитали стихии природы: солнце, луну, огонь, воду, ветер. Также у хантов существовали тотемные покровители, семейные божества и покровители- предки. Каждый род имел свое тотемное животное, его почитали, считая одним из далеких родственников. Данное животное нельзя было убивать и употреблять в пищ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ведя почитали повсеместно, его считали защитником. При этом на медведя, в отличии от других тотемных животных, можно было охотиться. Для того , чтобы примирить дух медведя и убившего его охотника ханты устраивали медвежий празд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з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вежий праздник, приурочен к зимнему солнцестоя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начало) и весеннему равноденствию и проводится как периодически, так и по случаю добычи медведя на ох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b51afc1ae088"/>
          <p:cNvPicPr/>
          <p:nvPr/>
        </p:nvPicPr>
        <p:blipFill>
          <a:blip r:embed="rId1"/>
          <a:stretch/>
        </p:blipFill>
        <p:spPr>
          <a:xfrm>
            <a:off x="457200" y="2519280"/>
            <a:ext cx="40384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ний день. Ворона у коренных народов Севера- символ жизни и наступления весны: она прилетает одной из первых птиц и своим громким криком пробуждает спящую прир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den-vorony"/>
          <p:cNvPicPr/>
          <p:nvPr/>
        </p:nvPicPr>
        <p:blipFill>
          <a:blip r:embed="rId1"/>
          <a:stretch/>
        </p:blipFill>
        <p:spPr>
          <a:xfrm>
            <a:off x="571680" y="2000160"/>
            <a:ext cx="38098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ыкальные инструм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бной или язычково- щипковый музыкальный инструмент или губная бандура. Северные ханты называют – тумран, восточные- конколь- лонко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бен-(хант.-куйп, койм, пэнзяр) – это ударный мембранный инструмент. Используется в танцах. Как ритмическое сопровождение. Еще его используют шам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нные инструменты:нарс-юх, панан- юх, тороп- юх, нин- юх, хум- юх, кугель- юх. Юх- обозначает дерево, эти инструменты изготовлены из дер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tum"/>
          <p:cNvPicPr/>
          <p:nvPr/>
        </p:nvPicPr>
        <p:blipFill>
          <a:blip r:embed="rId1"/>
          <a:stretch/>
        </p:blipFill>
        <p:spPr>
          <a:xfrm>
            <a:off x="1282680" y="1981080"/>
            <a:ext cx="2387520" cy="142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stfond_ru_0"/>
          <p:cNvPicPr/>
          <p:nvPr/>
        </p:nvPicPr>
        <p:blipFill>
          <a:blip r:embed="rId2"/>
          <a:stretch/>
        </p:blipFill>
        <p:spPr>
          <a:xfrm>
            <a:off x="946080" y="3938760"/>
            <a:ext cx="3060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6T19:46:04Z</dcterms:created>
  <dc:creator>1</dc:creator>
  <dc:description/>
  <dc:language>en-US</dc:language>
  <cp:lastModifiedBy>Литосова Татьяна Николаевна</cp:lastModifiedBy>
  <dcterms:modified xsi:type="dcterms:W3CDTF">2013-10-08T08:04:44Z</dcterms:modified>
  <cp:revision>4</cp:revision>
  <dc:subject/>
  <dc:title>Слайд 1</dc:title>
</cp:coreProperties>
</file>