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1ED-76A6-459B-B2C0-0FFC1510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CCE-2843-489A-BC56-5AE2183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C58-25F0-40A0-91FF-B747D541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450-A8B5-41C4-B650-964B8323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9E52-A6A8-44A7-AA59-E16053FA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A58-4EA4-4BEB-9F19-F97308D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136-BEF1-440A-A564-C1E5DB6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362C-94C6-44EB-B3B3-33BC1BD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82D-0E21-4D64-B9E4-D7A7ED35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63C4-5143-4CD6-AC66-6D561D8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097-F21A-4372-B9E1-A477EC0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DBE-A6C0-4658-A8C5-ED8C8C0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486F-E5EA-46F1-A1F9-1D6A8DC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9084-7008-401F-BD4B-AA865E0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636F-6A13-4829-91AF-8D26F271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3CEC-412C-4D28-8D8D-9D6853C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59FD-AA08-4953-89FB-DC1967F3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217-3E37-47F7-AEC0-CF5B572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596-76CE-4639-9537-9130CD8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541-FE75-4AEE-A532-F044656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475-4050-4E2C-9AD2-AF40368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833-2DA1-4576-8947-D477C92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2C4-01AF-4E7C-8608-EEE2537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F74-4976-4025-8A48-984058B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7CD1-8443-421F-97D7-5E49A247C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397C-5775-441A-8E53-440FDDCBC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ИСЛОТЫ  В  СВЕТЕ  ТЭ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8930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 работы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. Повторить классификацию и формулы кислот. Номенклат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. Дать определение кислотам с точки зрения ТЭ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. Изучить физические свойства кисл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. Научиться определять кислотную среду раств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. Изучить взаимодействие кислот с основ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ислоты  в свете  ТЭ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Диссоциация кисл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1989000"/>
            <a:ext cx="4103640" cy="1440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степени электролитической диссоци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40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149720"/>
            <a:ext cx="2736720" cy="1440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ьны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HCL,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N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4149720"/>
            <a:ext cx="2736720" cy="1440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бы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, H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268000" y="3429000"/>
            <a:ext cx="12956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39640" y="3429000"/>
            <a:ext cx="1079640" cy="720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3429000"/>
            <a:ext cx="115092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3429000"/>
            <a:ext cx="1008360" cy="720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640" y="3833640"/>
            <a:ext cx="828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абые электролиты –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торые при раство-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рении в воде почти не диссоциируют на ионы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ля слабых электролитов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оцесс диссоциации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братим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NO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H   +  NO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981000"/>
            <a:ext cx="828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льные электролиты –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торые при растворении в воде практические полностью диссоциируют на ионы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ля сильных электролитов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оцесс диссо-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циации практически необратим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N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= H   +  N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ислота как сильный или слабый электро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284640"/>
            <a:ext cx="43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3141720"/>
            <a:ext cx="57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6021360"/>
            <a:ext cx="10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5877000"/>
            <a:ext cx="4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27640" y="5877000"/>
            <a:ext cx="4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95640" y="6021000"/>
            <a:ext cx="649440" cy="360720"/>
            <a:chOff x="3995640" y="6021000"/>
            <a:chExt cx="649440" cy="360720"/>
          </a:xfrm>
        </p:grpSpPr>
        <p:sp>
          <p:nvSpPr>
            <p:cNvPr id="257" name=""/>
            <p:cNvSpPr/>
            <p:nvPr/>
          </p:nvSpPr>
          <p:spPr>
            <a:xfrm>
              <a:off x="4068720" y="6093000"/>
              <a:ext cx="57636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571640" y="6021000"/>
              <a:ext cx="73080" cy="716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571640" y="6093000"/>
              <a:ext cx="73080" cy="712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7440" y="6308640"/>
              <a:ext cx="5760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5640" y="6308640"/>
              <a:ext cx="71640" cy="730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997440" y="6237360"/>
              <a:ext cx="69840" cy="730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ильные и слабые электрол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895480" y="24940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7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рушительное  действие  серной кислоты  на  различные  материа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895480" y="24940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0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иссоциация 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549360"/>
            <a:ext cx="8388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ариант 1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Выберите сильные электролиты: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CL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N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N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Запишите уравнение диссоциации этих в-в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Укажите в растворах каких веществ универс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дикатор окрасится в красный цвет.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HCL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NaOH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K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O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N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KN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573360"/>
            <a:ext cx="83883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ариант 2.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1.Выберите слабые электролиты: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iO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CL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NO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2.Запишите уравнение диссоциации этих в-в.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3.Укажите в растворах каких веществ м.о.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индикатор окрасится в красно-розовый цвет.</a:t>
            </a:r>
            <a:br>
              <a:rPr sz="2800"/>
            </a:b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HCL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Na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O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KO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H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O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O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907920"/>
            <a:ext cx="43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remove" presetClass="emph" presetID="5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1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5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иссоциация  кислот.  ОТВ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836640"/>
            <a:ext cx="59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1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б), в), г)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= 2H  + SO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4</a:t>
            </a:r>
            <a:br>
              <a:rPr sz="28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CL = H  + CL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NO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= H  + NO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а), г)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24922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0606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08360" y="1557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76720" y="1484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1989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4922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3833640"/>
            <a:ext cx="586728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ариант 2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а), б), д)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3H  + P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br>
              <a:rPr sz="28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2H  + C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), г)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3657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04000" y="53737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5300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44000" y="4292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32720" y="5013360"/>
            <a:ext cx="43164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867280" y="4581000"/>
            <a:ext cx="649440" cy="360720"/>
            <a:chOff x="5867280" y="4581000"/>
            <a:chExt cx="649440" cy="360720"/>
          </a:xfrm>
        </p:grpSpPr>
        <p:sp>
          <p:nvSpPr>
            <p:cNvPr id="286" name=""/>
            <p:cNvSpPr/>
            <p:nvPr/>
          </p:nvSpPr>
          <p:spPr>
            <a:xfrm>
              <a:off x="5940360" y="465300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443280" y="4581000"/>
              <a:ext cx="73080" cy="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443280" y="4653000"/>
              <a:ext cx="7308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9080" y="486864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4868640"/>
              <a:ext cx="716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869080" y="4797360"/>
              <a:ext cx="698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80000" y="5589360"/>
            <a:ext cx="649440" cy="360720"/>
            <a:chOff x="5580000" y="5589360"/>
            <a:chExt cx="649440" cy="360720"/>
          </a:xfrm>
        </p:grpSpPr>
        <p:sp>
          <p:nvSpPr>
            <p:cNvPr id="293" name=""/>
            <p:cNvSpPr/>
            <p:nvPr/>
          </p:nvSpPr>
          <p:spPr>
            <a:xfrm>
              <a:off x="5653080" y="566136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6156000" y="5589360"/>
              <a:ext cx="73080" cy="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156000" y="5661360"/>
              <a:ext cx="7308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81800" y="587700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80000" y="5877000"/>
              <a:ext cx="716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581800" y="5805720"/>
              <a:ext cx="698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6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7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бщие  химические свойства  кисл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765000"/>
            <a:ext cx="820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H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C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H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2H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19640" y="2781360"/>
            <a:ext cx="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2133720"/>
            <a:ext cx="77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щие химические свойства 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3284640"/>
            <a:ext cx="770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2708280"/>
            <a:ext cx="77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. Изменяют окраску индикатора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Взаимодействуют с основаниями.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3. Реагируют с металлами.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4. Взаимодействуют с основными оксидами.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5. Реагируют с со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9280" y="5445000"/>
            <a:ext cx="77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щие свойства водных растворов кислот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условлены присутствием ионов водоро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6360" y="62064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16360" y="1125360"/>
            <a:ext cx="432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55736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549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105264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72360" y="141300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7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зменение окраски индикато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34136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8000" y="907920"/>
          <a:ext cx="8820000" cy="5108760"/>
        </p:xfrm>
        <a:graphic>
          <a:graphicData uri="http://schemas.openxmlformats.org/drawingml/2006/table">
            <a:tbl>
              <a:tblPr/>
              <a:tblGrid>
                <a:gridCol w="2448000"/>
                <a:gridCol w="2050920"/>
                <a:gridCol w="2197080"/>
                <a:gridCol w="21240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дикат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Окраска индикат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в нейтральной сре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Окраска индикатора в кислой сре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КИСЛ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Окраска индикатора в щелочной сре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ЩЕЛОЧ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тило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анжевый (м.о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Розово-крас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ниверс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умаж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еленова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енолфтале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Ф.ф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малино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заимодействие кислот с основ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48428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идроксид натрия и соля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277956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идроксид натрия и сер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393372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идроксид алюминия и азот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НАЗВАНИЯ, ОБЩАЯ ФОРМУЛА,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ПРЕДЕ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856720" cy="38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ыберите формулы кислот, запишите в тетрадь и назови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NaOH, HCL, KCL, H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Na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O, H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(OH)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HN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Cu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O, 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Na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, H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2920" y="1052640"/>
            <a:ext cx="885672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ПРАВК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араграф 20 стр. 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0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animClr clrSpc="rgb">
                                      <p:cBhvr>
                                        <p:cTn id="87" dur="10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8" dur="10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autoRev="1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animClr clrSpc="rgb">
                                      <p:cBhvr>
                                        <p:cTn id="92" dur="1000" autoRev="1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93" dur="1000" autoRev="1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ормулы  и  названия  кисл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CL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соляная кислота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сер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фосфор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азот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ремниев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уголь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     сероводород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907920"/>
            <a:ext cx="777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исло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ложные вещества, молекулы которых состоят из атомов водорода и кислотных оста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щая  форму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Кислот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бщая формула и опреде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427280" y="4005360"/>
            <a:ext cx="86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933720"/>
            <a:ext cx="86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2746440" cy="503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341360"/>
            <a:ext cx="3529080" cy="5749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осно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1268280"/>
            <a:ext cx="3529080" cy="86544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наличию кисл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4581360"/>
            <a:ext cx="3529080" cy="5050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раствор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49228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2421000"/>
            <a:ext cx="971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у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2565360"/>
            <a:ext cx="1079280" cy="50472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492280"/>
            <a:ext cx="1800360" cy="792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лород-содер-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86560" y="2565360"/>
            <a:ext cx="1657440" cy="792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кисло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5445000"/>
            <a:ext cx="2808360" cy="432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твор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445000"/>
            <a:ext cx="2952720" cy="5050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створ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698560" y="765000"/>
            <a:ext cx="1223640" cy="576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765000"/>
            <a:ext cx="1008000" cy="503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765000"/>
            <a:ext cx="0" cy="3816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916280"/>
            <a:ext cx="0" cy="576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916280"/>
            <a:ext cx="0" cy="576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1916280"/>
            <a:ext cx="0" cy="6490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133720"/>
            <a:ext cx="0" cy="358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44000" y="213372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27280" y="5084640"/>
            <a:ext cx="720720" cy="360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5084640"/>
            <a:ext cx="1081080" cy="360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57336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573360"/>
            <a:ext cx="111636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7336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371628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78936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628164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6281640"/>
            <a:ext cx="1116000" cy="576360"/>
          </a:xfrm>
          <a:prstGeom prst="rect">
            <a:avLst/>
          </a:prstGeom>
          <a:solidFill>
            <a:srgbClr val="3366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328464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587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000" y="5950080"/>
            <a:ext cx="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5184720" cy="503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стаби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268280"/>
            <a:ext cx="3529080" cy="15130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бильные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1197000"/>
            <a:ext cx="3529080" cy="1511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табильные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771280" y="765000"/>
            <a:ext cx="1150920" cy="43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765000"/>
            <a:ext cx="1008000" cy="360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3429000"/>
            <a:ext cx="3529080" cy="1512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3357720"/>
            <a:ext cx="3529080" cy="1512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5157720"/>
            <a:ext cx="3529080" cy="15130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31640" y="4005360"/>
            <a:ext cx="64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4005360"/>
            <a:ext cx="57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11640" y="3860640"/>
            <a:ext cx="43164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3860640"/>
            <a:ext cx="43200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95280" y="5661000"/>
            <a:ext cx="5050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5661000"/>
            <a:ext cx="431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зложение  угольной  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1268280"/>
            <a:ext cx="3529080" cy="15130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08360" y="1773360"/>
            <a:ext cx="503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1773360"/>
            <a:ext cx="43164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95640" y="260280"/>
            <a:ext cx="4824360" cy="503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летуч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341360"/>
            <a:ext cx="2664000" cy="13669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учие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CL, HN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1268280"/>
            <a:ext cx="2448000" cy="1440000"/>
          </a:xfrm>
          <a:prstGeom prst="rect">
            <a:avLst/>
          </a:prstGeom>
          <a:solidFill>
            <a:srgbClr val="3366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летучие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br>
              <a:rPr sz="20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59280" y="765000"/>
            <a:ext cx="720720" cy="5050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4360" y="765000"/>
            <a:ext cx="719280" cy="503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43640" y="1773360"/>
            <a:ext cx="2449440" cy="180000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4000" y="1773360"/>
            <a:ext cx="1922400" cy="184932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1773360"/>
            <a:ext cx="1800360" cy="165564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Характеристика кисло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2984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айте характеристику кислот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ряд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2 ряд       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3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зотная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   серная   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ремние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слота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        кисло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 признакам: - наличие кисл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растворимость в в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летуч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стаби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44:39Z</dcterms:created>
  <dc:creator>Admin</dc:creator>
  <dc:description/>
  <dc:language>en-US</dc:language>
  <cp:lastModifiedBy>Serg</cp:lastModifiedBy>
  <dcterms:modified xsi:type="dcterms:W3CDTF">2009-03-30T18:37:33Z</dcterms:modified>
  <cp:revision>60</cp:revision>
  <dc:subject/>
  <dc:title>Слайд 1</dc:title>
</cp:coreProperties>
</file>