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245-3C58-4C6D-B1DD-B5370F9E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038-733E-459A-9145-904D2808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C33-FAB2-49C0-8BE6-EF56BFD3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9C8-0D4F-4FCF-BEEE-F2BF2CC4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6BF-00B8-41B2-A83D-B6DBD7E4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2AF-3FA0-44D8-A196-1408B3B7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0BC-222F-4F01-95CC-B2BCB8E7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B85-70AA-43DE-AE4F-02DF21A4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216-E756-403D-A969-F1C436E2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5F6-1EE2-4A5C-AE90-E9722A46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7FD-C135-4933-BC63-3556117C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3D8-E620-4BA8-979D-FBE60444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7E9A-F1FB-4EDB-ADAC-B4669CE45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666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2879640" cy="2667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63640" y="-531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2133720"/>
            <a:ext cx="8135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Число 666 увеличенное в полтора раз рав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66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3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гол, смежный с углом треугольника при данной вершин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3357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ертик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Горизонт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нутре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не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Отрезок, соединяющий две точки окруж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Диа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Ради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ас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Секу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8713800" cy="6580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ервая несгораемая сумма – 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25000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Ф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Какая наука не относится непосредственно к математи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Алг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Тригон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омбинато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Мех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Найдите лишнее слово в выражении: «Сумма двух острых углов в прямоугольном треугольнике равна 90 </a:t>
            </a:r>
            <a:r>
              <a:rPr b="1" lang="en-US" sz="40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39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ст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Дв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рямоуголь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Граду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Где находится эталон мет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Ит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8713800" cy="6580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Вторая несгораемая сумма – 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55000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Ф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Где известный математик С.В. Ковалевская получила высшее образова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 Герм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 Швейц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Этот математический термин в переводе с греческого означает «струна». Что э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Хо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Математика – это у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Математика – это шут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Математика – это уверен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дним словом, математика – это у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Но ушу – это борьба, а значит, с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о свойству транзитивности, математика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Си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Кому предписывают открытие свойства диаметра делить окружность и круг на две равные ча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Аристо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ифаг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Фал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Хеоп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8713800" cy="6580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Третья несгораемая сумма – 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100000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Ф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Объём измеряется в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вадратных ме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Ли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вадратных а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Тонна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Биссектриса угла – 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Хо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Какая величина самая точна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80 км между Москвой и Ту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80 шагов между соседними до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80 книг в библиот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80 семечек в каждом арбу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Какой знак нужно поставить  между цифрами 7 и 8, чтобы получилось число больше 7, но меньше 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3860640"/>
            <a:ext cx="8229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ап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Двоет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лю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Черту 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Ромб с прямыми угл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рям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Трапе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8713800" cy="6580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ервая несгораемая сумма – 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25000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Ф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Что означает слово «конус» с греческ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руглая пирам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Еловая ш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Сосновая ш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олп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Какие числа соответствуют сторонам прямоугольного (египетского) треугольн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0, 15,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, 2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7, 8,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Ваша точка з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одъём тяжестей - …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еренос тяжестей - …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Ручная сила - …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Скорость на воде (плавание) - …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Его высказывание: « Я мыслю – следовательно, я существую». Кто э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Лобач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и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Архим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8713800" cy="6580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Вторая несгораемая сумма – 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55000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Ф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Слово «периметр» в переводе с греческого означает «измеряю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ря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ко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еред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Какой термин происходит от сочетания двух греческих слов – через и уго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Диагон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Биссектр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ы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Меди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то ввёл в середине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XVIII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века символы «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&gt;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», «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&lt;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гюстен Луи Ко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льберт Эйнште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ьер Бу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ене Дека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8713800" cy="6580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Третья несгораемая сумма – 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100000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Ф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Monotype Corsiva"/>
              </a:rPr>
              <a:t>«Считай несчастным тот день или час, в который ты не усвоил ничего нового и ничего не прибавил к своему образованию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66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2879640" cy="2667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843280" y="-531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Ж.Верн. Опыт доктора Окса.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 теории доктора Окса, все замечательные свойства человеческого духа — доблесть, остроумие, воображение — обусловлены воздействием особого газа, который он умел получать в больших количествах и без особых затрат,  попросту разлагал слегка подкислённую воду с помощью изобретённой им батаре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кой газ хотел использовать доктор Ок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260280"/>
          <a:ext cx="8291160" cy="6337080"/>
        </p:xfrm>
        <a:graphic>
          <a:graphicData uri="http://schemas.openxmlformats.org/drawingml/2006/table">
            <a:tbl>
              <a:tblPr/>
              <a:tblGrid>
                <a:gridCol w="2072520"/>
                <a:gridCol w="2072880"/>
                <a:gridCol w="2072880"/>
                <a:gridCol w="2072880"/>
              </a:tblGrid>
              <a:tr h="15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Отборочный ту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Разложите термины в логической последователь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А. Геометрический об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Б. Квадра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. Плоская фигу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Г. Выпуклый много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В чём измеряется площадь зем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 килограмм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 а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 кубических ме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 мину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7b2"/>
            </a:gs>
            <a:gs pos="100000">
              <a:srgbClr val="4be1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Труд Евклида «Начала» посвящё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0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Ге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утешеств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Арифм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2:36:51Z</dcterms:created>
  <dc:creator>Наталья</dc:creator>
  <dc:description/>
  <dc:language>en-US</dc:language>
  <cp:lastModifiedBy>КСЛ</cp:lastModifiedBy>
  <dcterms:modified xsi:type="dcterms:W3CDTF">2009-01-31T05:57:38Z</dcterms:modified>
  <cp:revision>11</cp:revision>
  <dc:subject/>
  <dc:title>Слайд 1</dc:title>
</cp:coreProperties>
</file>