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C66-9348-460A-9A79-FD4EFB30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D3F-5534-4E87-A7B5-D73764C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490-C496-410A-A6D6-C3D6125A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2E5-77E2-4DA1-B9C4-7301EAD9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5DB5-1210-4372-95A5-F46DD5F4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2D66-6BB2-440F-92E1-C0EE56DF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3E4-EA2E-42B2-83F7-F39F5E3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54D4-B42B-491B-AD16-5B3D99E0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1C7-6C8C-4ADD-ABBC-5B36B8B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EFF0-C9B2-4550-A097-DBB77DC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031-9EBF-4FCB-A938-B77E649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E68-7925-4531-BB9E-255C771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C6BF-FD55-4B50-ABBC-26FB53B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60B6-6AC2-4B3D-AE93-90DD97D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C96-7019-42FF-930C-6C544B2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28E-AFB6-4EC4-825C-B6DC71A3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6C16-0BC9-4638-9285-6F9E8DB7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D49-C218-4C33-B424-4C0BD7C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5BF-9A2A-4C9E-B2D4-CC6B8422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8CB-70D4-416F-B277-691CCFD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50E-F174-499E-9AC3-FC55ADF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F1A-3FD1-4299-B5B6-91DB1F3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108-5EB0-4391-BC79-E97A573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FCC-42ED-4271-AA33-49373B64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F62-F412-46C0-9F1E-9C72A0E244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99B-2CFC-44D7-98B3-F9538BEBE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33240" y="1133640"/>
            <a:ext cx="7785360" cy="2127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56840" y="314316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Урок русского языка в 5 класс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МКОУ Новодуровская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Гусь-Хрустальный рай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Учитель: Соколова Татьян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акие части речи мы повтори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На какие группы делятся части реч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Местоимение-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ак вы оценивае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28556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Глагол, имя существительное, имя прилагательное, местоим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Самостоятельные и служеб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Часть речи, которая указывает, не называя предмет, признак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1077840" cy="1227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714240" cy="1095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"/>
          <p:cNvPicPr/>
          <p:nvPr/>
        </p:nvPicPr>
        <p:blipFill>
          <a:blip r:embed="rId3"/>
          <a:stretch/>
        </p:blipFill>
        <p:spPr>
          <a:xfrm>
            <a:off x="642960" y="3786120"/>
            <a:ext cx="887400" cy="15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4"/>
          <a:stretch/>
        </p:blipFill>
        <p:spPr>
          <a:xfrm>
            <a:off x="1714680" y="1357200"/>
            <a:ext cx="657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Цели деятельн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актуализировать знания о местоимении как части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вспомнить морфологические признаки местоим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развитие навыков самоконтроля,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формировать познавательный интер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ВСПОМНИ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Что такое местоим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Чем они отличаются от имён существительных и прилагатель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Что общего у местоимения с данными частями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Как изменяются местоим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бъясните орфограм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375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ного трудит( ?)ся, тёмная ноч (?), з…лотая осень, серая мыш(?), в собачь…й бу…ке, о красив…м листопад…, по дорожк…, в электричк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2865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Найдите известные вам местоимения в стихотворении, определите их морфологические признаки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Есть у меня шестёрка слуг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роворных, удалых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И всё, что вижу я вокруг,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Всё знаю я от 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ни по знаку мое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Являются в нуж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овут их: Как и Почему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КТО, Что, Когда и Г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Р. Киплин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286240" y="1714680"/>
            <a:ext cx="35006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У меня – нач. форма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я, </a:t>
            </a: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1 лицо, в ед. числе, в р.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 rot="984000">
            <a:off x="5428800" y="1500120"/>
            <a:ext cx="31435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428616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склоняйте личные местоимения в единственном и множественном чис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5929200" y="1500120"/>
            <a:ext cx="2928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бъяснительный диктан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пределите начальную форму и падеж местои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ередо мной, из-за меня, к тебе, от них, в ней, над нами, у него, с тобой, ко мне, от на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Занимательная лингвистика (вопросы-шутк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ое местоимение спрятано в алфави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ие местоимения нужны, чтобы руки стали чистым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ие местоимения встречаются на плохих дорог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alibri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alibri"/>
              </a:rPr>
              <a:t>Вы, мы, 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alibri"/>
              </a:rPr>
              <a:t>Я, 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5:28:41Z</dcterms:created>
  <dc:creator>Comp</dc:creator>
  <dc:description/>
  <dc:language>en-US</dc:language>
  <cp:lastModifiedBy>PC</cp:lastModifiedBy>
  <dcterms:modified xsi:type="dcterms:W3CDTF">2013-10-08T15:21:33Z</dcterms:modified>
  <cp:revision>26</cp:revision>
  <dc:subject/>
  <dc:title>Слайд 1</dc:title>
</cp:coreProperties>
</file>