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D2E4-6DEE-4C01-B38F-69AC5ACF2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4EC3-9025-4C63-910A-252A0A0E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D862-3C37-4AC8-BF0E-28360228D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F781-D04D-4F84-B657-8194C3335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621E-8E8F-4BA4-BAE2-ED7A0B347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1934-D984-49C9-B8DD-5A8B031B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B1AA-8507-475B-9B07-49B27ACD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DE58-90B8-476E-82FE-EB56E41F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B3F2A-C5C1-4062-8B52-D20817AA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0ACE8-178D-411C-97FF-84BDF301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A2AC-FE0E-4238-B4A9-120D3CB3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1EE8-22B6-4E9B-962A-7178409D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97C3-563C-47B5-BCA8-9D4F983C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ADDF-767F-434A-9521-46E17174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6606-9AA8-49F8-BD76-53DD2469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5EF6-ABFF-47EB-9984-4F01B9EE7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B98D-788C-424D-91F2-975B69AE2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388CE-CFC8-4524-BA89-1ABB144F8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A4C72-A03F-4560-80F2-EB6652E5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C3BAF-279E-489D-AD8B-EF035006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B7190-53B6-442A-9033-C7F8219C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B8693-5248-45F3-B4ED-D88FDEF1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95EF-EDBA-4632-8123-C0997248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537D3-ECBB-48AB-8284-FC93EC10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A5AE0-2E26-4A5E-AC92-F4325C9E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E9B13-E4E7-43CF-A400-2F3808D0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FB26E-19A3-4FA8-8F58-9688BAD0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358F5-80DE-4D97-A821-4F260925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2AC8F-94F8-4628-A71C-914D98F14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5037A-C8DF-4003-86D2-D159AD64B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17D82-A05E-473C-8B2C-B423959DC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FE1B9-9BF1-498B-A635-67B9FF90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ED79B-12B4-4EC7-83B0-6EA4DCF3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58EB-5164-4218-9C77-6953A1B2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2BECF-84C5-443F-9243-4C630D84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25220-0D00-4600-99C6-0504BDB4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3E516-C37F-40AC-976E-FD2B5C51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0A7F3-325A-4657-86BF-F91A116C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0CB7E-8926-4D21-BB57-0E5459C7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AE76B-2AFB-4FD3-A131-3BB386FF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96DE4-B01B-4E20-8568-5B831769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66531-88C7-4153-A14A-84736C452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39015-ED65-4BC6-838C-4EE6C0223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3462-DD87-4C37-8FD0-7F6BB77F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1789-453D-4AC9-911E-95E2BF67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C7CB-574A-4FC0-8BBD-89142C1E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8FBF-2A58-49F4-8E6D-0BA539DA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600A-B426-46AA-8AE7-4A513D53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7FCC-DAD9-42E5-8337-96D18E23C2C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CB71-0057-4E7B-A70D-09F89FCD580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153F-7D53-4C91-8110-F14D8254BF8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B6EA-CB27-493A-AA53-754145D83DD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Прямоугольник 1" descr=""/>
          <p:cNvPicPr/>
          <p:nvPr/>
        </p:nvPicPr>
        <p:blipFill>
          <a:blip r:embed="rId1"/>
          <a:stretch/>
        </p:blipFill>
        <p:spPr>
          <a:xfrm>
            <a:off x="298440" y="493560"/>
            <a:ext cx="8553600" cy="2140200"/>
          </a:xfrm>
          <a:prstGeom prst="rect">
            <a:avLst/>
          </a:prstGeom>
          <a:ln w="0">
            <a:noFill/>
          </a:ln>
        </p:spPr>
      </p:pic>
      <p:sp>
        <p:nvSpPr>
          <p:cNvPr id="196" name="TextBox 2"/>
          <p:cNvSpPr/>
          <p:nvPr/>
        </p:nvSpPr>
        <p:spPr>
          <a:xfrm>
            <a:off x="533520" y="2971800"/>
            <a:ext cx="8229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Выполнил: Гечь Илья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Класс: 7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ГБОУ ООШ с. Малое Ибряйкино муниципального района Похвистневский Самарской област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Руководитель: Калягаев Сергей Александрович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Прямоугольник 1" descr=""/>
          <p:cNvPicPr/>
          <p:nvPr/>
        </p:nvPicPr>
        <p:blipFill>
          <a:blip r:embed="rId1"/>
          <a:stretch/>
        </p:blipFill>
        <p:spPr>
          <a:xfrm>
            <a:off x="328680" y="2048040"/>
            <a:ext cx="8424720" cy="34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E:\DCIM\102MSDCF\DSC001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1"/>
          <p:cNvSpPr/>
          <p:nvPr/>
        </p:nvSpPr>
        <p:spPr>
          <a:xfrm>
            <a:off x="457200" y="45720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 тихой улице Школьной с. Малое Ибряйкино расположена школа, в которой работает замечательный человек, чуткий педагог, преданный своему делу и беззаветно любящий детей, - моя мама, Гечь Екатерина Александровн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ама с детства любит петь. Она выступала на школьных концертах и принимала участие в мероприятиях СДК. И свою профессию мама еще в детстве решила связать с музыкой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x_c8175902"/>
          <p:cNvPicPr/>
          <p:nvPr/>
        </p:nvPicPr>
        <p:blipFill>
          <a:blip r:embed="rId1"/>
          <a:stretch/>
        </p:blipFill>
        <p:spPr>
          <a:xfrm>
            <a:off x="838080" y="3962520"/>
            <a:ext cx="3416400" cy="25621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i28vtjZw19s"/>
          <p:cNvPicPr/>
          <p:nvPr/>
        </p:nvPicPr>
        <p:blipFill>
          <a:blip r:embed="rId2"/>
          <a:stretch/>
        </p:blipFill>
        <p:spPr>
          <a:xfrm>
            <a:off x="5334120" y="3809880"/>
            <a:ext cx="27954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1"/>
          <p:cNvSpPr/>
          <p:nvPr/>
        </p:nvSpPr>
        <p:spPr>
          <a:xfrm>
            <a:off x="457200" y="304920"/>
            <a:ext cx="8381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аждое утро она с волнением открывает дверь школы, быстро поднимается в свой класс: ведь сейчас появятся ее ученик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Звенит звонок. Урок мама начинает с улыбки, которая, как говорил Экзюпери, «объединяет». И это действительно так. Уже светятся доверчивые лица маминых учеников. Детская душа желает приобщиться к чуду, а мама помогает ученикам отыскивать чудеса на каждом уроке, дерзать, творить, искать ответы на волнующие их вопросы. Ребята дарят  маме минуты фантазии и воображения, вдохновения и творчества, а она  с любовью всё принимае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У мамы много талантливых учеников. Они дарят радость людям своими выступлениями. И недаром школьные праздники посещают не только родители, но и жители сел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Adm0obPoxFI"/>
          <p:cNvPicPr/>
          <p:nvPr/>
        </p:nvPicPr>
        <p:blipFill>
          <a:blip r:embed="rId1"/>
          <a:stretch/>
        </p:blipFill>
        <p:spPr>
          <a:xfrm>
            <a:off x="0" y="457200"/>
            <a:ext cx="9136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x_010713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"/>
          <p:cNvSpPr/>
          <p:nvPr/>
        </p:nvSpPr>
        <p:spPr>
          <a:xfrm>
            <a:off x="304920" y="420120"/>
            <a:ext cx="85341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Мою мамулю  я люблю за её красоту, доброту и просто за то, что она моя мама. Ведь лучше мамы в мире человека нет. Она заботится о нас с самого нашего рождения, дарит нам своё тепло, доброту и свою материнскую любовь. Даже когда мы вырастаем, мамочка по-прежнему нас любит, как в детств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Мама талантлива, трудолюбива. Она – яркий, красивый, творческий человек. Я часто удивляюсь, как это хватает маме сил сходить на работу, приготовить ужин и сделать много других дел по дому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Моя мама – самый лучший друг на свете. Она выручит в трудной ситуации, поможет в беде, даст совет. Я очень люблю свою маму и забочусь о не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1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animClr clrSpc="rgb">
                                      <p:cBhvr>
                                        <p:cTn id="82" dur="1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set>
                                      <p:cBhvr>
                                        <p:cTn id="83" dur="1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x_ec9d3b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1"/>
          <p:cNvSpPr/>
          <p:nvPr/>
        </p:nvSpPr>
        <p:spPr>
          <a:xfrm>
            <a:off x="533520" y="4572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ама и ее ученики принимают участие в разных музыкальных конкурсах. Они являются победителями и призерами фестивалей «Серебряный микрофон», «Умы и таланты Земли Похвистневской (номинация – вокал)». Каждый год выступают на районном конкурсе патриотической песни и всегда возвращаются в родные школьные стены с победо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2" descr="DSC00414"/>
          <p:cNvPicPr/>
          <p:nvPr/>
        </p:nvPicPr>
        <p:blipFill>
          <a:blip r:embed="rId1"/>
          <a:stretch/>
        </p:blipFill>
        <p:spPr>
          <a:xfrm>
            <a:off x="5257800" y="388620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208" name="TextBox 3"/>
          <p:cNvSpPr/>
          <p:nvPr/>
        </p:nvSpPr>
        <p:spPr>
          <a:xfrm>
            <a:off x="533520" y="3441600"/>
            <a:ext cx="4495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ама не собирается останавливаться на достигнутом. Ее девиз – «Только вперед, к покорению новых вершин!». Я верю, что мама обязательно добьется новых успехов в своем нелегком труд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3T09:43:29Z</dcterms:created>
  <dc:creator>Admin</dc:creator>
  <dc:description/>
  <dc:language>en-US</dc:language>
  <cp:lastModifiedBy>Admin</cp:lastModifiedBy>
  <dcterms:modified xsi:type="dcterms:W3CDTF">2013-09-27T09:35:39Z</dcterms:modified>
  <cp:revision>21</cp:revision>
  <dc:subject/>
  <dc:title>Слайд 1</dc:title>
</cp:coreProperties>
</file>