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81D-7B9B-4508-826F-EA47D84A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93E-240D-4493-8FA2-0717E1F5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A91-1D52-40EF-B404-A48930C3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D93-483D-4F2C-8DE7-BF02D894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FD3-E9FE-4989-B954-E3830FF1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8C8-F14A-415C-9409-97E20B9E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8E8-1C2B-4F23-B452-05EBC003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1F5-D301-467F-B03B-CFDFEA56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BB1-2E88-4813-A5B4-C2D556C6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E13-ED12-4030-B7AF-85169DA4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584-65D9-4C02-B0AF-03BD260E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767-0A5A-4ACE-911B-1BB71894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C6DC-5897-4446-B359-74956449B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07880" y="281160"/>
            <a:ext cx="7809120" cy="4241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000080" y="3643200"/>
            <a:ext cx="671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полнил: Нестеров Никита Герм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ласс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БОУ ООШ с.Малое Ибряй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уководитель: Калягаев Сергей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86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9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22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18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9"/>
          <p:cNvSpPr/>
          <p:nvPr/>
        </p:nvSpPr>
        <p:spPr>
          <a:xfrm>
            <a:off x="1214280" y="785880"/>
            <a:ext cx="6643800" cy="1739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Моя мама - фельдшер ФАПа. Ее зовут Нестерова Галина Вениаминовна. У моей мамы очень много обязанностей: лечить людей, выезжать на дом к больным, проводить профилактику заболеваний, медицинские осмотры и т.д. Для неё самое главное - помочь больному и побыстрее вылечить его. Эта работа очень трудна и полезна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\Рабочий стол\IMG_20130925_175303.jpg"/>
          <p:cNvPicPr/>
          <p:nvPr/>
        </p:nvPicPr>
        <p:blipFill>
          <a:blip r:embed="rId1"/>
          <a:stretch/>
        </p:blipFill>
        <p:spPr>
          <a:xfrm>
            <a:off x="2146320" y="-15501960"/>
            <a:ext cx="882720" cy="974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3" descr="C:\Documents and Settings\Admin\Рабочий стол\IMG_20130925_175303.jpg"/>
          <p:cNvPicPr/>
          <p:nvPr/>
        </p:nvPicPr>
        <p:blipFill>
          <a:blip r:embed="rId2"/>
          <a:stretch/>
        </p:blipFill>
        <p:spPr>
          <a:xfrm>
            <a:off x="1214280" y="2786040"/>
            <a:ext cx="2652840" cy="360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E:\DCIM\102MSDCF\DSC00132.JPG"/>
          <p:cNvPicPr/>
          <p:nvPr/>
        </p:nvPicPr>
        <p:blipFill>
          <a:blip r:embed="rId3"/>
          <a:stretch/>
        </p:blipFill>
        <p:spPr>
          <a:xfrm>
            <a:off x="5143680" y="2786040"/>
            <a:ext cx="269532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C:\Documents and Settings\Admin\Рабочий стол\IMG_20130925_175320.jpg"/>
          <p:cNvPicPr/>
          <p:nvPr/>
        </p:nvPicPr>
        <p:blipFill>
          <a:blip r:embed="rId1"/>
          <a:stretch/>
        </p:blipFill>
        <p:spPr>
          <a:xfrm>
            <a:off x="428760" y="785880"/>
            <a:ext cx="4047840" cy="540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E:\DCIM\102MSDCF\DSC00135.JPG"/>
          <p:cNvPicPr/>
          <p:nvPr/>
        </p:nvPicPr>
        <p:blipFill>
          <a:blip r:embed="rId2"/>
          <a:stretch/>
        </p:blipFill>
        <p:spPr>
          <a:xfrm>
            <a:off x="4835520" y="785880"/>
            <a:ext cx="4019400" cy="53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928800" y="1000080"/>
            <a:ext cx="7643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Фельдшер-специалист со средним медицинским образованием, который имеет право проводить диагностику (устанавливать диагноз), проводить самостоятельное лечение или направлять пациента к врачу-специалис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3214800" y="2500200"/>
            <a:ext cx="3000240" cy="135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286080" y="2571840"/>
            <a:ext cx="285768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Фельдш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Ф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8" descr=""/>
          <p:cNvPicPr/>
          <p:nvPr/>
        </p:nvPicPr>
        <p:blipFill>
          <a:blip r:embed="rId1"/>
          <a:stretch/>
        </p:blipFill>
        <p:spPr>
          <a:xfrm>
            <a:off x="4552920" y="317520"/>
            <a:ext cx="4651560" cy="11095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9" descr=""/>
          <p:cNvPicPr/>
          <p:nvPr/>
        </p:nvPicPr>
        <p:blipFill>
          <a:blip r:embed="rId2"/>
          <a:stretch/>
        </p:blipFill>
        <p:spPr>
          <a:xfrm>
            <a:off x="4621320" y="4889520"/>
            <a:ext cx="4529160" cy="11095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0" descr=""/>
          <p:cNvPicPr/>
          <p:nvPr/>
        </p:nvPicPr>
        <p:blipFill>
          <a:blip r:embed="rId3"/>
          <a:stretch/>
        </p:blipFill>
        <p:spPr>
          <a:xfrm>
            <a:off x="-19080" y="317520"/>
            <a:ext cx="4944960" cy="11095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1" descr=""/>
          <p:cNvPicPr/>
          <p:nvPr/>
        </p:nvPicPr>
        <p:blipFill>
          <a:blip r:embed="rId4"/>
          <a:stretch/>
        </p:blipFill>
        <p:spPr>
          <a:xfrm>
            <a:off x="353880" y="4889520"/>
            <a:ext cx="4510080" cy="110952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верх 22"/>
          <p:cNvSpPr/>
          <p:nvPr/>
        </p:nvSpPr>
        <p:spPr>
          <a:xfrm>
            <a:off x="3143160" y="1500120"/>
            <a:ext cx="500040" cy="78588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верх 23"/>
          <p:cNvSpPr/>
          <p:nvPr/>
        </p:nvSpPr>
        <p:spPr>
          <a:xfrm>
            <a:off x="5857920" y="1500120"/>
            <a:ext cx="500040" cy="78588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24"/>
          <p:cNvSpPr/>
          <p:nvPr/>
        </p:nvSpPr>
        <p:spPr>
          <a:xfrm>
            <a:off x="3143160" y="4071960"/>
            <a:ext cx="500040" cy="8571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25"/>
          <p:cNvSpPr/>
          <p:nvPr/>
        </p:nvSpPr>
        <p:spPr>
          <a:xfrm>
            <a:off x="5857920" y="4071960"/>
            <a:ext cx="490320" cy="8571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8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4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66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714240" y="857160"/>
            <a:ext cx="7858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я мама обладает всеми качествами, необходимыми в нелегкой профессии фельдшера. Она общительная, отзывчивая, всегда поможет людям, если с ними случится б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ворят, что рецептов счастья нет. А моя мама  знает такой «рецепт». Знает, потому что счастлива сама. Каждое утро она с радостью идет на работу, а вечером с радостью возвращается в свою семью. Для мамы очень важно оправдать доверие людей, поддержать их, согревая з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714240" y="1214280"/>
            <a:ext cx="7715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 мамы не остается без внимания в вышестоящих инстанциях. Она награждена Грамотой Министерства здравоохранения, благодарностями местных органов управления. Мама участвует в тематических семинарах, за что получает сертификаты учас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сколько устных благодарностей, простого человеческого «спасибо» от односельча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а меня очень любит и старается дать всё, что она может. Иногда, конечно, я её огорчаю своими поступками, и мама очень переживает. Я считаю, что мама – самый близкий человек, ведь она всегда всем своим сердцем чувствует, хорошо мне или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extBox 3" descr=""/>
          <p:cNvPicPr/>
          <p:nvPr/>
        </p:nvPicPr>
        <p:blipFill>
          <a:blip r:embed="rId1"/>
          <a:stretch/>
        </p:blipFill>
        <p:spPr>
          <a:xfrm>
            <a:off x="-115920" y="1494000"/>
            <a:ext cx="9186840" cy="37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58:07Z</dcterms:created>
  <dc:creator>Admin</dc:creator>
  <dc:description/>
  <dc:language>en-US</dc:language>
  <cp:lastModifiedBy>Admin</cp:lastModifiedBy>
  <dcterms:modified xsi:type="dcterms:W3CDTF">2013-09-27T08:41:53Z</dcterms:modified>
  <cp:revision>26</cp:revision>
  <dc:subject/>
  <dc:title>Профессия моих родителей</dc:title>
</cp:coreProperties>
</file>