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11C0F-7A27-4EFF-962E-A77ACBE3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587F9-D935-4422-B32C-621EE262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FD5D4-8E87-43CB-9A75-3405071B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9E4B9-BB8B-4C1A-BCEE-4593A5FA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628C-9685-4AB3-918D-F6853ADF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2A50-3638-4CC9-BA30-8EDFC1BF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5522-DB7D-4B59-AD7F-D508870F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5C23-7239-490D-AB74-CDA38A02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4D10-71D1-4732-AF7B-031586F8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C0F3-77C5-4084-810D-28CDE0A1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5B93-C782-4A79-81F3-EDA8C7A9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DCAE7-1170-4FE9-9B7B-5F8B3EAD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3C83-711B-4B85-BA12-AF9EECDD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E231-5E83-425A-8D2F-DDE0B361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BFA5-A7C4-4869-A90F-9C370059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28F7-D42C-4D04-8C78-157DF518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D03E-D4B0-4E97-A333-A49671AB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966BA-B3AC-415D-A2A2-B24CBA35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7CB2-5994-489C-A38F-67EBFF6C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819E5-34DE-42F1-A8D9-F53F2A41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AADA7-9250-49C0-BA91-B7C38BDB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457A7-A630-4C79-A349-CF98426F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1E2AA-E994-4564-85C9-5878998F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1E290-2927-44A7-A657-AE7FFF00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FDD3-24DD-49DA-9FC7-4DB1D8598A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1B7A-0F77-453E-8C57-E0B2B89AA0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23640" y="206064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Нормальную жизнедеятельность организма человека обеспечивает большое количество органов. Существуют и функционируют эти органы совместно, а не по отдельности, т.е. все органы объединены в системы орган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Дыхательная систе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4" descr="36_04"/>
          <p:cNvPicPr/>
          <p:nvPr/>
        </p:nvPicPr>
        <p:blipFill>
          <a:blip r:embed="rId1"/>
          <a:stretch/>
        </p:blipFill>
        <p:spPr>
          <a:xfrm>
            <a:off x="1332000" y="1197000"/>
            <a:ext cx="6495840" cy="4457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36_04_"/>
          <p:cNvPicPr/>
          <p:nvPr/>
        </p:nvPicPr>
        <p:blipFill>
          <a:blip r:embed="rId2"/>
          <a:stretch/>
        </p:blipFill>
        <p:spPr>
          <a:xfrm>
            <a:off x="1324080" y="1200240"/>
            <a:ext cx="6495840" cy="4457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Нервная систе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4" descr="36_22"/>
          <p:cNvPicPr/>
          <p:nvPr/>
        </p:nvPicPr>
        <p:blipFill>
          <a:blip r:embed="rId1"/>
          <a:stretch/>
        </p:blipFill>
        <p:spPr>
          <a:xfrm>
            <a:off x="1332000" y="1341360"/>
            <a:ext cx="6514920" cy="512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36_22_"/>
          <p:cNvPicPr/>
          <p:nvPr/>
        </p:nvPicPr>
        <p:blipFill>
          <a:blip r:embed="rId2"/>
          <a:stretch/>
        </p:blipFill>
        <p:spPr>
          <a:xfrm>
            <a:off x="1332000" y="1341360"/>
            <a:ext cx="6514920" cy="5124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Эндокринная система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5"/>
          <p:cNvPicPr/>
          <p:nvPr/>
        </p:nvPicPr>
        <p:blipFill>
          <a:blip r:embed="rId1"/>
          <a:stretch/>
        </p:blipFill>
        <p:spPr>
          <a:xfrm>
            <a:off x="1763640" y="1413000"/>
            <a:ext cx="5533920" cy="5067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5_"/>
          <p:cNvPicPr/>
          <p:nvPr/>
        </p:nvPicPr>
        <p:blipFill>
          <a:blip r:embed="rId2"/>
          <a:stretch/>
        </p:blipFill>
        <p:spPr>
          <a:xfrm>
            <a:off x="1835280" y="1413000"/>
            <a:ext cx="5533920" cy="5067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Внутренние органы челове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8" descr="36_03"/>
          <p:cNvPicPr/>
          <p:nvPr/>
        </p:nvPicPr>
        <p:blipFill>
          <a:blip r:embed="rId1"/>
          <a:stretch/>
        </p:blipFill>
        <p:spPr>
          <a:xfrm>
            <a:off x="1692360" y="1557360"/>
            <a:ext cx="5724360" cy="5114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36_03_"/>
          <p:cNvPicPr/>
          <p:nvPr/>
        </p:nvPicPr>
        <p:blipFill>
          <a:blip r:embed="rId2"/>
          <a:stretch/>
        </p:blipFill>
        <p:spPr>
          <a:xfrm>
            <a:off x="1692360" y="1557360"/>
            <a:ext cx="5724360" cy="5114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Системы органов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Garamond"/>
              </a:rPr>
              <a:t>Системой органов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зывают группу анатомически связанных между собой органов, имеющих общее происхождение и единый план строения и выполняющих общую функци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организме человека выделяют несколько систем орган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Покровная систе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5" descr="36_14"/>
          <p:cNvPicPr/>
          <p:nvPr/>
        </p:nvPicPr>
        <p:blipFill>
          <a:blip r:embed="rId1"/>
          <a:stretch/>
        </p:blipFill>
        <p:spPr>
          <a:xfrm>
            <a:off x="1623960" y="1076400"/>
            <a:ext cx="5896080" cy="47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36_14_"/>
          <p:cNvPicPr/>
          <p:nvPr/>
        </p:nvPicPr>
        <p:blipFill>
          <a:blip r:embed="rId2"/>
          <a:stretch/>
        </p:blipFill>
        <p:spPr>
          <a:xfrm>
            <a:off x="1623960" y="1076400"/>
            <a:ext cx="5896080" cy="4705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келетная систе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01"/>
          <p:cNvPicPr/>
          <p:nvPr/>
        </p:nvPicPr>
        <p:blipFill>
          <a:blip r:embed="rId1"/>
          <a:stretch/>
        </p:blipFill>
        <p:spPr>
          <a:xfrm>
            <a:off x="2195640" y="1413000"/>
            <a:ext cx="4724280" cy="5143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01_"/>
          <p:cNvPicPr/>
          <p:nvPr/>
        </p:nvPicPr>
        <p:blipFill>
          <a:blip r:embed="rId2"/>
          <a:stretch/>
        </p:blipFill>
        <p:spPr>
          <a:xfrm>
            <a:off x="2195640" y="1413000"/>
            <a:ext cx="4724280" cy="5143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Мышечная систе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" descr="36_10"/>
          <p:cNvPicPr/>
          <p:nvPr/>
        </p:nvPicPr>
        <p:blipFill>
          <a:blip r:embed="rId1"/>
          <a:stretch/>
        </p:blipFill>
        <p:spPr>
          <a:xfrm>
            <a:off x="1476360" y="1341360"/>
            <a:ext cx="6229440" cy="5114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36_10_"/>
          <p:cNvPicPr/>
          <p:nvPr/>
        </p:nvPicPr>
        <p:blipFill>
          <a:blip r:embed="rId2"/>
          <a:stretch/>
        </p:blipFill>
        <p:spPr>
          <a:xfrm>
            <a:off x="1476360" y="1341360"/>
            <a:ext cx="6229440" cy="5114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Мочевыделительная систе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bkg10"/>
          <p:cNvPicPr/>
          <p:nvPr/>
        </p:nvPicPr>
        <p:blipFill>
          <a:blip r:embed="rId1"/>
          <a:stretch/>
        </p:blipFill>
        <p:spPr>
          <a:xfrm>
            <a:off x="1835280" y="1766880"/>
            <a:ext cx="4956120" cy="4326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Пищеварительная систе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4" descr="36_34"/>
          <p:cNvPicPr/>
          <p:nvPr/>
        </p:nvPicPr>
        <p:blipFill>
          <a:blip r:embed="rId1"/>
          <a:stretch/>
        </p:blipFill>
        <p:spPr>
          <a:xfrm>
            <a:off x="914400" y="1341360"/>
            <a:ext cx="7313760" cy="5349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36_34_"/>
          <p:cNvPicPr/>
          <p:nvPr/>
        </p:nvPicPr>
        <p:blipFill>
          <a:blip r:embed="rId2"/>
          <a:stretch/>
        </p:blipFill>
        <p:spPr>
          <a:xfrm>
            <a:off x="914400" y="1341360"/>
            <a:ext cx="7313760" cy="5349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Кровеносная систе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4" descr="6"/>
          <p:cNvPicPr/>
          <p:nvPr/>
        </p:nvPicPr>
        <p:blipFill>
          <a:blip r:embed="rId1"/>
          <a:stretch/>
        </p:blipFill>
        <p:spPr>
          <a:xfrm>
            <a:off x="1979640" y="1413000"/>
            <a:ext cx="5229360" cy="5267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6_"/>
          <p:cNvPicPr/>
          <p:nvPr/>
        </p:nvPicPr>
        <p:blipFill>
          <a:blip r:embed="rId2"/>
          <a:stretch/>
        </p:blipFill>
        <p:spPr>
          <a:xfrm>
            <a:off x="1979640" y="1413000"/>
            <a:ext cx="5229360" cy="526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06:19:58Z</dcterms:created>
  <dc:creator>1</dc:creator>
  <dc:description/>
  <dc:language>en-US</dc:language>
  <cp:lastModifiedBy>www.PHILka.RU</cp:lastModifiedBy>
  <dcterms:modified xsi:type="dcterms:W3CDTF">2009-01-22T14:43:25Z</dcterms:modified>
  <cp:revision>10</cp:revision>
  <dc:subject/>
  <dc:title>Системы органов</dc:title>
</cp:coreProperties>
</file>