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DDF-D1D4-4F8F-8C2D-E55221D5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66D-3BB4-4133-89C8-421EF17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49C-314E-46AB-9B20-F2DCAC7C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C3C-27DE-49E8-80F5-6EE3BE94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3E2-4668-4437-BDBF-DB4F0BC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D19-5A7F-4F89-8C72-94B4503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0E3-0C19-483C-92E2-DB740CC4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690-9837-404B-AADE-2BBE8050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404-781D-4BAC-90EE-23F8855D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559-527D-49DE-80EE-17D42EC1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BA5-5BF4-42A7-91D0-71DE58B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13E-3D33-4753-A6A7-AA25DD9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9317-4EBA-412F-AF08-4CE4CAE894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8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8ffff"/>
                </a:solidFill>
                <a:latin typeface="Tahoma"/>
              </a:rPr>
              <a:t>Формирование социальных установок на здоровый образ жиз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5640" y="4071960"/>
            <a:ext cx="637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Автор 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Кононенко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МБУ СОШ №7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г.о. Толья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облема: </a:t>
            </a:r>
            <a:r>
              <a:rPr b="1" lang="ru-RU" sz="2000" spc="-1" strike="noStrike">
                <a:solidFill>
                  <a:srgbClr val="b8ffff"/>
                </a:solidFill>
                <a:latin typeface="Times New Roman"/>
              </a:rPr>
              <a:t>В последние время большинство детей из    категории здоровых переходят в группу детей, страдающих различного рода функциональными отклонениями и хроническими заболеваниями, что не позволяет  им полноценно учиться и работать.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680" y="2060640"/>
            <a:ext cx="857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Задачи проект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b5ffff"/>
                </a:solidFill>
                <a:latin typeface="Times New Roman"/>
                <a:ea typeface="Times New Roman"/>
              </a:rPr>
              <a:t>В последние время большинство детей из категории здоровых переходят в группу детей, страдающих различного рода функциональными отклонениями и хроническими заболеваниями, что не позволяет  им полноценно учиться и работ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проекта: </a:t>
            </a:r>
            <a:r>
              <a:rPr b="1" lang="ru-RU" sz="2000" spc="-1" strike="noStrike">
                <a:solidFill>
                  <a:srgbClr val="b5ffff"/>
                </a:solidFill>
                <a:latin typeface="Times New Roman"/>
                <a:ea typeface="Times New Roman"/>
              </a:rPr>
              <a:t>Создать систему формирования ценностных ориентаций на здоровый образ жизни, использование которой в ходе учебно-воспитательного процесса будет способствовать созданию устойчивой мотивации у подростка к ведению здорового образа жизни, минимизации уровня вовлеченности обучающихся в употребление психоактивных веще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408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дача № 1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9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формировать у учащихся мотивацию к занятиям физическими упражнениями и привлечение родителей и детей к спорт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горячего двухразового питания учащихс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слородный коктейл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клуба выходного дн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клуба выходного дн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и проведение школьных конкурсов  с привлечением родителей «Самый здоровый класс», «Самый спортивный класс», «Лучший уголок - здоровь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дача №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формировать у учащихся осознанную потребность в ЗОЖ и мониторинг состояния организации деятельности по формированию навыков ЗОЖ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оки здоровь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ни здоровь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едения спортивных празд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ffff"/>
                </a:solidFill>
                <a:latin typeface="Times New Roman"/>
              </a:rPr>
              <a:t>Задача № 3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ь  у учащихся навыки сохранения и укрепления своего здоровья и здоровья окружающ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ные минутки на уроках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я спортивных перемен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нятость в кружках и спортивных секциях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кскурсии, пох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№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ь условия для формирования продуктивных  взаимодействий всех субъектов образовательно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ы и лекции с привлечением ресурсов социальных партнеров (ведущие: медработники и узкие специалист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решения собрания, его рекоменд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ок родител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ка (мониторинг здоровья). Проведение микроисследования в сообществе детей и р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 flipH="1">
            <a:off x="-632520" y="1716480"/>
            <a:ext cx="18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20680" y="1871640"/>
            <a:ext cx="2160720" cy="256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102120" y="2343240"/>
            <a:ext cx="2435040" cy="284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111720" y="3741840"/>
            <a:ext cx="2573640" cy="2973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89308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ffff"/>
                </a:solidFill>
                <a:latin typeface="Times New Roman"/>
              </a:rPr>
              <a:t>Сбор информации и проведение школьных конкурсов  с привлечением родител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0920" y="2637000"/>
            <a:ext cx="28242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берут интервью у  школьного вра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6"/>
          <p:cNvSpPr/>
          <p:nvPr/>
        </p:nvSpPr>
        <p:spPr>
          <a:xfrm flipH="1">
            <a:off x="2842560" y="1197000"/>
            <a:ext cx="3600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работают в шко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796000" y="1341360"/>
            <a:ext cx="32050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работают в  компьютерном клас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жидаемый результат и критери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9280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ые знания, умения и навыки у детей по здоровому образу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пропусков уроков по болезни из - за просту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ход учащихся из специальной или подготовительной группы  в основну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количество детей с заболеваниями желудочно-кишечного трак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 количества детей занимающихся в спортивных кружках и секциях   учреждениях дополнительного образ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социального взаимодейств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дерство (качества руководителя; готовность и способность к лидерству; интеграция, мотивация; делегирование; проведение мероприяти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, целостнос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коммуникативность (социальное взаимодействие, социальная интерактивность, социальное одобрение, коммуникативная компетентность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слуш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работать в коман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к кооперации в рамках междисциплинарных команд (способность общаться со специалистами из других областе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устной презент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учитывать точки зрения и интересы друг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е способ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7:06:17Z</dcterms:created>
  <dc:creator>User</dc:creator>
  <dc:description/>
  <dc:language>en-US</dc:language>
  <cp:lastModifiedBy>Светлана</cp:lastModifiedBy>
  <dcterms:modified xsi:type="dcterms:W3CDTF">2013-08-24T16:31:57Z</dcterms:modified>
  <cp:revision>86</cp:revision>
  <dc:subject/>
  <dc:title>Слайд 1</dc:title>
</cp:coreProperties>
</file>