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F96-E020-47C9-B6E3-90B59392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F43-4B5D-45A7-8BB4-7777193D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137-CE73-440E-9023-43329D38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595-60FF-4D6B-8080-E45CB892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F64-1CC0-43B2-9080-90787DB5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E8E8-FC04-498B-AB67-CED91FEC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1F6-AD90-432E-883C-D74609B0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892C-05B8-4F15-BB82-C000EC42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F5AC-84EC-4358-B7E2-FBC81D6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7985-0992-4872-B8D3-844308F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F5F-F1BF-4002-8514-20AB0FF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6AB-8E9A-4B3E-AC1B-3FD6D69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5DC2-1775-406F-B41D-67948868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F67C-B101-4F32-B2CA-2829689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0DF-E43E-4BB4-9D18-E181750B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6E6-4AB0-476B-8198-C585F7E6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C87-2E8E-472C-A2E3-FAB2A6B7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5AE-4D39-4DA3-8616-9338AE2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BE8-E289-4451-9599-23542B16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D9A-C3E2-49DC-95B1-3F575B0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3F7-F430-4D50-AB5C-79ABD8F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952-66C1-477D-83BE-F2A8A14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9DF-0D5D-4450-8C1D-435F4F6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64D-C9BC-48BE-97D9-9CEE889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890-3E62-4A85-9D22-297DB6B5C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D342-FD28-4CDF-A205-928563025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Периферический внутривенный катетер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66"/>
                </a:solidFill>
                <a:latin typeface="Arial Black"/>
              </a:rPr>
              <a:t>Преимущество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ка позволяет экономить время персонала, затрачиваемое на венепункции при частых внутривенных инъекциях, что также минимизирует психологическую нагрузку на пациента, не ограничивает его двигательной активности и комфор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ко эта процедура требует повышенной осторожности от медицинского персонала и пациента, так как связана с вмешательством в целостность сердечно-сосудистой системы и несет высокий риск осложн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временные полиуретановые и тефлоновые катетеры существенно снижают частоту осложнений, при адекватном уходе срок их эксплуатации можно увеличить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Times New Roman"/>
              </a:rPr>
              <a:t>С помощью периферического катетера возможны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ение лекарственных препара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уществление частых курсов внутривенной терапии хроническим пациент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йное внутривенное введение антибиот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бор крови для лабораторных исследов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в кровяное русло при неотложных состоян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ливание препаратов кров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ентеральное пита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дратация организ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вазивный мониторинг кровяного д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 увеличением числа катетеризаций сосудистого русла нарастает частота такого осложнения, как </a:t>
            </a:r>
            <a:r>
              <a:rPr b="0" i="1" lang="ru-RU" sz="3100" spc="-1" strike="noStrike">
                <a:solidFill>
                  <a:srgbClr val="ff0000"/>
                </a:solidFill>
                <a:latin typeface="Arial"/>
              </a:rPr>
              <a:t>катетер-ассоциированные инфекции кровоток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Они занимают третье место среди всех нозокомиальных инфекций и первое среди причин бактерием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должен применяться не от случая к случаю, а стать постоянным и привычным, кроме того, необходимо обеспечить безупречный уход за кате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f"/>
          <p:cNvPicPr/>
          <p:nvPr/>
        </p:nvPicPr>
        <p:blipFill>
          <a:blip r:embed="rId1"/>
          <a:stretch/>
        </p:blipFill>
        <p:spPr>
          <a:xfrm>
            <a:off x="4686480" y="2516040"/>
            <a:ext cx="37717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Arial"/>
              </a:rPr>
              <a:t>Помните, что только качественный уход за катетером и Ваше внимание являются главными условиями успешности проводимого лечения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При изучении документов, регламентирующих выполнение данных процедур</a:t>
            </a:r>
            <a:r>
              <a:rPr b="0" i="1" lang="ru-RU" sz="2200" spc="-1" strike="noStrike">
                <a:solidFill>
                  <a:srgbClr val="ff0000"/>
                </a:solidFill>
                <a:latin typeface="Arial Black"/>
              </a:rPr>
              <a:t> (СанПиН 2.1.3.2630-10), </a:t>
            </a: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читаем:</a:t>
            </a:r>
            <a:br>
              <a:rPr sz="2200"/>
            </a:br>
            <a:endParaRPr b="0" lang="en-US" sz="22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905120"/>
          <a:ext cx="7696080" cy="40384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 Постановку сосудистых катетеров  и уход за ними должен проводить специально обученный персонал (врач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 Для постановки центральных венозных и артериальных катетеров используют стерильное оснащение, включая стерильную одежду и перчатки, маску и большие стерильные салфе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 Место ввода катетера обрабатывают кожным антисептиком до постановки катете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 После того, как кожа была очищена кожным антисептиком, место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905120"/>
          <a:ext cx="7696080" cy="415116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416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и катетера не пальпиру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 В истории болезни записывают место и дату постановки катетера и дату его уда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 Перед любой манипуляцией с катетером персонал обрабатывает руки кожным антисептиком и надевает стерильные перчат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2 Для закрытия места ввода катетера используют специальные стерильные повязки или прозрачную повяз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3 Необходимо ежедневно пальпировать через неповрежденную повязку место постановки катетера для определения болезненности. В случае болезненности, лихорадки неясного генеза, бактериемии необходимо осматривать место катетеризации. Если повязка мешает осмотру и пальпации места катетеризации, ее удаляют и после осмотра накладывают нову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2120" y="1905120"/>
          <a:ext cx="7696080" cy="40384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4 При появлении первых признаков инфекции катетер удаляется и направляется на бактериологическое исследов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 Резиновые пробки многодозовых флаконов обтирают 70-% раствором спирта перед введение иглы во флако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6 Все парентеральные растворы готовятся в аптеке в шкафу с ламинарным потоком воздуха, использованием асептической технолог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905120"/>
          <a:ext cx="7696080" cy="40384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7 Перед использованием флаконы с парентеральными растворами визуально проверяют на мутность, наличие частиц, трещины и срок год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 Перед каждым доступом в систему персонал обрабатывает руки и место доступа кожным спиртовым антисепти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 Для введения растворов через катетер используют только стерильные одноразовые шприц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риферический внутривенный (венозный) катетер (ПВК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это устройство, введенное в периферическую вену и обеспечивающее доступ в кровяное русло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нутривенное введение растворов может привести к общим и местным осложнениям!!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красн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еч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оли и дискомфорт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лотности соединения инфузионной системы и катетер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мопроизвольного изменения скорости введения раствор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ifDqzGErRS_large"/>
          <p:cNvPicPr/>
          <p:nvPr/>
        </p:nvPicPr>
        <p:blipFill>
          <a:blip r:embed="rId1"/>
          <a:stretch/>
        </p:blipFill>
        <p:spPr>
          <a:xfrm>
            <a:off x="1346040" y="1905120"/>
            <a:ext cx="2603520" cy="194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bcess-0011"/>
          <p:cNvPicPr/>
          <p:nvPr/>
        </p:nvPicPr>
        <p:blipFill>
          <a:blip r:embed="rId2"/>
          <a:stretch/>
        </p:blipFill>
        <p:spPr>
          <a:xfrm>
            <a:off x="1596960" y="4000680"/>
            <a:ext cx="21002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 общим осложнениям относятся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птицемия и пирогенные реакц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ромбоэмбол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оздушная эмбол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афилактический шок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Шок от быстрого введения раствора, когда препарат в токсичной концентрации достигает сердца и мозг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стные осложнения – это: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узионный флебит (септический, механический, химический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омбофлеби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мато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нозный или артериальный спаз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реждение близко расположенного нер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упорка иглы или кате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Arial"/>
              </a:rPr>
              <a:t>Инфузионный флебит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– одно из местных осложнений, которое возникает при проникновении микроорганизмов в ткани, прилегающие к месту катетеризации вены, и вызывает местный инфекционный процесс (септический флебит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озможные осложнения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душная эмбол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ематома, связанная с удалением катетер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ематома, связанная с установкой ПВВК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омбоэмбол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леби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нфузионный флеби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7" name="Picture 9" descr="infiltrated-iv-site-treatment-814"/>
          <p:cNvPicPr/>
          <p:nvPr/>
        </p:nvPicPr>
        <p:blipFill>
          <a:blip r:embed="rId1"/>
          <a:stretch/>
        </p:blipFill>
        <p:spPr>
          <a:xfrm>
            <a:off x="1177920" y="1905120"/>
            <a:ext cx="2938320" cy="194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phl18a"/>
          <p:cNvPicPr/>
          <p:nvPr/>
        </p:nvPicPr>
        <p:blipFill>
          <a:blip r:embed="rId2"/>
          <a:stretch/>
        </p:blipFill>
        <p:spPr>
          <a:xfrm>
            <a:off x="5276880" y="1905120"/>
            <a:ext cx="2589120" cy="194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phlebitis"/>
          <p:cNvPicPr/>
          <p:nvPr/>
        </p:nvPicPr>
        <p:blipFill>
          <a:blip r:embed="rId3"/>
          <a:stretch/>
        </p:blipFill>
        <p:spPr>
          <a:xfrm>
            <a:off x="5276880" y="400068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clip_image002"/>
          <p:cNvPicPr/>
          <p:nvPr/>
        </p:nvPicPr>
        <p:blipFill>
          <a:blip r:embed="rId4"/>
          <a:stretch/>
        </p:blipFill>
        <p:spPr>
          <a:xfrm>
            <a:off x="1379520" y="4000680"/>
            <a:ext cx="25351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1905120"/>
          <a:ext cx="7696080" cy="4152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узионный флебит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: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птический флеб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рязные руки», неправильная техника фиксации катетера и выбора повяз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ий флеб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боре слишком толстой иглы; если производились многочисленные попытки пункции или плохой фиксации катетер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 флеб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раздражение внутренней стенки вены инфузионным раствором приводит к воспалению (4 и 7,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нтибиотики 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ерсоналу необходимо ежедневно осматривать место установки катетера как до, так и после проведения инфузионной терап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Intravenous_therapy_2007-SEP-13-Singapore"/>
          <p:cNvPicPr/>
          <p:nvPr/>
        </p:nvPicPr>
        <p:blipFill>
          <a:blip r:embed="rId1"/>
          <a:stretch/>
        </p:blipFill>
        <p:spPr>
          <a:xfrm>
            <a:off x="5364000" y="2781360"/>
            <a:ext cx="317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ые и загрязненные повязки следует заменять, придерживаясь требований антисептики, в том числе проводить обработку рук спиртсодержащим антисептиком, использовать стерильные перчатки и специальные стерильные повязки для фикс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710c24fc89c3"/>
          <p:cNvPicPr/>
          <p:nvPr/>
        </p:nvPicPr>
        <p:blipFill>
          <a:blip r:embed="rId1"/>
          <a:stretch/>
        </p:blipFill>
        <p:spPr>
          <a:xfrm>
            <a:off x="762120" y="2265480"/>
            <a:ext cx="377172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епортованные  ПВВ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atet6"/>
          <p:cNvPicPr/>
          <p:nvPr/>
        </p:nvPicPr>
        <p:blipFill>
          <a:blip r:embed="rId1"/>
          <a:stretch/>
        </p:blipFill>
        <p:spPr>
          <a:xfrm>
            <a:off x="5048280" y="240048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ату и время установки следует фиксировать в истории болезни или листе назначений, а его замену проводить каждые 48 – 120 час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0007-007-Istorija-bolezni-patsienta-v-nej-fiksirujutsja-vse-dejstvija-provodimye"/>
          <p:cNvPicPr/>
          <p:nvPr/>
        </p:nvPicPr>
        <p:blipFill>
          <a:blip r:embed="rId1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и после каждого введения лекарственных средств для проверки эффективности системы следует промыть катетер стерильным физиологическим раствором или гепаринизированным раств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a_42_8"/>
          <p:cNvPicPr/>
          <p:nvPr/>
        </p:nvPicPr>
        <p:blipFill>
          <a:blip r:embed="rId1"/>
          <a:stretch/>
        </p:blipFill>
        <p:spPr>
          <a:xfrm>
            <a:off x="762120" y="1989000"/>
            <a:ext cx="3771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случае должно быть назначение врача с указанием дозы разведения, во избежание серьезных осложнений, связанных с ГИТ (гепарино-индуцированная тромбоцитопения) под контролем коагулограммы, в магистральных венах – так называемый гепариновый подпор в кате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5267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ыт показывает, что эта процедура не является достаточно безопасной. Она должна осуществляться только при учете показаний и противопоказ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ложнения периферических венозных катетеров чаще возникают у мужчин (23,3%), так как именно они наиболее часто подвержены вредным привычкам (курение, алкоголизм, наркомания), что приводит к снижению иммунитета. У женщин осложнения (флебит) возникает лишь в 11,1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1" name="Picture 9" descr="3-3"/>
          <p:cNvPicPr/>
          <p:nvPr/>
        </p:nvPicPr>
        <p:blipFill>
          <a:blip r:embed="rId1"/>
          <a:stretch/>
        </p:blipFill>
        <p:spPr>
          <a:xfrm>
            <a:off x="1187280" y="1905120"/>
            <a:ext cx="2921040" cy="1942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174_0"/>
          <p:cNvPicPr/>
          <p:nvPr/>
        </p:nvPicPr>
        <p:blipFill>
          <a:blip r:embed="rId2"/>
          <a:stretch/>
        </p:blipFill>
        <p:spPr>
          <a:xfrm>
            <a:off x="5600880" y="19051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4505"/>
          <p:cNvPicPr/>
          <p:nvPr/>
        </p:nvPicPr>
        <p:blipFill>
          <a:blip r:embed="rId3"/>
          <a:stretch/>
        </p:blipFill>
        <p:spPr>
          <a:xfrm>
            <a:off x="1436760" y="4000680"/>
            <a:ext cx="2421000" cy="194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pic_big_30"/>
          <p:cNvPicPr/>
          <p:nvPr/>
        </p:nvPicPr>
        <p:blipFill>
          <a:blip r:embed="rId4"/>
          <a:stretch/>
        </p:blipFill>
        <p:spPr>
          <a:xfrm>
            <a:off x="5116680" y="4000680"/>
            <a:ext cx="2909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арактеристики и цветовая маркировка катетеров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Arial Black"/>
              </a:rPr>
              <a:t>Медифлон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1905120"/>
          <a:ext cx="7696080" cy="40384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 (мм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м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к жид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л/мин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ук в упаков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анже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серый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еле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арактеристики и цветовая маркировка катетеров </a:t>
            </a:r>
            <a:r>
              <a:rPr b="1" i="1" lang="ru-RU" sz="3300" spc="-1" strike="noStrike" u="sng">
                <a:solidFill>
                  <a:srgbClr val="336666"/>
                </a:solidFill>
                <a:uFillTx/>
                <a:latin typeface="Arial Black"/>
              </a:rPr>
              <a:t>Медифлон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2120" y="1905120"/>
          <a:ext cx="7696080" cy="30286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роз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иний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0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рошо выбранный венозный досту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ущественный момент успешной внутривенной терап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3m_tegaderm_1635"/>
          <p:cNvPicPr/>
          <p:nvPr/>
        </p:nvPicPr>
        <p:blipFill>
          <a:blip r:embed="rId1"/>
          <a:stretch/>
        </p:blipFill>
        <p:spPr>
          <a:xfrm>
            <a:off x="5619600" y="2162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710c24fc89c3"/>
          <p:cNvPicPr/>
          <p:nvPr/>
        </p:nvPicPr>
        <p:blipFill>
          <a:blip r:embed="rId2"/>
          <a:stretch/>
        </p:blipFill>
        <p:spPr>
          <a:xfrm>
            <a:off x="5467320" y="4000680"/>
            <a:ext cx="2209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6666"/>
                </a:solidFill>
                <a:latin typeface="Arial Black"/>
              </a:rPr>
              <a:t>При выборе места катетеризации необходимо учитывать:</a:t>
            </a:r>
            <a:endParaRPr b="0" lang="en-US" sz="3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ения пац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ту доступа к месту пункции, пригодность сосуда для катетеризации. При катетеризации сначала предпочтительны дистальные вены. Следует использовать мягкие, эластичные на ощупь вены, крупные, прямые, соответствующие длине катетера, лучше – на «рабочей» ру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иболее часто катетеризируются латеральные и медиальные подкожные вены руки, промежуточные вены локтя и промежуточные вены предплечья. Иногда, при невозможности их катетеризации, используют пястные и пальцевые ве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1266176"/>
          <p:cNvPicPr/>
          <p:nvPr/>
        </p:nvPicPr>
        <p:blipFill>
          <a:blip r:embed="rId1"/>
          <a:stretch/>
        </p:blipFill>
        <p:spPr>
          <a:xfrm>
            <a:off x="4686480" y="2511360"/>
            <a:ext cx="3771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Times New Roman"/>
              </a:rPr>
              <a:t>Портованные ПВВК имеют дополнительный инъекционный порт для введения препаратов без дополнительной пункции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7" descr="368"/>
          <p:cNvPicPr/>
          <p:nvPr/>
        </p:nvPicPr>
        <p:blipFill>
          <a:blip r:embed="rId1"/>
          <a:stretch/>
        </p:blipFill>
        <p:spPr>
          <a:xfrm>
            <a:off x="762120" y="2516040"/>
            <a:ext cx="3771720" cy="281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3056628640-500x500"/>
          <p:cNvPicPr/>
          <p:nvPr/>
        </p:nvPicPr>
        <p:blipFill>
          <a:blip r:embed="rId2"/>
          <a:stretch/>
        </p:blipFill>
        <p:spPr>
          <a:xfrm>
            <a:off x="4686480" y="2038320"/>
            <a:ext cx="3771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ВВК следует устанавливать в вен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рошо пальпируемые с высоким кровяным наполнение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ечностей недоминирующей стороны тел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 стороны, противоположной той, где выполнялось оперативное вмешательство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максимально возможным диамет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выборе катетера учитывают диаметр вены, потенциальное время нахождения катетера в вене, необходимую скорость введения раствора, а также его свой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выборе катетера главное – выбрать тот, который при наименьшем размере обеспечит необходимую скорость введения в самой крупной из доступных периферических ве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578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ЕЛЬ: лечебная, определяет врач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СНАЩЕНИЕ: стерильный лоток, лоток для использованного материала, шприц с гепарином в разведении 1:100, стерильные ватные шарики и салфетки, лейкопластырь или клеящая повязка, кожный антисептик, периферические внутривенные катетеры нескольких размеров, жгут,  перчатки, бинт средней ширины, подушечка, бик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I. ПОДГОТОВКА К ПРОЦЕДУР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Вымойте ру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Соберите все необходимое оснащение для проведения манипуляции: стерильный лоток, лоток для использованного материала, шприц с гепарином в разведении 1:100, стерильные ватные шарики и салфетки, лейкопластырь или клеящая повязка, кожный антисептик, периферические внутривенные катетеры нескольких размеров, жгут, стерильные перчатки, бинт средней ширины, подушечку, бик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олучите согласие пациента для проведения манипуляции. Убедитесь, что перед вами пациент, которому назначена катетеризация вены. Усадите пациента, под локтевой сустав подложите подушечку. Разъясните ему суть предстоящей процедуры, определите предпочтения пациента в отношении места постановки катет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етодом осмотра определите место пункции и диаметр катет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Проверив целостность упаковки и срок годности, приготовьте катетер к рабо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II. ВЫПОЛНЕНИЕ ПРОЦЕДУР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Наложите ленточный жгут на 10-15 см выше выбранной зон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Обработайте место катетеризации вены кожным антисептиком. Снизу вверх сначала большое инъекционное поле, затем непосредственно место инъекци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Обработайте руки антисептиком, дайте высохнуть и наденьте стерильные перчат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9. Введите катетер на игле под углом 15 градусов к кож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0. При появлении крови в индикаторной камере уменьшите угол наклона иглы-стилета на несколько миллиметров введите иглу в вен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1. Зафиксируйте иглу-стилет, а канюлю медленно до конца сдвигайте с иглы в вену (игла-стилет полностью из катетера пока не удаляется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III. ЗАВЕРШЕНИЕ ПРОЦЕДУР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2. Снимите жгут. Не допускайте введения иглы-стилета в катетер после смещения его в вену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3. Пережмите вену для снижения кровотечения и окончательно удалите иглу из катетер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4. Присоедините систему для инфузии или закройте катетер стерильной заглушкой, сделайте «гепариновый замок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5. Зафиксируйте катетер с помощью фиксирующей повяз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28800" y="407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6. Использованный материал поместите в емкость с 3 % раствором Хлорамина. Утилизируйте отходы в соответствии с правилами техники безопасности и санитарно-эпидемиологического режи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иферический внутривенный катете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Picture 7" descr="13056628651-500x500"/>
          <p:cNvPicPr/>
          <p:nvPr/>
        </p:nvPicPr>
        <p:blipFill>
          <a:blip r:embed="rId1"/>
          <a:stretch/>
        </p:blipFill>
        <p:spPr>
          <a:xfrm>
            <a:off x="762120" y="2038320"/>
            <a:ext cx="3771720" cy="377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vnutrivennyj-kateter"/>
          <p:cNvPicPr/>
          <p:nvPr/>
        </p:nvPicPr>
        <p:blipFill>
          <a:blip r:embed="rId2"/>
          <a:stretch/>
        </p:blipFill>
        <p:spPr>
          <a:xfrm>
            <a:off x="4762440" y="256716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АЛГОРИТМ ПОСТАНОВКИ ПЕРИФЕРИЧЕСКОГО ВЕНОЗНОГО КАТЕТЕРА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7. Снимите перчатки, поместите их с емкость с дезинфицирующим раствором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8. Вымойте ру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9. Зарегистрируйте процедуру катетеризации вены. Время установки ПВВК необходимо фиксировать в листе назначений (форма 004/У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</a:rPr>
              <a:t>Катетеризация периферических вен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это метод установления доступа к кровяному руслу на длительный период времени через периферические вены посредством установки периферического внутривенного кате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За один год в мире устанавливается свыше 500 млн периферических венозных катетеров (ПВК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 появлением на отечественном рынке качественных изделий методика проведения инфузионной терапии с помощью установленной в периферический сосуд канюли с каждым годом получает все большее признание медицинских работников и пациен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easiv"/>
          <p:cNvPicPr/>
          <p:nvPr/>
        </p:nvPicPr>
        <p:blipFill>
          <a:blip r:embed="rId1"/>
          <a:stretch/>
        </p:blipFill>
        <p:spPr>
          <a:xfrm>
            <a:off x="762120" y="2085840"/>
            <a:ext cx="37717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перация делает пациента более мобильным, позволяет избежать повреждения вены при движения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13056628640-500x500"/>
          <p:cNvPicPr/>
          <p:nvPr/>
        </p:nvPicPr>
        <p:blipFill>
          <a:blip r:embed="rId1"/>
          <a:stretch/>
        </p:blipFill>
        <p:spPr>
          <a:xfrm>
            <a:off x="4686480" y="2038320"/>
            <a:ext cx="3771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7:31:29Z</dcterms:created>
  <dc:creator>Женя</dc:creator>
  <dc:description/>
  <dc:language>en-US</dc:language>
  <cp:lastModifiedBy>Евгеша</cp:lastModifiedBy>
  <dcterms:modified xsi:type="dcterms:W3CDTF">2013-06-13T17:47:37Z</dcterms:modified>
  <cp:revision>6</cp:revision>
  <dc:subject/>
  <dc:title>Периферический внутривенный катетер</dc:title>
</cp:coreProperties>
</file>