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B45-52F9-4CD7-9665-ECC6BA69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784-9C98-4F94-B767-DE79A5BE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9E3-1199-47C1-8898-9D5E7F24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828-0225-45A9-8CB9-4F0CC189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BAE-2837-4A3A-941B-5F2B37F6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F99-C41D-4BD7-85AE-76981B11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931-261E-41EF-B0BE-8C9106AD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006-4844-43C3-B9B2-2784F5E7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CA2-E7CA-4E72-A85A-EE1E6F52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0DF-8408-41EA-A9CD-163008C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17A-B02C-4452-8B54-90987EC7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406-4050-4762-B398-A08F578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7348-43EF-40A8-AB45-A6C5F3E6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иметр треугольника. Построение треугольника по заданным сторон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3886200"/>
            <a:ext cx="6049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вычислить периметр надо сложить длины сторон треуголь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=7см +5 см +5см=17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метр треугольника АВС  17 санти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ертите    АВС со сторонами АВ=7см, ВС=5см, АС=5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4149720"/>
            <a:ext cx="36007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436572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407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07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42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579640" y="4220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58920" y="4149720"/>
            <a:ext cx="649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549360"/>
            <a:ext cx="14472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492360" y="2420640"/>
            <a:ext cx="1943280" cy="16556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08000" y="2421000"/>
            <a:ext cx="1584360" cy="1728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348000" y="2205000"/>
            <a:ext cx="115200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4920" y="1916280"/>
            <a:ext cx="1008720" cy="187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637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1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564000" y="1484280"/>
            <a:ext cx="71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7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Классификация треугольников по длинам стор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вносторонний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2852640"/>
            <a:ext cx="3384360" cy="22320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284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328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5229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носторонний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2133720"/>
            <a:ext cx="3456000" cy="324000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566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357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внобедренный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341360"/>
            <a:ext cx="3961080" cy="439128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32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580536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Периметр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050920" y="1844280"/>
            <a:ext cx="2160720" cy="4248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1844640"/>
            <a:ext cx="2808360" cy="3384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050920" y="5229000"/>
            <a:ext cx="4969080" cy="863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895600" y="112536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144000" y="458136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494560" y="64911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00185 C -0.23108 0.02382 -0.44219 0.04601 -0.52622 0.0548 E">
                                      <p:cBhvr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0046 C -0.34636 0.08047 -0.6691 0.16162 -0.79827 0.19399 E">
                                      <p:cBhvr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-0.01873 C -0.10347 -0.09179 -0.16944 -0.16485 -0.19618 -0.19399 E">
                                      <p:cBhvr>
                                        <p:cTn id="12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V="1">
            <a:off x="395280" y="2997000"/>
            <a:ext cx="2736720" cy="216036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084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2997360"/>
            <a:ext cx="2160720" cy="151128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37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2349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472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213372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292720" y="2276640"/>
            <a:ext cx="1295280" cy="2232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205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4724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364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342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V="1">
            <a:off x="611280" y="4365360"/>
            <a:ext cx="3240000" cy="136836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851280" y="3429000"/>
            <a:ext cx="2160720" cy="93672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12000" y="2421000"/>
            <a:ext cx="2305080" cy="1008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589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44000" y="2276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580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4653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35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5080" y="1989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30064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4149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35280" y="5157720"/>
            <a:ext cx="3457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35280" y="3716280"/>
            <a:ext cx="1728720" cy="144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3563640" y="3716280"/>
            <a:ext cx="1655640" cy="14414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551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544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551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3789360"/>
            <a:ext cx="7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с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ите периметр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3:36:00Z</dcterms:created>
  <dc:creator>SamLab.ws</dc:creator>
  <dc:description/>
  <dc:language>en-US</dc:language>
  <cp:lastModifiedBy>Для Работы</cp:lastModifiedBy>
  <dcterms:modified xsi:type="dcterms:W3CDTF">2013-10-08T18:35:59Z</dcterms:modified>
  <cp:revision>8</cp:revision>
  <dc:subject/>
  <dc:title>Слайд 1</dc:title>
</cp:coreProperties>
</file>