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5.png" ContentType="image/png"/>
  <Override PartName="/ppt/media/image9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819-FF66-45C0-BA57-EB63792B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256-913E-46CA-817E-E66DCD46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27C-AA69-4F19-BF22-1FD85D4B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CDD-A0E7-4BFA-B988-29E76120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DD2-B484-4846-877A-B01E946B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72D-A204-4A8E-97A4-DB985FFE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18B-5FED-4D2A-8D4C-2BE689B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6F8-202E-414F-9F5D-9395D11D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0CD-6D17-4A2A-806D-7020C1F6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06F-BFF9-4371-B152-D4F0F94E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4CC-5D34-4FB4-BE60-D05C0D3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71F-13BE-4384-8431-CB75D25B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DD65-07BC-4F86-886B-077949F31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42920" y="785880"/>
            <a:ext cx="8858160" cy="5500800"/>
          </a:xfrm>
          <a:prstGeom prst="rect">
            <a:avLst/>
          </a:prstGeom>
          <a:solidFill>
            <a:srgbClr val="ffffff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Звездное небо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1584360" y="-208080"/>
            <a:ext cx="59022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142920" y="785880"/>
            <a:ext cx="8858160" cy="5500800"/>
          </a:xfrm>
          <a:prstGeom prst="rect">
            <a:avLst/>
          </a:prstGeom>
          <a:solidFill>
            <a:srgbClr val="ffffff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ольшинство звез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1639800" y="-208080"/>
            <a:ext cx="5797800" cy="1195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Строение звезды.png"/>
          <p:cNvPicPr/>
          <p:nvPr/>
        </p:nvPicPr>
        <p:blipFill>
          <a:blip r:embed="rId3"/>
          <a:stretch/>
        </p:blipFill>
        <p:spPr>
          <a:xfrm>
            <a:off x="142920" y="1643040"/>
            <a:ext cx="6635880" cy="4576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142920" y="85716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ольшинство звезд во вселенной похожи на наше солнце по своему строению и составу. Мы можем видеть их свет так же, как видим свет нашей звезды – Солн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42920" y="785880"/>
            <a:ext cx="8858160" cy="5500800"/>
          </a:xfrm>
          <a:prstGeom prst="rect">
            <a:avLst/>
          </a:prstGeom>
          <a:solidFill>
            <a:srgbClr val="ffffff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-208080"/>
            <a:ext cx="8582040" cy="1195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42920" y="85716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На небе без телескопа можно увидеть максимально 3 тысячи звёзд в северном полушарии и 3 тысячи в южн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амые яркие звёзды имеют имена и из них образованы созвезд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России мы можем видеть много ярких звёз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28760" y="214308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Ночью самая яркая звезда – Сириус. Он находится в созвездии Большого п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6" descr="Большой пес.gif"/>
          <p:cNvPicPr/>
          <p:nvPr/>
        </p:nvPicPr>
        <p:blipFill>
          <a:blip r:embed="rId3"/>
          <a:stretch/>
        </p:blipFill>
        <p:spPr>
          <a:xfrm>
            <a:off x="500040" y="3143160"/>
            <a:ext cx="3703680" cy="3000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Волопас.gif"/>
          <p:cNvPicPr/>
          <p:nvPr/>
        </p:nvPicPr>
        <p:blipFill>
          <a:blip r:embed="rId4"/>
          <a:stretch/>
        </p:blipFill>
        <p:spPr>
          <a:xfrm>
            <a:off x="4572000" y="3143160"/>
            <a:ext cx="3586320" cy="2989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4500720" y="214308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торая по яркости звезда – Арктур. Он находится в созвездии Волопа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42920" y="785880"/>
            <a:ext cx="8858160" cy="5500800"/>
          </a:xfrm>
          <a:prstGeom prst="rect">
            <a:avLst/>
          </a:prstGeom>
          <a:solidFill>
            <a:srgbClr val="ffffff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133200" y="-208080"/>
            <a:ext cx="8877600" cy="1195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42920" y="85716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амые известные созвездия – это созвездия Зодиака. Те созвездия, через которые каждый год проходит Солнце при своем движении по неб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сего их 13, но в зодиак включили только 12, по количеству месяцев в году и созвездие Змеелова в круг не попал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9" descr="Круг Зодиака.gif"/>
          <p:cNvPicPr/>
          <p:nvPr/>
        </p:nvPicPr>
        <p:blipFill>
          <a:blip r:embed="rId3"/>
          <a:stretch/>
        </p:blipFill>
        <p:spPr>
          <a:xfrm>
            <a:off x="214200" y="2500200"/>
            <a:ext cx="72154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142920" y="785880"/>
            <a:ext cx="8858160" cy="5500800"/>
          </a:xfrm>
          <a:prstGeom prst="rect">
            <a:avLst/>
          </a:prstGeom>
          <a:solidFill>
            <a:srgbClr val="ffffff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133200" y="-208080"/>
            <a:ext cx="8877600" cy="1195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4929120" y="1143000"/>
            <a:ext cx="364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лярная звезда очень яркая звезда, которая ближе всех расположена к северному полюсу мира. Поэтому полярная звезда всегда находится на одном месте  и указывает на север. В древности мореплаватели находили север по полярной звез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Находится полярная звезда в конце ковша созвездия Малой медведиц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6" descr="полярная звезда 1.jpg"/>
          <p:cNvPicPr/>
          <p:nvPr/>
        </p:nvPicPr>
        <p:blipFill>
          <a:blip r:embed="rId3"/>
          <a:stretch/>
        </p:blipFill>
        <p:spPr>
          <a:xfrm>
            <a:off x="428760" y="1019160"/>
            <a:ext cx="3143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142920" y="785880"/>
            <a:ext cx="8858160" cy="5500800"/>
          </a:xfrm>
          <a:prstGeom prst="rect">
            <a:avLst/>
          </a:prstGeom>
          <a:solidFill>
            <a:srgbClr val="ffffff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133200" y="-208080"/>
            <a:ext cx="8877600" cy="1195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42920" y="85716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Наша солнечная система находится в галактике Млечный путь. Он виден из любой точки земной поверхности. С Земли Млечный путь кажется тусклой светящейся дорогой. На самом деле он состоит из огромного количества звезд, их около 200 миллиар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9" descr="млечный путь.jpg"/>
          <p:cNvPicPr/>
          <p:nvPr/>
        </p:nvPicPr>
        <p:blipFill>
          <a:blip r:embed="rId3"/>
          <a:stretch/>
        </p:blipFill>
        <p:spPr>
          <a:xfrm>
            <a:off x="166680" y="300024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Млечный путь 1.jpg"/>
          <p:cNvPicPr/>
          <p:nvPr/>
        </p:nvPicPr>
        <p:blipFill>
          <a:blip r:embed="rId4"/>
          <a:stretch/>
        </p:blipFill>
        <p:spPr>
          <a:xfrm>
            <a:off x="4572000" y="3000240"/>
            <a:ext cx="4286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05:18:26Z</dcterms:created>
  <dc:creator>VIENNA XP</dc:creator>
  <dc:description/>
  <dc:language>en-US</dc:language>
  <cp:lastModifiedBy>VIENNA XP</cp:lastModifiedBy>
  <dcterms:modified xsi:type="dcterms:W3CDTF">2013-10-06T06:51:07Z</dcterms:modified>
  <cp:revision>20</cp:revision>
  <dc:subject/>
  <dc:title>Слайд 1</dc:title>
</cp:coreProperties>
</file>