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1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4668-EFA6-4EE0-ACA5-3CCF6CBCE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712D-4F18-493D-B874-0B824A3C6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B063-EE71-45E4-99F8-EB5EC3EDF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7D58-B7B8-4614-9B9C-E50EC0524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00D7CD-036A-432E-9973-295B79E10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A485F0-0078-4664-828E-D22859DFA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99BB17-5E0C-44ED-981A-0B9394CB7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B29519-CADA-42AB-82B2-491873DB0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EA5EF1-7F3F-4B5F-8715-B9258FA5A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6A5ECC-A779-4E5E-9D7F-CCF376F3A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7446A4-F455-4877-8096-40A9B46B2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7B9D-8A8D-4325-9C49-0949A8591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236360-5DE1-4B4A-B585-9628A914F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1F9FEE-3782-42DF-A394-DE21C34D7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299281-C650-4950-A857-09DBDED65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E57D56-5F39-46A8-8082-61B440A49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51B20A-CBEB-4FF0-BF4C-B75DFC2EA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1A70-E233-4A4C-A900-71747CD5D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999E-39DB-4F40-91D8-84B3EA8FF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F47F-27AB-48DC-B72E-71DB9387A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4CB8-C879-42AB-9469-AF40E761B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32F7-DC04-497F-AC38-FCA75594B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DE07-E116-4714-B764-F52E750C0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E0BD-F6A7-4C6A-A536-A52E89B5B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951FF-A7DB-4FD8-987C-51FCBC21FFF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A554E-2390-4A29-AD35-EC70A8B4F58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Очень сердиты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57200" y="1905120"/>
            <a:ext cx="4038480" cy="41148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4648320" y="1905120"/>
            <a:ext cx="4038480" cy="41148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Спор, кто прав 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57200" y="4038480"/>
            <a:ext cx="4038480" cy="198144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 + 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 + 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457200" y="1905120"/>
            <a:ext cx="4038480" cy="1981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57200" y="1905120"/>
            <a:ext cx="8229600" cy="41148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Правило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То перестановки слагаемых сумм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е изменяетс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457200" y="1905120"/>
            <a:ext cx="8229600" cy="41148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457200" y="1905120"/>
            <a:ext cx="8229600" cy="41148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Найди лишний предмет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050840" y="1905120"/>
            <a:ext cx="2849760" cy="19825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5681520" y="1905120"/>
            <a:ext cx="1970280" cy="19825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1486080" y="4037040"/>
            <a:ext cx="1981080" cy="19828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288040" y="4037040"/>
            <a:ext cx="2759040" cy="19828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На рыбалк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457200" y="1905120"/>
            <a:ext cx="8229600" cy="41148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Быстро посчитай 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6 – 3 + 2 – 4 + 1 + 2 + 1 – 3 = 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57200" y="1905120"/>
            <a:ext cx="8229600" cy="41148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Составь задачу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Медведь             3 рыбк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Маша                  2 рыбк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Задач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а рыбалке медведь поймал 3 рыбки, а Маша поймала 2 рыбки. Сколько рыбок поймали рыбаки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Медведь решил так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 + 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57200" y="1905120"/>
            <a:ext cx="4038480" cy="41148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А Маша решила так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57200" y="1905120"/>
            <a:ext cx="4038480" cy="411480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 + 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5T18:34:42Z</dcterms:created>
  <dc:creator>Admin</dc:creator>
  <dc:description/>
  <dc:language>en-US</dc:language>
  <cp:lastModifiedBy>Admin</cp:lastModifiedBy>
  <dcterms:modified xsi:type="dcterms:W3CDTF">2013-02-05T20:16:32Z</dcterms:modified>
  <cp:revision>2</cp:revision>
  <dc:subject/>
  <dc:title>Слайд 1</dc:title>
</cp:coreProperties>
</file>