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FE4-9E1C-476F-8FF3-8F90211C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7A7-FF2E-412D-A9DE-3C52DCA9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916-380B-42F1-A6BA-6EFD9E96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AD9-6E61-4052-B1E7-39672CBF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D893-8502-4325-9416-5A08018D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F4C1-A930-4D57-B18A-6C4B15AE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68D4-EFA7-4E70-A277-DA9D127E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CB01-07DC-4449-86DB-7385ED86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4793-1B2A-4CB0-B94D-55007F78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F430-27E0-456A-847B-A80D6FB7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3605-9A95-4FF5-9935-5E25734F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E0D-3EEA-4B23-94A8-396E6314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99EF-A7DD-468D-BC75-2E2F038A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8065-6C93-4DDB-9DF4-E8937811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0F48-747E-43E5-B0CF-3B4A6E1E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69E8-6B35-46FF-97FC-DDB00D30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FA15-0BFD-496C-8846-7024FCE2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619-1CA9-4C9F-8333-B4B13E91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564-E5C7-45D8-9816-DA487386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6CC-D531-46B5-8197-62FF6382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081-8C47-4190-AA0A-992C5F0F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92B-C0B5-4406-B113-7936FA55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792-7B7B-40B9-865D-5D21B09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366-2F0E-4794-A61F-CA12E899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3E7B-0789-43A9-9372-FD98DF0788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FE6D-1613-4BAE-B9FF-9B1525A98C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рок -виктор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СЧАСТЛИВЫЙ СЛУЧАЙ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араллельные прям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hering.gif (3182 bytes)"/>
          <p:cNvPicPr/>
          <p:nvPr/>
        </p:nvPicPr>
        <p:blipFill>
          <a:blip r:embed="rId1"/>
          <a:stretch/>
        </p:blipFill>
        <p:spPr>
          <a:xfrm>
            <a:off x="611280" y="3789360"/>
            <a:ext cx="2685960" cy="1628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hering2.gif (2914 bytes)"/>
          <p:cNvPicPr/>
          <p:nvPr/>
        </p:nvPicPr>
        <p:blipFill>
          <a:blip r:embed="rId2"/>
          <a:stretch/>
        </p:blipFill>
        <p:spPr>
          <a:xfrm>
            <a:off x="3780000" y="5300640"/>
            <a:ext cx="1904760" cy="924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parall.gif (3021 bytes)"/>
          <p:cNvPicPr/>
          <p:nvPr/>
        </p:nvPicPr>
        <p:blipFill>
          <a:blip r:embed="rId3"/>
          <a:stretch/>
        </p:blipFill>
        <p:spPr>
          <a:xfrm>
            <a:off x="4572000" y="3068640"/>
            <a:ext cx="38098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46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Через вершину прямого угл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треугольник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проведена прямая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параллельная сторон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Найдите углы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треугольника, если угол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CB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вен 37 градуса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Через вершину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треугольник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 прямым углом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проведена прямая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параллельная сторон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Найдите углы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треугольника, если угол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C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вен 49 градуса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трезок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биссектриса треугольник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Через точку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проведена прямая параллельная сторон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пересекающая сторону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 точк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Найдите углы треугольник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N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если угол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вен 68 градуса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Отрезок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биссектриса треугольник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Через точку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проведена прямая параллельная сторон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пересекающая сторону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 точк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Найдите углы треугольник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F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если угол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вен 72 градуса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457200" y="277920"/>
          <a:ext cx="8229240" cy="585000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9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 градусов и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 градус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 градусов и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 град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r>
                        <a:rPr b="0" lang="en-US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34</a:t>
                      </a:r>
                      <a:r>
                        <a:rPr b="0" lang="en-US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112</a:t>
                      </a:r>
                      <a:r>
                        <a:rPr b="0" lang="en-US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r>
                        <a:rPr b="0" lang="en-US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, 36</a:t>
                      </a:r>
                      <a:r>
                        <a:rPr b="0" lang="en-US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108</a:t>
                      </a:r>
                      <a:r>
                        <a:rPr b="0" lang="en-US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видистанты. Так называются линии, кратчайшее расстояние между которыми постоянно (экви - равный, дистанция - расстояние). Это  и  концентрические  окружности,  и   края горной дороги, похожей на серпантин, и вот эта  группа  линий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и  линии  все  знают. Направление  храня, Они  дружно  убегают В  бесконечность  от  мен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" descr="lines.gif (20516 bytes)"/>
          <p:cNvPicPr/>
          <p:nvPr/>
        </p:nvPicPr>
        <p:blipFill>
          <a:blip r:embed="rId1"/>
          <a:stretch/>
        </p:blipFill>
        <p:spPr>
          <a:xfrm>
            <a:off x="3851280" y="2565360"/>
            <a:ext cx="4991040" cy="2895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68360" y="2849400"/>
            <a:ext cx="30542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ллюзия Цельне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ru-RU" sz="61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r>
              <a:rPr b="0" lang="ru-RU" sz="1700" spc="-1" strike="noStrike">
                <a:solidFill>
                  <a:srgbClr val="0000ff"/>
                </a:solidFill>
                <a:latin typeface="Arial"/>
                <a:ea typeface="Arial"/>
              </a:rPr>
              <a:t>                                         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раллельные прямые кажутся изогнут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parallel.gif (1919 bytes)"/>
          <p:cNvPicPr/>
          <p:nvPr/>
        </p:nvPicPr>
        <p:blipFill>
          <a:blip r:embed="rId2"/>
          <a:stretch/>
        </p:blipFill>
        <p:spPr>
          <a:xfrm>
            <a:off x="1403280" y="4869000"/>
            <a:ext cx="1305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 частенько  их  встречаем, Невозможно  все  назвать:Пара  рельсов  у  трамвая, В  нотоносце  целых  пять.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аже  если  линий  много, Не  смешать  одну  с  другой: Они  держат  очень  строго Расстоянье  меж  соб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араллельные  Прямые 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лавный,  вежливый  народ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и  одна  из  них  друг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икогда  не  зачеркнет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>
            <a:off x="1547640" y="1557000"/>
            <a:ext cx="1079640" cy="19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47640" y="350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1557360"/>
            <a:ext cx="1008000" cy="19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2205000"/>
            <a:ext cx="64800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2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00360" y="3500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4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547640" y="1557000"/>
            <a:ext cx="1079640" cy="19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47640" y="350028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27280" y="1557360"/>
            <a:ext cx="1008000" cy="19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68360" y="2205000"/>
            <a:ext cx="648000" cy="1295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3500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4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3528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69228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1484280"/>
            <a:ext cx="41749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исунк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=A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ол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C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е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1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радуса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ол ФИ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е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3 градус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ажите, чт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 || B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 flipH="1">
            <a:off x="1619280" y="1413000"/>
            <a:ext cx="1008000" cy="1800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27280" y="1413000"/>
            <a:ext cx="865080" cy="187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3213000"/>
            <a:ext cx="1873080" cy="7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26560" y="3213000"/>
            <a:ext cx="792360" cy="1368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26920" y="3284640"/>
            <a:ext cx="2665440" cy="129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619280" y="2565000"/>
            <a:ext cx="1512720" cy="64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378936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84360" y="3141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105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6400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32000" y="22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5092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6364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03640" y="836640"/>
            <a:ext cx="3600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исунк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=D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|| 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ол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е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радус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углы 2 и 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42920" y="1484280"/>
            <a:ext cx="331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2920" y="2421000"/>
            <a:ext cx="331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476360" y="1484280"/>
            <a:ext cx="1008000" cy="180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84360" y="1484280"/>
            <a:ext cx="935280" cy="1728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35280" y="2421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00360" y="24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0000" y="1125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112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40000" y="1557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27280" y="148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19640" y="1052640"/>
            <a:ext cx="31687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исунк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|| 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биссектриса угл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ол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вен 116 градус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ти угол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C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 flipH="1">
            <a:off x="1115640" y="1341360"/>
            <a:ext cx="1368360" cy="21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1341360"/>
            <a:ext cx="1871640" cy="21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6000" y="350028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47640" y="278136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116000" y="2781000"/>
            <a:ext cx="151128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9236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27280" y="2781360"/>
            <a:ext cx="172872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2708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3141720"/>
            <a:ext cx="14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3640" y="2708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708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850920" y="292428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924000" y="2997360"/>
            <a:ext cx="1429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40000" y="98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692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8472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3528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4360" y="24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321300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3284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80000" y="328464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24360" y="314172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2720" y="981000"/>
            <a:ext cx="273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исунке луч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биссектрисы угло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реугольник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На сторона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тмечены точ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, чт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M=M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N=N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Докажите, что точ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ежат на одной прям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Параллельные</a:t>
            </a: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прямые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истематизировать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общить зн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 параллельных прямы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х признаках и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войства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2060280"/>
            <a:ext cx="2737080" cy="2881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940360" y="2708280"/>
            <a:ext cx="2664000" cy="295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465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8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619280" y="3500280"/>
            <a:ext cx="14436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56000" y="1700280"/>
            <a:ext cx="2520720" cy="2449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4149720"/>
            <a:ext cx="3673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2708280"/>
            <a:ext cx="151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403280" y="2708280"/>
            <a:ext cx="2160720" cy="144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00360" y="256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403280" y="1700280"/>
            <a:ext cx="1152720" cy="2449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40000" y="3429000"/>
            <a:ext cx="712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11280" y="3357720"/>
            <a:ext cx="7308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066920" y="321300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140000" y="328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40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134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03640" y="40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92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6400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36450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63640" y="3860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щелкните, и изображение увеличится"/>
          <p:cNvPicPr/>
          <p:nvPr/>
        </p:nvPicPr>
        <p:blipFill>
          <a:blip r:embed="rId1"/>
          <a:stretch/>
        </p:blipFill>
        <p:spPr>
          <a:xfrm>
            <a:off x="6877080" y="1197000"/>
            <a:ext cx="1333440" cy="12193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щелкните, и изображение увеличится"/>
          <p:cNvPicPr/>
          <p:nvPr/>
        </p:nvPicPr>
        <p:blipFill>
          <a:blip r:embed="rId2"/>
          <a:stretch/>
        </p:blipFill>
        <p:spPr>
          <a:xfrm>
            <a:off x="7308720" y="4581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93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724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1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гейм. Разминка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команд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2348280"/>
            <a:ext cx="69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йдите пары накрест лежащих уг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619280" y="3500280"/>
            <a:ext cx="6553080" cy="115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0920" y="4365720"/>
            <a:ext cx="6697800" cy="1295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3357720"/>
            <a:ext cx="4033800" cy="215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37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1672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236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команде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йдите пары односторонних угл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3429000"/>
            <a:ext cx="6553440" cy="115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4581360"/>
            <a:ext cx="6769080" cy="115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2781360"/>
            <a:ext cx="2952720" cy="3456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429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602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4941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4941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537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команде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окажите, что КМ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|| EN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71640" y="2781000"/>
            <a:ext cx="3529080" cy="2808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2565360"/>
            <a:ext cx="4392720" cy="3097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7640" y="3141720"/>
            <a:ext cx="71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4508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4653000"/>
            <a:ext cx="144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4581360"/>
            <a:ext cx="14472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357720"/>
            <a:ext cx="7308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8360" y="3284640"/>
            <a:ext cx="7128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0720" y="2781360"/>
            <a:ext cx="503280" cy="2879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2764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8360" y="530064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537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2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2565360"/>
            <a:ext cx="358920" cy="3024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команде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8455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Отрезк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ересекаются в их середине О. Докажите, что 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||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484000" y="2852640"/>
            <a:ext cx="3024360" cy="3097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2852640"/>
            <a:ext cx="2737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5950080"/>
            <a:ext cx="3095640" cy="71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2852640"/>
            <a:ext cx="2808360" cy="3168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4869000"/>
            <a:ext cx="727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3500280"/>
            <a:ext cx="7164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76360" y="3573360"/>
            <a:ext cx="2156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48000" y="3645000"/>
            <a:ext cx="216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716360" y="5084280"/>
            <a:ext cx="21600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788000" y="5157360"/>
            <a:ext cx="2156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0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708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5950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587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угольник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E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ы по двум сторонам и углу между ними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=O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=KO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угол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ен угл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E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ертикальных углов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венства этих треугольников следует равенство угл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это накрест лежащие углы 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N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поэтом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N || K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чт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2 гейм. Дальше – дальше</a:t>
            </a: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332000" y="2420640"/>
            <a:ext cx="3527280" cy="86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4076640"/>
            <a:ext cx="525600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276720" y="1989000"/>
            <a:ext cx="57456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140360" y="1844640"/>
            <a:ext cx="576000" cy="3240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547640" y="3357720"/>
            <a:ext cx="396108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1600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1600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46152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3 гейм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пешите видеть, ответить, реши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4133880" cy="4581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35622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4:53:10Z</dcterms:created>
  <dc:creator>Света</dc:creator>
  <dc:description/>
  <dc:language>en-US</dc:language>
  <cp:lastModifiedBy>11111</cp:lastModifiedBy>
  <dcterms:modified xsi:type="dcterms:W3CDTF">2008-02-28T04:11:42Z</dcterms:modified>
  <cp:revision>6</cp:revision>
  <dc:subject/>
  <dc:title>Слайд 1</dc:title>
</cp:coreProperties>
</file>