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B69-75F6-44AD-BD59-6A4C3337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BF3-CAAF-4FF9-8F99-E951C27B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014-807F-4CAF-A302-394FE7AF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6B7-0197-4D3E-881E-28BBAC68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BC54-C1EF-45C9-97AE-850B28A9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76F2-3B2E-45EB-8F2F-87D7251A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7312-4819-4D7E-81C4-617E3C52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EBB7-96B0-4EED-917D-570003CC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0204-A619-44C7-B74A-B36528E3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E481-E648-47E9-9FF0-0B08B4A0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95E1-32B9-4EC4-8AAB-28266D6E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DEE-8281-4314-A0D9-AA6C7D76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6B50-5C19-459E-BB70-B048EAD4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6B89-0AF2-4F72-91D8-5934202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129F-111E-4313-AAD2-CB51F0D1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727A-5810-4EFD-8864-8BDD073C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E226-205C-4A66-AE6E-B2523475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3A458-E9DA-499C-918B-EC5B0343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A128-AF89-4ED5-A1F3-9DB9B396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694C-E63F-48A2-A0B3-39077AF0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88AE8-8AAB-4DD6-9964-BD04240E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ED5AB-4851-47CA-A77C-6B3D60B8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48B-C920-4E48-B544-55CC3DDD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DC13-3FF0-435B-9DC5-195CC131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1EEFE-6F5D-4EDC-91B6-29D0329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5FC9-5E06-4B76-A5DC-4F94C52E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A502-7453-4BAF-B53F-0AD81ED6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8D2C-5091-40FF-AE16-494B4E81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93E7-F446-4354-ACD3-ADD11E74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BA2F-9F4B-4386-BA56-AC533030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D9F8F-BCDE-46C4-87AD-59DD8372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DFE2C-B6C9-4C26-8D2F-4B449A52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87BE1-E5B8-48DF-8A08-57338B64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EAC-A4C5-4B87-A01D-CEEF5DD0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28E2A-670D-409A-8E52-A27A3B6D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B0BD6-2703-4D59-B790-34DFC10D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1D336-98F2-49B4-B62B-B3C16ABA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8D4C-8092-4F8A-AB24-12056FD1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AE07-7261-49FD-B513-5CFDAD28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E27E-6BBE-4993-9448-F4AC0E1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FAFE-1ABB-4FFC-9FB5-31D04FEB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61C12-1243-4FAD-A313-C2967405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55FDB-E117-41B8-854C-EA110092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ECCF3-EDC0-4494-AF44-2A415CBE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E70-A3EF-4F3D-AD76-E5D4DC5E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85C51-2C23-43DA-B477-FD8A7E0C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36159-B6A8-4DE4-AE05-D8409F9F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EBE37-5520-4DBA-91C7-F04E7DBE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7469C-8A11-48E0-90BD-4123F24F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F673A-65DA-4B23-B962-5E2C7869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1FB34-1A96-43AA-B265-8AD64FF3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17BB8-BEBF-4787-9C4A-D1E7742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4D9DC-38A7-445B-B0F1-EC43D8A1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C15B-83C7-4C62-8293-35CC921D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0A507-3038-4030-9701-FBCD794D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811-450F-49AD-A3A8-A587DECB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8176-72CE-4978-BDCD-34029D4D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DA226-B99F-454E-B283-2349CFB4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2EC53-6ED8-4EFC-8AC0-41936DEE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7074-AE40-4747-A8F6-FC6D0754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CE93E-EA27-418C-BE95-FD0D38EF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8CD10-857A-4F0C-87F4-B5FD611D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3AF00-E8A3-42BF-AA4B-ED1E9032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13B66-3CF3-4D49-9468-7DDF65D9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500A9-CA30-48C1-93EE-CC8E5DDE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01A95-1C44-4F56-AB14-9524F874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7C1-857C-474A-9A4D-2D5D6C2D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F140E-9470-4DE7-BC7F-8DF9800C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10C85-D4CF-444B-82A0-60A0C700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DEC65-8871-43C2-974F-763A851E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374-86F1-4063-B087-CE55070E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DDC-A014-45E9-9FC7-1288CE32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401760"/>
            <a:ext cx="8686800" cy="10983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166240" y="996840"/>
            <a:ext cx="977760" cy="89532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782720" y="0"/>
            <a:ext cx="1947960" cy="53964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0"/>
            <a:ext cx="2432160" cy="5396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13CA-BA93-413B-9FB1-2AF2F133964D}" type="slidenum">
              <a:rPr b="0" lang="en-US" sz="12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2789280" cy="2359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925B-3AB7-47A1-BDEF-82FBB3BA3D0E}" type="slidenum">
              <a:rPr b="0" lang="en-US" sz="12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2789280" cy="267012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EDFB-E8A6-49F4-ABA7-BE6969D5946E}" type="slidenum">
              <a:rPr b="0" lang="en-US" sz="12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DCD1-886F-43D1-9A25-A6BD70D14D69}" type="slidenum">
              <a:rPr b="0" lang="en-US" sz="12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884232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AF2E-8A15-498D-81DF-20B4099AA8D1}" type="slidenum">
              <a:rPr b="0" lang="en-US" sz="12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 rot="5400000">
            <a:off x="4571280" y="2349720"/>
            <a:ext cx="6519960" cy="18111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6553080" y="6135840"/>
            <a:ext cx="987480" cy="7221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605800" y="1379520"/>
            <a:ext cx="539640" cy="146196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8604360" y="0"/>
            <a:ext cx="539640" cy="182880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DCD5-F867-498B-99B5-E0BF71CB56C7}" type="slidenum">
              <a:rPr b="0" lang="en-US" sz="12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5965920" y="4941360"/>
            <a:ext cx="295272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курина Н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323640" y="1628640"/>
            <a:ext cx="83516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Проблемы организации учебных занятий в рамках реализации компетентностного подхода</a:t>
            </a: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274" name="Picture 8" descr="C:\Users\НВ\Desktop\globe2.gif"/>
          <p:cNvPicPr/>
          <p:nvPr/>
        </p:nvPicPr>
        <p:blipFill>
          <a:blip r:embed="rId1"/>
          <a:stretch/>
        </p:blipFill>
        <p:spPr>
          <a:xfrm>
            <a:off x="7164360" y="189000"/>
            <a:ext cx="1785960" cy="1757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Users\НВ\Desktop\Новая папка (2)\img.jpg"/>
          <p:cNvPicPr/>
          <p:nvPr/>
        </p:nvPicPr>
        <p:blipFill>
          <a:blip r:embed="rId2"/>
          <a:stretch/>
        </p:blipFill>
        <p:spPr>
          <a:xfrm>
            <a:off x="539640" y="3933720"/>
            <a:ext cx="2556000" cy="2514600"/>
          </a:xfrm>
          <a:prstGeom prst="rect">
            <a:avLst/>
          </a:prstGeom>
          <a:ln w="0">
            <a:noFill/>
          </a:ln>
        </p:spPr>
      </p:pic>
      <p:sp>
        <p:nvSpPr>
          <p:cNvPr id="276" name="Текст 1"/>
          <p:cNvSpPr/>
          <p:nvPr/>
        </p:nvSpPr>
        <p:spPr>
          <a:xfrm>
            <a:off x="179280" y="476280"/>
            <a:ext cx="62708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й семинар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Текст 1"/>
          <p:cNvSpPr/>
          <p:nvPr/>
        </p:nvSpPr>
        <p:spPr>
          <a:xfrm>
            <a:off x="3203640" y="6165720"/>
            <a:ext cx="29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ц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C:\Users\НВ\Desktop\семинар\x_c9e546b2.jpg"/>
          <p:cNvPicPr/>
          <p:nvPr/>
        </p:nvPicPr>
        <p:blipFill>
          <a:blip r:embed="rId1"/>
          <a:stretch/>
        </p:blipFill>
        <p:spPr>
          <a:xfrm>
            <a:off x="7074000" y="260280"/>
            <a:ext cx="1884240" cy="18846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67690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Georgia"/>
              </a:rPr>
              <a:t>СТРУКТУРА  СЕМИНАРА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48392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Организационная часть (Сообщение темы, цели, задач, плана. Перечисление учебных, научных источник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Подготовительная часть (Повторение основных вопросов предыдущей лекции. Подготовка или самоподготовка учащихся по вопросам семинар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.Семинарское занятие (Проводится в любой форме; учебный материал обязательно рассматривается в различных аспектах и связях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4.Контролирующая часть семинара (Контрольно-корректирующая проверка. Проверка основных знаний и умений по теме – законы, теории, понятия и т. д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5.Заключительная часть семинара (Подведение итогов работы на семинаре, оценивание работы студентов, запись домашнего зад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с рабочего\последнее разобрать\Новая папка (2)\13009b.jpg"/>
          <p:cNvPicPr/>
          <p:nvPr/>
        </p:nvPicPr>
        <p:blipFill>
          <a:blip r:embed="rId1"/>
          <a:stretch/>
        </p:blipFill>
        <p:spPr>
          <a:xfrm>
            <a:off x="6516720" y="1714680"/>
            <a:ext cx="2636640" cy="20062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7280" y="2133720"/>
            <a:ext cx="7405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2b71"/>
                </a:solidFill>
                <a:latin typeface="Georgia"/>
              </a:rPr>
              <a:t>Дидактическая цель практических работ - формирование у студентов профессиональных умений и навыков.</a:t>
            </a:r>
            <a:endParaRPr b="0" lang="en-US" sz="2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528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актическое заняти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это форма организации учебного процесса, предполагающая выполнение студентами по заданию и под руководством преподавателя одной или нескольких практических раб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Объект 2"/>
          <p:cNvSpPr/>
          <p:nvPr/>
        </p:nvSpPr>
        <p:spPr>
          <a:xfrm>
            <a:off x="287280" y="3357720"/>
            <a:ext cx="86774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Особенно важны практические занятия при изучен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специальных дисциплин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, содержание которых направлено на формирование профессиональных умений. В ходе практических работ студенты овладевают умениями работать с нормативными документами и инструктивными материалами, справочниками, составлять документацию; выполнять манипуляции, решать разного рода задачи, делать вычис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Users\НВ\Desktop\семинар\0_6d206_8c0a0177_XL.png"/>
          <p:cNvPicPr/>
          <p:nvPr/>
        </p:nvPicPr>
        <p:blipFill>
          <a:blip r:embed="rId1"/>
          <a:stretch/>
        </p:blipFill>
        <p:spPr>
          <a:xfrm>
            <a:off x="2627280" y="3213000"/>
            <a:ext cx="3889440" cy="35766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2b71"/>
                </a:solidFill>
                <a:latin typeface="Georgia"/>
              </a:rPr>
              <a:t>Студенты приходят на практическое занятие, предварительно подготовившись к нему</a:t>
            </a:r>
            <a:endParaRPr b="0" lang="en-US" sz="2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77960"/>
            <a:ext cx="4038480" cy="45259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практическом занятии основное внимание преподавателей направлено 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раткое обсуждение наиболее сложных теоретических вопрос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ю  самостоятельной работы студ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8320" y="1677960"/>
            <a:ext cx="4038480" cy="45259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амостоятельность работы студентов при подготовке к практическому занятию и непосредственно на практическом занятии обеспечивается наличием методических указаний для студентов для каждого практического за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0483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Georgia"/>
              </a:rPr>
              <a:t>В методических указаниях сообщается: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 Тема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Цель занятия: зачем необходимо усваивать учебный материал данной т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. Задачи занятия: конкретные знания и умения, которые студент должен приобре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4. Перечень основных терми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5. Учебные вопросы, разбираемые на занят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6. Структура занятия: методы проведения, формы контроля и хронологическая карта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7. Ориентировочная основа действий студента при выполнении каждого задания: что делать, как делать, как фиксировать результат работы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2" descr="C:\Users\НВ\Desktop\семинар\0_4b31_3446e3f6_xl.png"/>
          <p:cNvPicPr/>
          <p:nvPr/>
        </p:nvPicPr>
        <p:blipFill>
          <a:blip r:embed="rId1"/>
          <a:stretch/>
        </p:blipFill>
        <p:spPr>
          <a:xfrm>
            <a:off x="6804000" y="22320"/>
            <a:ext cx="2136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2b71"/>
                </a:solidFill>
                <a:latin typeface="Georgia"/>
              </a:rPr>
              <a:t>Структура практического занятия имеет следующий вид:</a:t>
            </a:r>
            <a:endParaRPr b="0" lang="en-US" sz="2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8000" y="620640"/>
            <a:ext cx="8712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Организационная ча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Мотивация к учебной деятельности: цель занятия и значение изучаемого материала, формируемых знаний и умений для дальнейшей учебной деятельности студентов и профессиональной деятельности мед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Актуализация опорных знаний: преподаватель, задавая вопросы, извлекает из памяти студентов базовые сведения, необходимые для изучения темы заня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Разбор теоретического материала, необходимого для успешного выполнения заданий практического задания: рассказ преподавателя (микролекция), устный индивидуальный или фронтальный опрос студентов, беседа и т.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Общая ориентировочная основа самостоятельных действий студентов на занятии: преподаватель сообщает: что и как студенты должны делать, выполняя манипуляции или решая ситуационные задач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6. Контроль успешности выполнения студентами учебных заданий: устный индивидуальный или фронтальный опрос, письменная тестовая контрольная работа по теме заня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7. Подведение итогов, выводы, оценка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539640"/>
            <a:ext cx="82184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Georgia"/>
              </a:rPr>
              <a:t>Общие рекомендации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32000" y="14130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поставить информационное содержание используемых лекционных, практических материалов требованиям стандарта специа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смотреть используемые педагогические технологии (методы, формы, прием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ктивнее использовать компьютерные средства обучения, мультимеди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спользовать активные методы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работать имеющиеся учебные пособия, разработки в соответствии с новыми условиями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2" descr="C:\Users\НВ\Desktop\Новая папка (2)\img.jpg"/>
          <p:cNvPicPr/>
          <p:nvPr/>
        </p:nvPicPr>
        <p:blipFill>
          <a:blip r:embed="rId1"/>
          <a:stretch/>
        </p:blipFill>
        <p:spPr>
          <a:xfrm>
            <a:off x="179280" y="4941720"/>
            <a:ext cx="18003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62b71"/>
                </a:solidFill>
                <a:latin typeface="Georgia"/>
              </a:rPr>
              <a:t>Спасибо за внимание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329" name="Picture 2" descr="C:\с рабочего\последнее разобрать\Новая папка (2)\6459404_1.jpg"/>
          <p:cNvPicPr/>
          <p:nvPr/>
        </p:nvPicPr>
        <p:blipFill>
          <a:blip r:embed="rId1"/>
          <a:stretch/>
        </p:blipFill>
        <p:spPr>
          <a:xfrm>
            <a:off x="3059280" y="1989000"/>
            <a:ext cx="35337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C:\Users\НВ\Desktop\семинар\x_c9e546b2.jpg"/>
          <p:cNvPicPr/>
          <p:nvPr/>
        </p:nvPicPr>
        <p:blipFill>
          <a:blip r:embed="rId1"/>
          <a:stretch/>
        </p:blipFill>
        <p:spPr>
          <a:xfrm>
            <a:off x="7581960" y="1989000"/>
            <a:ext cx="1562040" cy="15606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Georgia"/>
              </a:rPr>
              <a:t>Трудности при переходе на ФГОС третьего поколения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мпетентностно-ориентированное обучение требует существенного пересмотра информационной наполняемости дисципли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вете наблюдающей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птимизац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бного процесса преподавателям необходимо по-иному взглянуть на методы, формы и приемы, используемые для достижения целей об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здание новых средств обучения (пособия, в т. ч. электронные, методические рекомендации, сборники лекций, тренировочные задания, сборники контролирующих материалов, мультимедийные средства) связано с огромными затратами времени и с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Users\НВ\Desktop\семинар\0_6d206_8c0a0177_XL.png"/>
          <p:cNvPicPr/>
          <p:nvPr/>
        </p:nvPicPr>
        <p:blipFill>
          <a:blip r:embed="rId1"/>
          <a:stretch/>
        </p:blipFill>
        <p:spPr>
          <a:xfrm>
            <a:off x="324000" y="1989000"/>
            <a:ext cx="5033880" cy="46310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Georgia"/>
              </a:rPr>
              <a:t>Образовательный процесс отражает свойства, характерные как для обучения, так и для воспитания:</a:t>
            </a:r>
            <a:br>
              <a:rPr sz="2800"/>
            </a:b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7040" y="1628640"/>
            <a:ext cx="8856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сторонность взаимодействия преподавателя и обучающего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всего процесса на всестороннее и гармоничное развитие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содержательной и процессуальной (технологической) сторо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всех структурных элементов: цели-содержания образования и средств достижения образовательных задач — результата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 трех функций: развития, обучения и воспитания челове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грамотного высококвалифицированного специали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24000" y="453960"/>
            <a:ext cx="6912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Georgia"/>
              </a:rPr>
              <a:t>Формы организации образовательного процес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урок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(35 или 45 минут) — основная форма обучения в школе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лекция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(90 или 120 минут, с перерывом или без) — основная форма обучения в вузе, ссузе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практическое занятие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- это форма организации учебного процесса, предполагающая формирование у студентов профессиональных и практических умений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семинар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— практическое занятие всей учебной группы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лабораторный практикум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— практическое занятие с применением техники, специальной аппаратуры, проведением эксперимента, опыта, исследования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групповые или индивидуальные консультации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 преподавателем по отдельным учебным темам или вопросам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иные формы организаци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C:\Users\НВ\Desktop\семинар\LOGO.jpg"/>
          <p:cNvPicPr/>
          <p:nvPr/>
        </p:nvPicPr>
        <p:blipFill>
          <a:blip r:embed="rId1"/>
          <a:stretch/>
        </p:blipFill>
        <p:spPr>
          <a:xfrm>
            <a:off x="7373880" y="0"/>
            <a:ext cx="17701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C:\Users\НВ\Desktop\семинар\b_pic248.jpg"/>
          <p:cNvPicPr/>
          <p:nvPr/>
        </p:nvPicPr>
        <p:blipFill>
          <a:blip r:embed="rId1"/>
          <a:stretch/>
        </p:blipFill>
        <p:spPr>
          <a:xfrm>
            <a:off x="6432480" y="4221000"/>
            <a:ext cx="2511360" cy="23860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2192400"/>
            <a:ext cx="424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2b71"/>
                </a:solidFill>
                <a:latin typeface="Georgia"/>
              </a:rPr>
              <a:t>Виды лекций</a:t>
            </a:r>
            <a:endParaRPr b="0" lang="en-US" sz="32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771280" y="404280"/>
            <a:ext cx="60483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екц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от лат. lectio — чтение), систематическое, последовательное изложение учебного материала, какого-либо вопроса, темы, раз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82240" y="2923920"/>
            <a:ext cx="787860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целям: вводная, обзорная, установочная, информационная, заключительна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формам: проблемная, лекция-визуализация, лекция - пресс-конференция, лекция с заранее запланированными ошибками, лекция вдво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C:\Users\НВ\Desktop\семинар\111111.jpg"/>
          <p:cNvPicPr/>
          <p:nvPr/>
        </p:nvPicPr>
        <p:blipFill>
          <a:blip r:embed="rId2"/>
          <a:stretch/>
        </p:blipFill>
        <p:spPr>
          <a:xfrm>
            <a:off x="250920" y="260280"/>
            <a:ext cx="26240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Users\НВ\Desktop\семинар\0_6d48d_e4dce0f_XL.png"/>
          <p:cNvPicPr/>
          <p:nvPr/>
        </p:nvPicPr>
        <p:blipFill>
          <a:blip r:embed="rId1"/>
          <a:stretch/>
        </p:blipFill>
        <p:spPr>
          <a:xfrm>
            <a:off x="6211800" y="3645000"/>
            <a:ext cx="2932200" cy="31780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2b71"/>
                </a:solidFill>
                <a:latin typeface="Georgia"/>
              </a:rPr>
              <a:t>Методика чтения лекций:</a:t>
            </a:r>
            <a:br>
              <a:rPr sz="3200"/>
            </a:br>
            <a:endParaRPr b="0" lang="en-US" sz="32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08000" y="836280"/>
            <a:ext cx="8856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Соблюдение внешнего и внутреннего регламента занятий (начало, конец, разделы лекци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Четкая структура лекции и логика изло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.Наличие плана, следование 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4.Связь с предыдущим и последующим материалом (внутрипредметные, межпредметные связ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5.Доступность и разъяснение новых терминов и понят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6.Доказательность и аргументирован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7.Выделение главных мыслей и вывод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8.Использование приемов закрепления: повторение, подведение итогов в конце вопроса, всей лек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.Использование наглядных пособий, ТС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0.Применение опорных материалов: текст, конспект, отдельные записи, чтение без опорных материа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C:\Users\НВ\Desktop\семинар\mensi_zakladniskoly.jpg"/>
          <p:cNvPicPr/>
          <p:nvPr/>
        </p:nvPicPr>
        <p:blipFill>
          <a:blip r:embed="rId1"/>
          <a:stretch/>
        </p:blipFill>
        <p:spPr>
          <a:xfrm>
            <a:off x="6370560" y="1413000"/>
            <a:ext cx="2768760" cy="27684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324000" y="46332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еминар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от лат. seminarium — рассадник, теплица) — форма учебно-практических занятий, при которой студенты обсуждают сообщения, доклады и рефераты, выполненные ими по результатам учебных или научных исследований под руководством преподавател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бъект 2"/>
          <p:cNvSpPr/>
          <p:nvPr/>
        </p:nvSpPr>
        <p:spPr>
          <a:xfrm>
            <a:off x="684360" y="2637000"/>
            <a:ext cx="7723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Главная цель семинарских занятий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обеспечить студентам возможность овладеть навыками и умениями использования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оретического зна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применительно к особенностям изучаемой отрасл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Объект 2"/>
          <p:cNvSpPr/>
          <p:nvPr/>
        </p:nvSpPr>
        <p:spPr>
          <a:xfrm>
            <a:off x="324000" y="429264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Семинар — один из основных видов практических занятий как по гуманитарным, так и по естественным дисциплинам. Семинары особенно эффективны для подготовки гуманитарных, технических, инженерных и научно-педагогических кад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92440" y="379080"/>
            <a:ext cx="486576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Georgia"/>
              </a:rPr>
              <a:t>Виды семинаров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300" name="Picture 2" descr="C:\Users\НВ\Desktop\семинар\PB260887.jpg"/>
          <p:cNvPicPr/>
          <p:nvPr/>
        </p:nvPicPr>
        <p:blipFill>
          <a:blip r:embed="rId1"/>
          <a:stretch/>
        </p:blipFill>
        <p:spPr>
          <a:xfrm>
            <a:off x="3699000" y="4429080"/>
            <a:ext cx="2889000" cy="217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C:\Users\НВ\Desktop\семинар\Chemistry-az.JPG"/>
          <p:cNvPicPr/>
          <p:nvPr/>
        </p:nvPicPr>
        <p:blipFill>
          <a:blip r:embed="rId2"/>
          <a:stretch/>
        </p:blipFill>
        <p:spPr>
          <a:xfrm>
            <a:off x="6156360" y="335772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C:\Users\НВ\Desktop\семинар\0002-ezhednevnik.gif"/>
          <p:cNvPicPr/>
          <p:nvPr/>
        </p:nvPicPr>
        <p:blipFill>
          <a:blip r:embed="rId3"/>
          <a:stretch/>
        </p:blipFill>
        <p:spPr>
          <a:xfrm>
            <a:off x="239760" y="33480"/>
            <a:ext cx="1901880" cy="17776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395280" y="1717560"/>
            <a:ext cx="60595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ждисциплинар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блем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матиче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иентацио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стем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ецсеминары и спецпрактику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5" descr="C:\Users\НВ\Desktop\семинар\4-1.jpg"/>
          <p:cNvPicPr/>
          <p:nvPr/>
        </p:nvPicPr>
        <p:blipFill>
          <a:blip r:embed="rId4"/>
          <a:stretch/>
        </p:blipFill>
        <p:spPr>
          <a:xfrm>
            <a:off x="4356000" y="1674720"/>
            <a:ext cx="2049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C:\Users\НВ\Desktop\семинар\582705_n.jpg"/>
          <p:cNvPicPr/>
          <p:nvPr/>
        </p:nvPicPr>
        <p:blipFill>
          <a:blip r:embed="rId1"/>
          <a:stretch/>
        </p:blipFill>
        <p:spPr>
          <a:xfrm>
            <a:off x="6588000" y="4506840"/>
            <a:ext cx="2401920" cy="2325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Users\НВ\Desktop\семинар\32426268.gif"/>
          <p:cNvPicPr/>
          <p:nvPr/>
        </p:nvPicPr>
        <p:blipFill>
          <a:blip r:embed="rId2"/>
          <a:stretch/>
        </p:blipFill>
        <p:spPr>
          <a:xfrm>
            <a:off x="461880" y="104760"/>
            <a:ext cx="2170080" cy="21718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30520" y="404640"/>
            <a:ext cx="6075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Georgia"/>
              </a:rPr>
              <a:t>МЕТОДИКА ПОДГОТОВКИ СЕМИНАРА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4920" y="1989000"/>
            <a:ext cx="8497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1. Определение цели, комплекса задач (методических,    дидактических, воспитательных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2. Отбор материала (оптимальное соотношение изученного и  нового – должен быть посильным и вызывать интерес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3. Подбор литературы и средств нагляд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4. Составление плана семина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5. Определение формы записей студент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6. Продумать организацию и стиль проведения занят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5:15:36Z</dcterms:created>
  <dc:creator>НВ</dc:creator>
  <dc:description/>
  <dc:language>en-US</dc:language>
  <cp:lastModifiedBy>Надежда</cp:lastModifiedBy>
  <dcterms:modified xsi:type="dcterms:W3CDTF">2013-10-08T14:47:15Z</dcterms:modified>
  <cp:revision>32</cp:revision>
  <dc:subject/>
  <dc:title>Проблемы организации учебных занятий в рамках реализации компетентностного подхода</dc:title>
</cp:coreProperties>
</file>