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A7E-A4FC-4308-853D-F7CD1FB1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039-BF6B-4070-AC87-4EF8046A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CA3-5571-4DE8-9416-F660AB8B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8ED-7BD2-4ED3-B3F2-1906BB4F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326-B92E-4826-8D41-B8A5A838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3268-B210-4EE9-A01B-BF9044A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4FE3-977E-417D-B672-DF29B35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98A-E297-46C3-A32C-16DC36C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8A0E-AC66-4CA8-8FE4-328A029E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125-633A-4A2C-83C3-C030181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4367-51C7-4873-8B34-63FA545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731-F3D0-4BF0-A28B-1C3B10CF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E0E6-D815-419D-B10D-6714CAF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7DD8-8F64-4E72-A4F0-A6B2FA8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BF12-B44F-48B1-8EA4-69F85C2F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5C8A-6B2E-46B9-8A7C-AED1BEE2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B22-EE0B-4837-8F5E-98A1C727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56DB-B2FE-401D-9B05-5196430D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799E-06BF-4FC8-93F2-E8D498C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5E90-8F7D-45EE-BB85-E1BB6C6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1360-CC92-457A-A035-0F12E1DA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2FC9-3812-4FE2-91AA-E6B4B8C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77A-15C8-4DE4-ACB5-1BB60A5F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66EF-640B-44EA-B2AA-FD94486B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F305-FB5A-479F-AC29-F6F4B10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09A7-9C5F-4DF4-9DEC-E133166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2802-64C1-43CC-B5C5-A4FF31B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FEBB-E005-4BA3-B96B-BFF0ACA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695B-4C54-4974-B89A-F94DAA27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B692-A176-4B30-8D28-010EB25F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B7AC-3ACC-4096-B4ED-85225E1E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BF92-EB0A-4329-9A59-D275E5F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8602-3153-464C-AEE6-7C3E7331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DC6-C061-4581-B370-0C4F9EB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46BC-6164-4D3B-B12D-B854613E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84C8-90F6-4218-AB16-CCD617E4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4E47-4A76-424B-92D7-68859CAF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391A-B0FD-4627-A502-AEA0E7A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AD8D-A00C-42FC-8307-CBB5CC6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3435-9587-4945-BA4F-83D25D5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0E14-ACED-4E69-A011-DFC6089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662C-80AE-4CB2-9B70-332AE9EF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2517-48A6-4405-9884-F3BBC63F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00E9-08BA-45C5-929D-1F4E23AB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ABB-C589-445C-8EE5-FE8F8AFE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C14B-2F53-4005-B42C-EDAFE8C3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433A-08EB-4984-9866-BE29293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E4F7-A557-4E22-8711-7C2587A3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9BAE-BD66-417E-B5F2-7C52457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3366-733E-44E8-A19D-5589564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7762-40C6-44C6-84BA-5916549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2EA0-B826-4D4C-87B2-87375A7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C1FBA-E4EA-4DBE-90DF-13085D6A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3475-E41F-45C3-89A0-3512DD8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E702-4BF7-4E9C-8469-7C735F09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705-EF75-49FC-8299-E5B7A611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41F4-B546-4135-9B10-3B425C99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3DB01-9D0F-4E98-91F5-6892B4B6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7332-0779-4A47-83C9-FE05B86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19A9-988E-4C49-B5DB-C19389DF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FF15-3358-4702-AF3D-9A03CD9D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CE21-0E01-46F2-AD02-C82ACE8A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AE6D-295B-448A-838F-A13A2A0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8ACC-4FDD-4C09-B8BF-1FF60AA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68AC-5F15-43E9-940A-81B3C45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5ADC2-4188-45AC-8918-49C09F9B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D21-B574-4365-807C-C0A83F5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B851-AC14-42CA-BE64-34810897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9182-8ED1-49F8-B87C-9497BA8A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3622D-7F9C-44AB-9A6A-DCB8443E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D20-45CE-41FA-B274-BDC2E9F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376-0F10-47C0-A5B1-651E797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45B6-D6C7-4BAA-826E-69418308F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2B05-D36D-475B-8924-B865B676E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9E06-4E45-4F2F-BE30-6C4BC9CC4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0B9-7650-401E-AE70-2B5A99A85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E6A-5743-4663-8045-DEEDE722A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CAB-45E7-4A91-8FE7-B0E1A3F47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965920" y="4941360"/>
            <a:ext cx="29527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курина Н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3516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Рейтинговая система оценки знаний студентов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274" name="Picture 2" descr="C:\Users\НВ\Desktop\Новая папка (2)\img.jpg"/>
          <p:cNvPicPr/>
          <p:nvPr/>
        </p:nvPicPr>
        <p:blipFill>
          <a:blip r:embed="rId1"/>
          <a:stretch/>
        </p:blipFill>
        <p:spPr>
          <a:xfrm>
            <a:off x="539640" y="3933720"/>
            <a:ext cx="2556000" cy="2514600"/>
          </a:xfrm>
          <a:prstGeom prst="rect">
            <a:avLst/>
          </a:prstGeom>
          <a:ln w="0">
            <a:noFill/>
          </a:ln>
        </p:spPr>
      </p:pic>
      <p:sp>
        <p:nvSpPr>
          <p:cNvPr id="275" name="Текст 1"/>
          <p:cNvSpPr/>
          <p:nvPr/>
        </p:nvSpPr>
        <p:spPr>
          <a:xfrm>
            <a:off x="200160" y="1079640"/>
            <a:ext cx="6270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Текст 1"/>
          <p:cNvSpPr/>
          <p:nvPr/>
        </p:nvSpPr>
        <p:spPr>
          <a:xfrm>
            <a:off x="3203640" y="616572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ц, 201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7" name="Picture 2" descr="C:\Users\НВ\Desktop\shkkola.gif"/>
          <p:cNvPicPr/>
          <p:nvPr/>
        </p:nvPicPr>
        <p:blipFill>
          <a:blip r:embed="rId2"/>
          <a:stretch/>
        </p:blipFill>
        <p:spPr>
          <a:xfrm>
            <a:off x="6372360" y="115920"/>
            <a:ext cx="257004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C:\Users\НВ\Desktop\88ce877b2ab225cd-large.jpg"/>
          <p:cNvPicPr/>
          <p:nvPr/>
        </p:nvPicPr>
        <p:blipFill>
          <a:blip r:embed="rId1"/>
          <a:stretch/>
        </p:blipFill>
        <p:spPr>
          <a:xfrm>
            <a:off x="2340000" y="3735360"/>
            <a:ext cx="4529160" cy="31226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Семестровые контрольные мероприятия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йтинг за «зачет» может быть выставлен по результатам работы студента в семестре, или по результатам проведения контрольного мероприятия, однако при этом следует иметь в виду, что студент получает «зачет» при условии выполнения всех видов работ по данной дисципл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инимальная оценка за экзамен - 51 балл. Если рейтинговая оценка за экзамен меньше 51 балла, то студент должен сдать экзамен повторно по направ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Способы стимулирования при помощи рейтинга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по учебной дисциплине рейтинговая оценка за текущую работу в семестре меньше 51 балла, то ее повышение не допускается. Выполнение учебного плана по текущей работе в семестре фиксируется преподавателем в направлении отметкой «Допуск к экзамену/зачету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ипендию назначают в зависимости от достигнутого уровня рейтинга за семестр в соответствии с «Положением о фонде социальной защиты студентов» (требует разработк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рейтинге за дисциплину в семестре меньше 51 балла - студент не выполнил учебный план по дисциплине. И если таких дисциплин на начало сессии больше или равно 35% от общего числа изучаемых в семестре, то студент может быть отчислен из колледж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уденту, у которого рейтинг по дисциплине за семестр был 65 баллов, «неудовлетворительно» разрешается пересдавать 1 раз, далее отчис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Например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08" name="Объект 5" descr=""/>
          <p:cNvPicPr/>
          <p:nvPr/>
        </p:nvPicPr>
        <p:blipFill>
          <a:blip r:embed="rId1"/>
          <a:stretch/>
        </p:blipFill>
        <p:spPr>
          <a:xfrm>
            <a:off x="1311120" y="1968480"/>
            <a:ext cx="636912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250920" y="1197000"/>
          <a:ext cx="8691480" cy="743040"/>
        </p:xfrm>
        <a:graphic>
          <a:graphicData uri="http://schemas.openxmlformats.org/drawingml/2006/table">
            <a:tbl>
              <a:tblPr/>
              <a:tblGrid>
                <a:gridCol w="2382840"/>
                <a:gridCol w="1963800"/>
                <a:gridCol w="1962000"/>
                <a:gridCol w="2382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сцип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5e7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5e7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5e7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минары/пр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5e7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етолог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2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2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2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2d6"/>
                    </a:solidFill>
                  </a:tcPr>
                </a:tc>
              </a:tr>
            </a:tbl>
          </a:graphicData>
        </a:graphic>
      </p:graphicFrame>
      <p:pic>
        <p:nvPicPr>
          <p:cNvPr id="310" name="Схема 6" descr=""/>
          <p:cNvPicPr/>
          <p:nvPr/>
        </p:nvPicPr>
        <p:blipFill>
          <a:blip r:embed="rId2"/>
          <a:stretch/>
        </p:blipFill>
        <p:spPr>
          <a:xfrm>
            <a:off x="249120" y="3425760"/>
            <a:ext cx="86457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Users\НВ\Desktop\x_6afdfae3.jpg"/>
          <p:cNvPicPr/>
          <p:nvPr/>
        </p:nvPicPr>
        <p:blipFill>
          <a:blip r:embed="rId1"/>
          <a:stretch/>
        </p:blipFill>
        <p:spPr>
          <a:xfrm>
            <a:off x="6886440" y="5310360"/>
            <a:ext cx="2233800" cy="1535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с рабочего\последнее разобрать\Новая папка (2)\13009b.jpg"/>
          <p:cNvPicPr/>
          <p:nvPr/>
        </p:nvPicPr>
        <p:blipFill>
          <a:blip r:embed="rId2"/>
          <a:stretch/>
        </p:blipFill>
        <p:spPr>
          <a:xfrm>
            <a:off x="57240" y="36360"/>
            <a:ext cx="2636640" cy="2006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640" y="347400"/>
            <a:ext cx="691344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2b71"/>
                </a:solidFill>
                <a:latin typeface="Georgia"/>
              </a:rPr>
              <a:t>Условия внедрения рейтинговой системы оценки знаний студентов</a:t>
            </a:r>
            <a:endParaRPr b="0" lang="en-US" sz="32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шение юридических, административных и методических вопросов, связанных с внедрением рейтинговой системы (локальные акты, журналы, ведомости, направления, правила отработки пропущенных студентами занятий и т.п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еподавателями единой структуры оценивания знаний и доведения ее до сведения студ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кое следование утвержденным правилам, в первую очередь, со стороны преподава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«Положение о фонде социальной защиты студентов», в котором размер стипендии зависел бы от достигнутого уровня рейтинга за семес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2b71"/>
                </a:solidFill>
                <a:latin typeface="Georgia"/>
              </a:rPr>
              <a:t>Спасибо за внимание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16" name="Picture 2" descr="C:\с рабочего\последнее разобрать\Новая папка (2)\6459404_1.jpg"/>
          <p:cNvPicPr/>
          <p:nvPr/>
        </p:nvPicPr>
        <p:blipFill>
          <a:blip r:embed="rId1"/>
          <a:stretch/>
        </p:blipFill>
        <p:spPr>
          <a:xfrm>
            <a:off x="3059280" y="1989000"/>
            <a:ext cx="3533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НВ\Desktop\minus.png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68421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Традиционная 5-тибальная шкала оценки знаний студентов несовершенна.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5280" y="2133720"/>
            <a:ext cx="828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удент иногд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понимае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критериев выставленной ему или однокурснику оценки, хотя критерии и существу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и «3» и «4» имеют весьма относительны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айний субъективизм преподавателя при выставлении оценки, что влечет за собо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нижение мотива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тудентов при обуч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блюдаются сложности в организ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мерн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работы студентов в течение семе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НВ\Desktop\412_hg.jpg"/>
          <p:cNvPicPr/>
          <p:nvPr/>
        </p:nvPicPr>
        <p:blipFill>
          <a:blip r:embed="rId1"/>
          <a:stretch/>
        </p:blipFill>
        <p:spPr>
          <a:xfrm>
            <a:off x="6156360" y="3728880"/>
            <a:ext cx="2963880" cy="2963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2b71"/>
                </a:solidFill>
                <a:latin typeface="Georgia"/>
                <a:ea typeface="Times New Roman"/>
              </a:rPr>
              <a:t>Рейтинговая система предполагает активизацию познавательной деятельности студентов путем стимулирования их творческой деятельности. Это может быть достигнуто путем: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2491920"/>
            <a:ext cx="8569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23880" indent="-311760" algn="just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уществления постоянного контроля знаний и умений студентов на всех этапах с присвоением ему рейтинга в зависимости от уровня подготовлен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311760" algn="just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оценивания знаний студента по единой структуре с учетом веса всех видов зан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311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удент имеет возможность сопоставить результаты своей учебы с результатами товарищей, что позволяет повысить мотивы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Users\НВ\Desktop\семинар\x_c9e546b2.jpg"/>
          <p:cNvPicPr/>
          <p:nvPr/>
        </p:nvPicPr>
        <p:blipFill>
          <a:blip r:embed="rId1"/>
          <a:stretch/>
        </p:blipFill>
        <p:spPr>
          <a:xfrm>
            <a:off x="7451640" y="1341360"/>
            <a:ext cx="1562040" cy="1560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Преимуществами рейтинговой системы являются: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560" y="1988640"/>
            <a:ext cx="8111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тивация активной и равномерной работы студентов в семестр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учение объективной и более точной оценки знаний и уровня профессиональной деятельности студентов в процессе обуч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зможность получения данных при определении индивидуальной стратегии обучения студ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НВ\Desktop\kopiya2de75a8025ea.png"/>
          <p:cNvPicPr/>
          <p:nvPr/>
        </p:nvPicPr>
        <p:blipFill>
          <a:blip r:embed="rId1"/>
          <a:stretch/>
        </p:blipFill>
        <p:spPr>
          <a:xfrm>
            <a:off x="5364000" y="3851280"/>
            <a:ext cx="3708720" cy="289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Для обеспечения непрерывного контроля за работой студента и качеством усвоения материала преподаватель для каждой дисциплины: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8360" y="1915920"/>
            <a:ext cx="811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полняет разделение учебного материала на структурно-логические самостоятельные бло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яет уровень усвоения каждым студентом материала после окончания изучения каждого блока с выставлением рейтинговой оценки по блок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нце семестра выставляет общую оценку за работу в семестре, представляющую собой сумму рейтинговых оценок за отдельные бл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5530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В качестве блоков, составляющих рейтинговую оценку за работу в семестре, могут рассматриваться: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23640" y="1628280"/>
            <a:ext cx="8111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ая тема или раздел (теоретический курс совместно с практическими занятиями и т. п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стоятельный цикл практических рабо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дивидуальные домашние задания, вводимые в курс для закрепления теоретического материа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дивидуальная самостоятельная работа по выбору студен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делы, выделенные для самостоятельного из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работы студента в семестре осуществляется в соответствии с разработанной преподавателем системой оценок по каждому бло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C:\Users\НВ\Desktop\семинар\0_4b31_3446e3f6_xl.png"/>
          <p:cNvPicPr/>
          <p:nvPr/>
        </p:nvPicPr>
        <p:blipFill>
          <a:blip r:embed="rId1"/>
          <a:stretch/>
        </p:blipFill>
        <p:spPr>
          <a:xfrm>
            <a:off x="6804000" y="22320"/>
            <a:ext cx="2136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C:\Users\НВ\Desktop\x_5b6fff36.jpg"/>
          <p:cNvPicPr/>
          <p:nvPr/>
        </p:nvPicPr>
        <p:blipFill>
          <a:blip r:embed="rId1"/>
          <a:stretch/>
        </p:blipFill>
        <p:spPr>
          <a:xfrm>
            <a:off x="7172280" y="333360"/>
            <a:ext cx="1868400" cy="18684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По усмотрению преподавателя могут быть поощрительные и штрафные баллы.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560" y="1628640"/>
            <a:ext cx="8281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новным условием внедрения рейтинга я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формированность студентов о системе оценок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о результатах по каждому блоку (количество набранных баллов каждым студентом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нце семестра преподаватель подсчитывает общий рейтинг каждого студента за работу в семестре по 100-бальной шкале, доводит его до сведения студ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рабочая программа по учебной дисциплине до конца семестра полностью выполнена (выполнены все практические работы, задания и т. п.), то рейтинговая оценка за текущую работу в семестре должна быть не менее 51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НВ\Desktop\78696_original.jpg"/>
          <p:cNvPicPr/>
          <p:nvPr/>
        </p:nvPicPr>
        <p:blipFill>
          <a:blip r:embed="rId1"/>
          <a:stretch/>
        </p:blipFill>
        <p:spPr>
          <a:xfrm>
            <a:off x="5651640" y="3368520"/>
            <a:ext cx="3460680" cy="3459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3640" y="306828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Если выставленная преподавателем в конце семестра рейтинговая оценка за текущую работу в семестре меньше 51 балла, то ее повышение не допускается.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3640" y="620280"/>
            <a:ext cx="8281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еместре проводится текущая аттестация студентов. На момент каждой аттестации преподаватель определяет максимально возможный рейтинг из расчета 100 баллов за текущую работу в семестре. По каждому семестру в аттестационной ведомости проставляется достигнутая им рейтинговая оц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НВ\Desktop\1246610495_1246449659_pero.jpg"/>
          <p:cNvPicPr/>
          <p:nvPr/>
        </p:nvPicPr>
        <p:blipFill>
          <a:blip r:embed="rId1"/>
          <a:stretch/>
        </p:blipFill>
        <p:spPr>
          <a:xfrm>
            <a:off x="6588000" y="1700280"/>
            <a:ext cx="2227320" cy="2624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Семестровые контрольные мероприятия 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бным планом по каждой дисциплине могут быть предусмотрены следующие итоговые контрольные мероприят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зач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кзаме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дифференцированный зач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ценка прохождения прак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каждому виду мероприятий преподаватель оценивает студента и заполняет соответствующие ведомости в виде рейтинговой оценки по единой 100-бальной шкал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91-100 баллов – «отлично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76-90 баллов – «хорошо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51-75 баллов – «удовлетворительно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3:55:15Z</dcterms:created>
  <dc:creator>НВ</dc:creator>
  <dc:description/>
  <dc:language>en-US</dc:language>
  <cp:lastModifiedBy>Надежда</cp:lastModifiedBy>
  <dcterms:modified xsi:type="dcterms:W3CDTF">2013-10-08T14:27:01Z</dcterms:modified>
  <cp:revision>23</cp:revision>
  <dc:subject/>
  <dc:title>Рейтинговая система оценки знаний студентов</dc:title>
</cp:coreProperties>
</file>