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BA44-CEB1-43CF-8A95-372E20AA3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19EA-3D1A-49AA-8200-7C36951A6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BEBC0C-2224-4E84-A6C3-66D5ABCF1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C68A3B-10E6-4B68-8D70-8475A1397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759308-6BEC-4186-9810-2BECEB70E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2EAF6F-106C-4EE2-8F63-5B579837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26283A-582E-4A0E-ADFE-A9149567B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2C9728-34B9-44C8-BD33-C83EF2AE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5B716B-EDE6-4593-BCC2-3B2EBF646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91AD38-201F-44A3-BF9E-9E35F3EFA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CBF4B7-B8B3-4152-827D-AFD49EA2A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528088-1C55-4473-AD1A-B7F9688BA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C536-6891-4F3E-B474-95E9C684C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829E15-672E-454E-AA35-7D55AF05E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92CFC9-0579-4080-8D4E-D00AC17AA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911C56-5621-4BC1-A53F-164F87AC3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BF8149-2499-4E8B-A941-5BB48F276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44B279-5D4C-4042-9040-22E8F64F8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16D100-C8FF-4E17-9880-1A2CD7564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A1F86F-E9C2-4358-A830-68F910445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D0159D-8ACC-409F-9A66-6B927FED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5C238D-FBC3-4490-B001-F5FC75775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53BB1B-8BB0-42B3-893F-76178F05D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E8A6-4466-4DA5-AA6C-B5F09BC66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77FD96-E3F6-4341-AEB8-616A2C994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1597F6-F418-49D7-802D-9ACF5E401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B472E8-5E56-47C7-8C82-D4524B5BF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2517FA-B746-403D-BF43-5E66C87D2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2BE65F-2148-4A75-9E94-FBC38B5AA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907DC9-9548-4AC2-865B-7F661108A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258952-B767-4DB3-940A-B0F3DC104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12BF09-C6F9-4AFD-8885-47B334C5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35718F-D7CE-4782-9562-FE8608CC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412A3C-8D44-4989-9C32-FD056F41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59325-96D4-4723-8B2C-24DD362E3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C14D09-726A-4116-94E4-1C7AA150D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CFE599-B00A-4B07-A9BA-09E8293FB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262A64-7EA6-49A8-998B-216C4C8D9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E67957-ACD4-41A0-9CAA-3A5A62AFD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C59505-9470-4C76-AFA5-DF0132B00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815646-79C4-4090-B07D-F86DFC015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B42E1F-6CC5-4E80-99A6-6315BB282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03BC96-34E3-44CF-979D-FAB924118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67406C-A60A-4CB4-87CA-7B4642DFF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87D2F1-AAD8-4AE4-B90C-67139DFB4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13F80-8FDF-4D9C-9249-FD6ABD690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937E9D-0A6C-49E9-9F0D-801B971C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37A654-F86D-4C23-82EF-983AD885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18B9F5-360F-4DD1-9035-73D889BDA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8C776A-7A36-4540-A670-E90543087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0EDB00-9B53-4D02-B91C-EE348C063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BA9AFE-1834-4307-92B1-202E923C6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FDA178-217E-4205-BED7-4F63B6E4A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A3B8DF-E65F-4159-B436-5488F9F31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5D4AD5-6828-4934-BD67-A147F06F7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A93F54-5C1B-4776-9055-7C5DF670E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A88C7-E032-45C0-8693-F4A828FE4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E652EE-31E9-40E9-BF2C-CB47F6E2D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8FD3EA-1628-45C7-B957-DC82EA9B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884B33-A816-442E-AC4D-6150804E4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51DE3D-4794-4F1B-A32C-8B7CE187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2CF82A-7ADD-41A9-921C-216FB4DC3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870101-957E-41A8-95BB-FB7A13F92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A0010E-FD31-434E-8138-C52F6C3B2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CE5216-7D7E-4FD5-A848-E7A0CE5C7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4085E8-26D8-47FA-B893-8CC6689AB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2C8C60-EAA3-4064-8C71-21C7AEC96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92072-22D6-40D2-BC77-FC2A900A6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8A5207-DFE3-45FC-A8FB-9CA8DDAD9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403F5E-FDDD-4AFE-810B-F79D233CD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C4B943-44DB-4C8C-B700-70F5140D2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486586-1309-4EA8-8260-33D43BF6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C017CF-85A7-4E2B-BC43-E69952FD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35D98C-7DF3-4064-8E59-EC1250A4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461D57-0A11-448D-8E03-15E943B20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28CCDE-F161-40CF-9D08-33F31B8C2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139531-0498-44AC-9F38-C571FDAC9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7E37C-586D-4C9A-923B-9E7C1DECC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C1D1C-C589-489C-A083-2C2B1AA3E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1C1D6-350F-40EC-93A6-BE8249595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8E4D-2F10-415A-AD85-44B1D2AF6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0E730-2FA5-479B-87D5-7C5B2C632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6C160-27C9-4B43-9764-000C79F8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9D048-9669-4151-9AA9-9FC436DFD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62028-177E-4DE3-AF02-B698D9AF3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F73AA-5953-4721-A084-F804791FA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4B889-01E9-462C-B2BA-7EE9A5142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00C30-1312-4B87-89B8-88DA00DCE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D34A8-D76C-48E6-9CA6-151C6C35D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70522-EC4C-4362-B34E-47D6A3708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CBFB0-9681-4206-8C0D-6AAFAF6ED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BF6B-BEE6-46BB-8617-D5CC5B70F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FEA3C-D6D4-4E34-A3B2-EFED796C7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6F619-EA90-46A8-BDA8-9DCEFE26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AF567-707D-4690-9488-E2E714F4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E2FE8-5261-432A-8E62-AAD561B61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B6F98-7589-451E-9DDC-732068B26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4605A-8F56-4367-91D4-5C9C9ABDB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C1A6B-6DDD-4E06-895C-FEC11C1A8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C0F3D-EBAD-4018-ADCD-A95A342B2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DC56B-DE52-4312-B12B-AF76A0985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3683E-F86B-466C-8872-E27639CAE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5A16-2C5A-48B1-8D77-E19539BAF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8340D-694B-4B80-AC01-E381A98B9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C32C3-DA9B-4CDE-AA55-631EB192F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65525-1446-4016-BABE-CC69954F8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66719-FAF8-4909-A1AB-C663413CE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75B85-29EE-4AC6-8291-9E2CF0383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9AA96-8325-4A68-AE23-BF32423F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985E9-B9C5-458F-B1AF-897C860A5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E75A7-6D08-404C-9D7E-669C9BEBE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AFAE7-E791-480A-8DAF-E7258AA6B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EA4FBC-730B-4771-B233-7B444106D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6C28-20E8-4A32-A537-DBBD2F18E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C938C-39B1-4EB1-A07E-DFA46D56A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3170C-7AFD-47F4-ADDE-3237F2C8F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C3A463-BAF9-43B8-AE05-1030B7AB8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8B6E89-16FC-4FC7-9D67-A4278DED5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BFD624-1E8A-4E20-AF1B-40372BF9D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C41D86-82BB-4660-BDBC-6B2382E6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5434F5-0458-46B2-BEE8-BF72C77D4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3FBA8-0550-4383-8F0C-A2CEA4D4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BECA8C-4EF0-48F5-A039-4057EE086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8029D1-5073-4B80-ACB9-CDB219A25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8183-CFE5-4308-9E98-E5628B407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93EDD-C54E-42CB-8B70-AFDC288B8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7C05D8-2CF1-4CA6-B06F-636CE85DD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64BFA0-555F-4F2A-90DE-771C2F41F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5BD0E7-03F5-407F-936F-8099D6F76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6851CF-F705-42CA-87CE-5B7D5CF99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77DAAD-809C-44B0-B25F-BE3D6283F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B52105-1395-4C49-8EDB-6E1CC3821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DED30E-2FF5-4E8C-A0D0-6FBA6125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B2714B-E7F7-4A3D-9639-A0D19ACD6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466D66-4F04-4A01-A330-2CAEB542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F77F-2C67-4E60-A8B7-6D79568C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2E13A7-EBA6-450E-ACFE-F106F6D95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ADC366-D844-4C6E-ACB4-31F486171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6582CA-5E0B-4592-852A-7B542D0E0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F65608-479F-4D28-B0FE-3794E0C85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6B2A4A-5E14-4FF7-808D-E750CEB59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595149-7051-4D5D-8A1E-2B6107CDA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B206EE-B8DC-4CAD-92EC-625EC0CCF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36CC39-938B-402C-A973-AB2C01112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2BAF15-C5F2-47F1-A555-E225A3B18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6C484D-3FF6-4C83-9039-C7E7EFCC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EC3E-6FC5-4B91-A88E-9BE03E61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DBBB74-66B9-468C-9D7D-FF07BD13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942143-1942-4906-8E7E-33CFD9AD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4BDE91-71FF-4A0C-9FBD-8EFFA3D5B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97D2E6-F16C-4605-80E6-28EFB2952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32283C-9F30-41AD-ADB3-688ADDAE1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020B0C-0261-4B84-9FAA-DE39B58F5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A6A193-0254-41AC-936A-0638CE551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F2E331-564B-44B3-9D9D-54B392C6B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2099FB-8EB9-483D-9BBA-9032FF988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A9D6E1-AD36-44AE-9218-0DCB53EBE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69B5-1675-43A1-854A-B513ACBE4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A0960C-AA95-4EFF-B586-C7F8A0B62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4BD39E-6510-444A-8E5A-2CEDCA98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1E6BA2-0235-4B6C-BA08-3000D8F48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B5BCF1-33C7-4906-B77C-4EAA0B95D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D21E3C-77DD-4BEA-BDA3-935BF6FA5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5ECDC2-4E67-4C72-8E3B-A77E1D779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88BF73-3435-4172-B73F-84747C32E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9E9C58-2D26-4076-8A41-FB135E089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E18113-30AB-4113-806D-AA2B3C64A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6966F8-116E-4C3D-82DE-F832BBE80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EED81-374B-459B-AF98-7853EA964B0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4FCA8-A314-4FF7-AE11-99AB429EC90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1BCDF-9CC7-4CA6-AAB9-66A42A38B01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3534A-7548-4CAB-BC43-A3678C8473E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1AC11-1B99-42DB-BB00-346ABE76C79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639A0-CD63-4D33-939C-6EDD596868E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BDF87-18CF-4AB3-B3E7-3A79452DD9D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6421D-BB8F-4C87-8D05-3E367084B6B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FCB0F-12CA-4954-8D81-83006D4CC74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B6FAF-C9C1-4506-97D2-FA5FF3694B5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B41CE-3D1D-4AF9-A2B2-1F3BE5B947F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CB838-CA74-4962-A86A-267866712D0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61AB0-77D0-4B43-84DB-18CD1F5F6B1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2A51A-072A-4309-98FC-0C0A4B1D96C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1341000"/>
            <a:ext cx="7772400" cy="225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сознание и социальное повед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3" descr="C:\Users\НВ\Desktop\нгш.jpg"/>
          <p:cNvPicPr/>
          <p:nvPr/>
        </p:nvPicPr>
        <p:blipFill>
          <a:blip r:embed="rId1"/>
          <a:stretch/>
        </p:blipFill>
        <p:spPr>
          <a:xfrm>
            <a:off x="1476360" y="3484440"/>
            <a:ext cx="2808360" cy="2806920"/>
          </a:xfrm>
          <a:prstGeom prst="rect">
            <a:avLst/>
          </a:prstGeom>
          <a:ln w="0">
            <a:noFill/>
          </a:ln>
        </p:spPr>
      </p:pic>
      <p:sp>
        <p:nvSpPr>
          <p:cNvPr id="576" name="Прямоугольник 4"/>
          <p:cNvSpPr/>
          <p:nvPr/>
        </p:nvSpPr>
        <p:spPr>
          <a:xfrm>
            <a:off x="0" y="115920"/>
            <a:ext cx="914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правление здравоохранения Липец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ластное образовательное автономное учрежде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реднего профессионального обра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Елецкий медицинский колледж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Заголовок 1"/>
          <p:cNvSpPr/>
          <p:nvPr/>
        </p:nvSpPr>
        <p:spPr>
          <a:xfrm>
            <a:off x="6084720" y="4653000"/>
            <a:ext cx="258624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готови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подава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скурина Н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46040" y="62028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ункции самосозн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477720" y="1700280"/>
            <a:ext cx="8229600" cy="32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познание — получение информации о с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моционально-ценностное отношение к с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регуляция повед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Picture 2" descr="C:\Users\НВ\Desktop\нрол.jpg"/>
          <p:cNvPicPr/>
          <p:nvPr/>
        </p:nvPicPr>
        <p:blipFill>
          <a:blip r:embed="rId1"/>
          <a:stretch/>
        </p:blipFill>
        <p:spPr>
          <a:xfrm>
            <a:off x="7380360" y="333360"/>
            <a:ext cx="129528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начение самосозн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468000" y="1125000"/>
            <a:ext cx="8496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сознание способствует достижению внутренней согласованности личности, тождественности самому себе в прошлом, настоящем и будущ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ределяет характер и особенности интерпретации приобретённого опы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ужит источником ожиданий относительно себя и своего по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оценка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редставляет собой эмоциональное отношение к собственному образ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2843280" y="2889360"/>
            <a:ext cx="619272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самооценка =  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  <a:ea typeface="Calibri"/>
              </a:rPr>
              <a:t>     успех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притяз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Picture 3" descr="C:\Users\НВ\Desktop\social_media_marketing.jpg"/>
          <p:cNvPicPr/>
          <p:nvPr/>
        </p:nvPicPr>
        <p:blipFill>
          <a:blip r:embed="rId1"/>
          <a:stretch/>
        </p:blipFill>
        <p:spPr>
          <a:xfrm>
            <a:off x="611280" y="2349360"/>
            <a:ext cx="234000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95280" y="3038400"/>
            <a:ext cx="822960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исповедь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является полным внутренним отчетом перед самим собой о том, что происходит с нами и в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Picture 2" descr="C:\Users\НВ\Desktop\i.jpg"/>
          <p:cNvPicPr/>
          <p:nvPr/>
        </p:nvPicPr>
        <p:blipFill>
          <a:blip r:embed="rId1"/>
          <a:stretch/>
        </p:blipFill>
        <p:spPr>
          <a:xfrm>
            <a:off x="3635280" y="338040"/>
            <a:ext cx="216072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049040" y="1197000"/>
            <a:ext cx="7886520" cy="471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циальное поведение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 поведение, выражающееся в совокупности поступков и действий индивида или группы в обществе и зависящее от социально-экономических факторов и господствующих нор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Picture 2" descr="C:\Users\НВ\Desktop\про.jpg"/>
          <p:cNvPicPr/>
          <p:nvPr/>
        </p:nvPicPr>
        <p:blipFill>
          <a:blip r:embed="rId1"/>
          <a:stretch/>
        </p:blipFill>
        <p:spPr>
          <a:xfrm>
            <a:off x="395280" y="260280"/>
            <a:ext cx="151272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297000" y="115560"/>
            <a:ext cx="8820000" cy="22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циальное действие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любое проявление социальной активности (деятельность, поведение, реакция, позиция и пр.), ориентированное на других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3120" y="2420640"/>
            <a:ext cx="850752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циальное взаимодействие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процесс непосредственного или опосредованного взаимодействия социальных субъектов друг на друга, процесс обмена действиями между двумя и более субъект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2" descr="C:\Users\НВ\Desktop\3DSYRW_5020.jpg"/>
          <p:cNvPicPr/>
          <p:nvPr/>
        </p:nvPicPr>
        <p:blipFill>
          <a:blip r:embed="rId1"/>
          <a:stretch/>
        </p:blipFill>
        <p:spPr>
          <a:xfrm>
            <a:off x="6156360" y="5049720"/>
            <a:ext cx="2636640" cy="16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ан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сознание и самопозн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оценка и самоиспове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циальное пове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2" descr="C:\Users\НВ\Desktop\прол.jpg"/>
          <p:cNvPicPr/>
          <p:nvPr/>
        </p:nvPicPr>
        <p:blipFill>
          <a:blip r:embed="rId1"/>
          <a:stretch/>
        </p:blipFill>
        <p:spPr>
          <a:xfrm>
            <a:off x="5219640" y="4076640"/>
            <a:ext cx="342756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686800" cy="502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сознание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— сознание субъектом самого себя в отличие от иного — других субъектов и мира вообще; это осознание человеком своего общественного статуса и своих жизненно важных потребностей, мыслей, чувств, мотивов, инстинктов, переживаний, действ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2" descr="C:\Users\НВ\Desktop\300_648152.jpg"/>
          <p:cNvPicPr/>
          <p:nvPr/>
        </p:nvPicPr>
        <p:blipFill>
          <a:blip r:embed="rId1"/>
          <a:stretch/>
        </p:blipFill>
        <p:spPr>
          <a:xfrm>
            <a:off x="6804000" y="4508640"/>
            <a:ext cx="1503360" cy="20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716000" y="4868640"/>
            <a:ext cx="410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рансуа Вий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1476360" y="2349360"/>
            <a:ext cx="730872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 знаю, как на  мед садятся мух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 знаю смерть, что рыщет, все гу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 знаю книги, истины и слух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 знаю все, но только не с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Picture 2" descr="C:\Users\НВ\Desktop\i.jpg"/>
          <p:cNvPicPr/>
          <p:nvPr/>
        </p:nvPicPr>
        <p:blipFill>
          <a:blip r:embed="rId1"/>
          <a:stretch/>
        </p:blipFill>
        <p:spPr>
          <a:xfrm>
            <a:off x="755640" y="260280"/>
            <a:ext cx="1584360" cy="19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76360" y="5013000"/>
            <a:ext cx="397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. Заболоц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468360" y="154620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мир меняет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как я сам меняю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шь именем одним я называю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самом деле то, что именуют мной,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 я один. Нас много. Я — жи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cture 2" descr="C:\Users\НВ\Desktop\е.jpg"/>
          <p:cNvPicPr/>
          <p:nvPr/>
        </p:nvPicPr>
        <p:blipFill>
          <a:blip r:embed="rId1"/>
          <a:stretch/>
        </p:blipFill>
        <p:spPr>
          <a:xfrm>
            <a:off x="6659640" y="254160"/>
            <a:ext cx="1554120" cy="22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2627280" y="333360"/>
            <a:ext cx="633744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дии развития самосознания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468360" y="162828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крытие «Я»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роисходит в возрасте 1 г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 2-м 3-м годам человек начинает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делять результат своих действий от действий других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чётко осознаёт себя как деяте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 7-и годам формируется способность оценивать себя (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оценк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ростковый и юношеский возраст — этап активного самопознания,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иска себя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своего стиля. Завершается период формирования социально-нравственных оцен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2" descr="C:\Users\Public\Pictures\Sample Pictures\ФЕНТЕЗИ\дети\babyk1020.jpg"/>
          <p:cNvPicPr/>
          <p:nvPr/>
        </p:nvPicPr>
        <p:blipFill>
          <a:blip r:embed="rId1"/>
          <a:stretch/>
        </p:blipFill>
        <p:spPr>
          <a:xfrm>
            <a:off x="250920" y="36360"/>
            <a:ext cx="244800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2" descr="C:\Users\НВ\Desktop\ро.jpg"/>
          <p:cNvPicPr/>
          <p:nvPr/>
        </p:nvPicPr>
        <p:blipFill>
          <a:blip r:embed="rId1"/>
          <a:stretch/>
        </p:blipFill>
        <p:spPr>
          <a:xfrm>
            <a:off x="241200" y="260280"/>
            <a:ext cx="2625840" cy="196056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555640" y="907560"/>
            <a:ext cx="6500520" cy="17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формирование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сознания влияют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468360" y="306864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ценки окружающих и статус в группе сверстн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отношение «Я-реальное» и «Я-идеальное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ценка результатов своей 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Скругленный прямоугольник 1"/>
          <p:cNvSpPr/>
          <p:nvPr/>
        </p:nvSpPr>
        <p:spPr>
          <a:xfrm rot="10800000">
            <a:off x="3203640" y="333000"/>
            <a:ext cx="3024000" cy="12240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осприятие ребен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ругими (родителям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верстниками и др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Скругленный прямоугольник 2"/>
          <p:cNvSpPr/>
          <p:nvPr/>
        </p:nvSpPr>
        <p:spPr>
          <a:xfrm rot="10800000">
            <a:off x="395280" y="2491920"/>
            <a:ext cx="2736720" cy="137628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оциальные ценност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жидания, идеа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Скругленный прямоугольник 3"/>
          <p:cNvSpPr/>
          <p:nvPr/>
        </p:nvSpPr>
        <p:spPr>
          <a:xfrm rot="10800000">
            <a:off x="6156000" y="2465280"/>
            <a:ext cx="2663640" cy="1376640"/>
          </a:xfrm>
          <a:prstGeom prst="roundRect">
            <a:avLst>
              <a:gd name="adj" fmla="val 16667"/>
            </a:avLst>
          </a:prstGeom>
          <a:solidFill>
            <a:srgbClr val="72bf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амоанал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Скругленный прямоугольник 4"/>
          <p:cNvSpPr/>
          <p:nvPr/>
        </p:nvSpPr>
        <p:spPr>
          <a:xfrm rot="10800000">
            <a:off x="1258920" y="5229000"/>
            <a:ext cx="2665440" cy="13683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пыт социаль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ве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Скругленный прямоугольник 5"/>
          <p:cNvSpPr/>
          <p:nvPr/>
        </p:nvSpPr>
        <p:spPr>
          <a:xfrm rot="10800000">
            <a:off x="5363640" y="5229360"/>
            <a:ext cx="2629080" cy="1295280"/>
          </a:xfrm>
          <a:prstGeom prst="roundRect">
            <a:avLst>
              <a:gd name="adj" fmla="val 16667"/>
            </a:avLst>
          </a:prstGeom>
          <a:solidFill>
            <a:srgbClr val="f0a8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нешние данны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щущения силы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доров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Овал 6"/>
          <p:cNvSpPr/>
          <p:nvPr/>
        </p:nvSpPr>
        <p:spPr>
          <a:xfrm rot="10800000">
            <a:off x="3924000" y="2923920"/>
            <a:ext cx="1439640" cy="1384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Стрелка вниз 7"/>
          <p:cNvSpPr/>
          <p:nvPr/>
        </p:nvSpPr>
        <p:spPr>
          <a:xfrm>
            <a:off x="4535640" y="1773360"/>
            <a:ext cx="215640" cy="954000"/>
          </a:xfrm>
          <a:prstGeom prst="downArrow">
            <a:avLst>
              <a:gd name="adj1" fmla="val 50000"/>
              <a:gd name="adj2" fmla="val 50098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Стрелка вправо 8"/>
          <p:cNvSpPr/>
          <p:nvPr/>
        </p:nvSpPr>
        <p:spPr>
          <a:xfrm>
            <a:off x="3203640" y="2924280"/>
            <a:ext cx="720720" cy="25560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Стрелка вправо 9"/>
          <p:cNvSpPr/>
          <p:nvPr/>
        </p:nvSpPr>
        <p:spPr>
          <a:xfrm rot="10800000">
            <a:off x="5292720" y="2924280"/>
            <a:ext cx="792000" cy="25560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Стрелка вниз 11"/>
          <p:cNvSpPr/>
          <p:nvPr/>
        </p:nvSpPr>
        <p:spPr>
          <a:xfrm rot="13439400">
            <a:off x="3512880" y="4165560"/>
            <a:ext cx="269640" cy="99864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Стрелка вверх 14"/>
          <p:cNvSpPr/>
          <p:nvPr/>
        </p:nvSpPr>
        <p:spPr>
          <a:xfrm rot="19013400">
            <a:off x="5695920" y="4135320"/>
            <a:ext cx="262080" cy="1032120"/>
          </a:xfrm>
          <a:prstGeom prst="upArrow">
            <a:avLst>
              <a:gd name="adj1" fmla="val 50000"/>
              <a:gd name="adj2" fmla="val 49957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89308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оненты самосознания по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.С. Мерлину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457200" y="1341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знание своей тождественн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знание своего собственного «Я» как активного, деятельного начал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ознание своих психических свойств и качест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ределенная система социально-нравственных самооцен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8T17:41:09Z</dcterms:created>
  <dc:creator>НВ</dc:creator>
  <dc:description/>
  <dc:language>en-US</dc:language>
  <cp:lastModifiedBy>Надежда</cp:lastModifiedBy>
  <dcterms:modified xsi:type="dcterms:W3CDTF">2013-10-08T16:46:49Z</dcterms:modified>
  <cp:revision>9</cp:revision>
  <dc:subject/>
  <dc:title>Самосознание и социальное поведение</dc:title>
</cp:coreProperties>
</file>