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F34-DCE4-4691-AEF1-378EE19A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FE-44A6-4325-ADCB-B79D3C4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A34-2B6B-4927-B550-4ECABE9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80E-DB37-49F7-89B5-7030CE7A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982-873E-49B5-8B4F-6159561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0E5-3A7B-4D95-88E5-4F508B7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9A1-02FD-4EC9-A15C-806DC8F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FB0-9DEF-472B-9344-62731D8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106-A28A-4795-B070-5ACCABE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245-DF4A-4F2E-9A34-E02B475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CF3-7B57-49CC-B389-FCE578C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4D7-63AA-4C27-A1A8-8467D62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11C-0B06-4244-A7FB-BFBFBAAE6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2637000"/>
            <a:ext cx="83534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удовое воспитание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39640" y="69228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начение и особенности трудового воспитания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дачи трудов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иды и содержание труда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ормы организации труда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бщие приемы руководства трудом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словия воспитания дошкольников в тр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редства трудового воспитания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ed014e65-03ce-4b32-bcf0-183e34096482"/>
          <p:cNvPicPr/>
          <p:nvPr/>
        </p:nvPicPr>
        <p:blipFill>
          <a:blip r:embed="rId1"/>
          <a:stretch/>
        </p:blipFill>
        <p:spPr>
          <a:xfrm>
            <a:off x="6608880" y="404640"/>
            <a:ext cx="19652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333360"/>
            <a:ext cx="7561440" cy="63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« Воспитание не только должно развивать ум, вооружать знаниями, но и зажечь в человеке жажду серьезного труда, без которого жизнь его не может быть не достойной, не счастливой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.Д. Ушин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ичие труда ребенка от взрослых люд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енок не создает материальных це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руд детей носит воспитывающи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Близость к иг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ебенок приобретает трудовые навыки, а не профессион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руд носит ситуативный не обязатель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частие и помощь взрос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оненты трудовой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тив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роцесс планирования              Характеристика меняется с возрас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627280" y="4653000"/>
            <a:ext cx="432000" cy="720720"/>
          </a:xfrm>
          <a:custGeom>
            <a:avLst/>
            <a:gdLst>
              <a:gd name="textAreaLeft" fmla="*/ 0 w 432000"/>
              <a:gd name="textAreaRight" fmla="*/ 155880 w 432000"/>
              <a:gd name="textAreaTop" fmla="*/ 10080 h 720720"/>
              <a:gd name="textAreaBottom" fmla="*/ 7106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999"/>
                </a:cubicBezTo>
                <a:lnTo>
                  <a:pt x="10800" y="7803"/>
                </a:lnTo>
                <a:cubicBezTo>
                  <a:pt x="10800" y="8303"/>
                  <a:pt x="16200" y="8802"/>
                  <a:pt x="21600" y="8802"/>
                </a:cubicBezTo>
                <a:cubicBezTo>
                  <a:pt x="16200" y="8802"/>
                  <a:pt x="10800" y="9302"/>
                  <a:pt x="10800" y="9801"/>
                </a:cubicBezTo>
                <a:lnTo>
                  <a:pt x="10800" y="20601"/>
                </a:lnTo>
                <a:cubicBezTo>
                  <a:pt x="10800" y="211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?id=412758211-60-72"/>
          <p:cNvPicPr/>
          <p:nvPr/>
        </p:nvPicPr>
        <p:blipFill>
          <a:blip r:embed="rId1"/>
          <a:stretch/>
        </p:blipFill>
        <p:spPr>
          <a:xfrm>
            <a:off x="5867280" y="1268280"/>
            <a:ext cx="165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836640"/>
          <a:ext cx="6095880" cy="39942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5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К. Баба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И. Лог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Г. Неч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отношения к труд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отношения к людям труд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отребности трудить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выбору 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тношения к труд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потребности трудить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трудовых знаний, умений, навыков в основных видах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трудовых навыков и ум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отношения к труду, заложение основ трудолюб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нравственно – волевых качеств личности; Овладение навыками трудов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отношения к труду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5"/>
          <p:cNvSpPr/>
          <p:nvPr/>
        </p:nvSpPr>
        <p:spPr>
          <a:xfrm>
            <a:off x="468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6" descr="Картинка 23 из 10215"/>
          <p:cNvPicPr/>
          <p:nvPr/>
        </p:nvPicPr>
        <p:blipFill>
          <a:blip r:embed="rId1"/>
          <a:stretch/>
        </p:blipFill>
        <p:spPr>
          <a:xfrm>
            <a:off x="6516720" y="4149720"/>
            <a:ext cx="23274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4000" y="333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55480" y="333360"/>
            <a:ext cx="34401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амообслуж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Хозяйственно бытово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в при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учной и художественны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628640"/>
            <a:ext cx="4103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Пор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ежу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щий, совместный, коллективны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4000" y="2708280"/>
            <a:ext cx="45352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отивация трудов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е: показ и разъяснения приемов работы и способов ее 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Закрепление: упражнение в самостоятельном использовании определенных навыков и ум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спользование игровых приемов и художественного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онтроль и оценка результатов  трудов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Картинка 9 из 10215"/>
          <p:cNvPicPr/>
          <p:nvPr/>
        </p:nvPicPr>
        <p:blipFill>
          <a:blip r:embed="rId1"/>
          <a:stretch/>
        </p:blipFill>
        <p:spPr>
          <a:xfrm>
            <a:off x="4788000" y="162864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260280"/>
            <a:ext cx="453528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 организации коллективного тру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эта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дготовка к труд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ъяснения содержания общего задания для детей группы, его значимости, распределение между звеньями отдельных заданий, помощь детям в распределени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руководство процессом тру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уляция продуктивной деятельности детей, заботы о результ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обсуждение результа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ценка его значимости, постановка задач на будущ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моционально –положительная атмосф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рганизация материально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Учет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Учет индивидуальных интере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ая трудов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знакомление с трудом взрос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Художественные 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Картинка 10 из 112488"/>
          <p:cNvPicPr/>
          <p:nvPr/>
        </p:nvPicPr>
        <p:blipFill>
          <a:blip r:embed="rId1"/>
          <a:stretch/>
        </p:blipFill>
        <p:spPr>
          <a:xfrm>
            <a:off x="4716360" y="1413000"/>
            <a:ext cx="347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0:10:56Z</dcterms:created>
  <dc:creator>депутатова</dc:creator>
  <dc:description/>
  <dc:language>en-US</dc:language>
  <cp:lastModifiedBy>БОСС</cp:lastModifiedBy>
  <dcterms:modified xsi:type="dcterms:W3CDTF">2013-10-09T16:37:28Z</dcterms:modified>
  <cp:revision>7</cp:revision>
  <dc:subject/>
  <dc:title>Слайд 1</dc:title>
</cp:coreProperties>
</file>