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9.gif" ContentType="image/gif"/>
  <Override PartName="/ppt/media/image1.png" ContentType="image/png"/>
  <Override PartName="/ppt/media/image29.wmf" ContentType="image/x-wmf"/>
  <Override PartName="/ppt/media/image12.png" ContentType="image/png"/>
  <Override PartName="/ppt/media/image32.wmf" ContentType="image/x-wmf"/>
  <Override PartName="/ppt/media/image13.png" ContentType="image/png"/>
  <Override PartName="/ppt/media/image41.png" ContentType="image/png"/>
  <Override PartName="/ppt/media/image34.gif" ContentType="image/gif"/>
  <Override PartName="/ppt/media/image30.wmf" ContentType="image/x-wmf"/>
  <Override PartName="/ppt/media/image10.png" ContentType="image/png"/>
  <Override PartName="/ppt/media/image27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EFC-ACD4-4606-A9B8-316540DB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855-6B75-4DDA-A01F-2EEAE849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55C69-F10E-4152-B66E-903AE170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85C7F-8A95-4D1D-B705-C18FDDB9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CA315-6FA5-4F6B-894E-40942004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6A7A5-BACC-4DD9-A11A-0EFA81D2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FCC83-026F-4485-802A-47DEA89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F0FFB-B641-479B-9800-0B941FCF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72B06-26AA-4ABC-B4C8-9B2CEE7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A672-5499-4141-A05A-342B5C4C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2B475-7A4F-43D4-A7DA-A715B597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2AD6-0414-49B5-95E4-6B87FA2B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0DA-2C6B-46BA-A2BA-445D0D6A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8D587-1A7F-4A87-9CC4-CB2FA779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7D395-2690-46F1-AEA9-F92F653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0C5D3-F0A4-49C3-ACE3-C409DE8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1C68E-F93D-4F5F-AE8B-146A9277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A266C-6D88-460C-B742-967F126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B4395-8672-4D2A-8719-1228011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4E112-BB94-42D4-AB56-E5CC620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BAF35-88A4-4CAF-BA49-3C6A2D8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3563F-D3DD-4461-8746-5279160A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057CF-C1F7-458D-8241-6B58B7A5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04F-870A-4A80-9FC4-FE022877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8DDC5-6FAB-4773-86C4-C0468462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3A283-F86E-4F8B-9F3B-13F9A6C2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0DC0-4A05-4049-820C-36B981D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2891C-8C25-4AFA-BB71-1D460E8C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D4034-6C9C-4375-9CC0-D3129E38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5820-4BCC-432D-8E49-E6FF033C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68CD3-9D18-4C20-99FA-DD2B75F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FDC08-8E9B-4CB3-896F-BB998D3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FE374-87E0-4648-A0FC-A2CD272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3283D-6C56-497B-A916-0F4A77D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F61D-5442-491D-975A-92DFB6ED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547E7-0262-4E69-B0AA-065DA76D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50E22-6F4D-45D7-BC02-D85097B3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B0D9F-D762-4682-9816-FEA64F47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C0DBA-0CAF-4EAD-A64A-BF904890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9454B-0AF1-424B-A68B-A6D7012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C7B68-24F7-451C-B881-D9528FB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97EB9-D15C-426B-AC0B-E13EEE1B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B3755-0C38-4665-948D-846BE6FB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AD7DF-3D4E-4B44-9262-D99902BC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2F7CE-4DAE-4B79-B7ED-C9D99F5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8035-F3F7-46DD-897A-BE77319E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B5C69-7764-4676-A967-25E38FB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2C53B-9CE2-4C8D-A540-8B8C68B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69FDD-8CD0-4090-B9FD-3EF8F97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96CF6-3A46-49E6-A492-322354BC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C5705-BA10-43EF-A301-22E1ADA6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5217-5106-471F-8086-5B9F915C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E40A-59E9-4311-902B-9923096B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7F82-0FE8-4696-9955-4E4A571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026F-4EB3-417B-A2EC-8D5929D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02B4-EBA8-46EF-B75D-48390EB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77E-D152-4AB9-B3F6-18F11A5C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BA1-D333-44B3-919E-D95B8AB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129A-60D0-478C-AA28-D25CAB5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0D36-DAF7-451A-A07F-93BCB44B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4E3E-CBED-4454-BB89-DE92B23C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B79A-C214-40E8-B625-641135B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6C5B-2A45-4A2D-AABE-7346268A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E6D5-9020-4784-915E-4BC06EA1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2364-E1FF-469B-A320-9D457A7D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B1C9-9769-4E11-B632-AC86FAA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302E-6A98-49E7-9E58-B4BB15CC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7FB-F161-4BCF-9927-E8076E2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2802-5EF0-4661-B6D7-158AB08A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5ABC-BDBF-4F6F-B997-5523A22A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277C-80D6-4CCC-A755-FFA78CF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C14F-2322-4E17-88CF-18D9829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F375-97B2-4EBB-BADC-62BD22BE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BD3F-29C8-4A27-8B37-B37B9274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F3A4-9ACC-4D02-98D4-B17F33B4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BEE9-AFDD-440C-ADF0-67BF6169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22EA-7CB8-4226-80BA-AACF8AF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0AC5-7690-4A91-8CEC-56845AA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F0F-3806-4AAC-B3E8-7EED9E66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3B33-4B5A-4183-B560-822E296B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AAC0-0F04-45C4-BE97-D31E223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A3D1-726A-4981-88E4-E730E5EC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3909-8D8F-46AD-8E7C-73FF20F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0B44-7143-4F89-8A5B-00F04D2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A0CD8-09EA-4134-B7B5-0AE9785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9ABD-F11C-4BBF-A4CF-91BBA4AC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8476-4279-434A-81B5-8660E59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B33A-AA2E-4E7B-98DE-411B5623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02F70-8E96-4FB6-9CC8-CE392AA6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928-2094-4EA0-9E8D-69B1F3F1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7E7A-659E-4D93-8CDD-F7F81702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8D89-8007-4869-B957-CFB04848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8F0A-CF63-4D67-A822-A8551159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0E43B-EB8D-4F59-A681-52A03E4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0A25-33CE-44FC-9C97-42268C7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41CC-DA25-48E1-8A97-6AA8817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99E0-356A-4214-9C89-6FCE116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8118-76B9-44AD-8C5A-D7E99BA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C5C1-C843-4D75-AAAE-590CDDB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C653-E2E4-4B2D-BACC-423E9839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242-70B9-4954-BE76-D66C3AFC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FA33-47E7-469B-9B01-04ACE20A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F30B-4135-49F3-B2BF-76D03158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351F-2980-4766-987B-06711128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9A1FF-D774-4E30-AFEE-81EF04E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350D-D3B4-4DF5-B660-8E9B45BF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3933-BFC5-4F80-AD97-C1DEC455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B2EA0-8794-43F3-946F-C6BCFB3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4BC26-6392-4A0A-9334-2BF1A5B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FCDE-98DF-4E5E-877B-3FEF49B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9432-A7C0-496A-AE71-637A1D20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7F7-AF78-4FF6-8906-B9FEB113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E880D-6223-42D2-97E2-5CBDE63C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FD2D5-6C37-4DCD-B72F-8CB3CA0B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FDD2-6B26-4798-A61F-1DF4F745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FFCFD-41EE-4B9B-924F-CAE7985F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21F34-34E6-4636-8C36-9C198700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4B59-83D6-41D5-9CD8-464CEB64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7E040-D36D-4C02-A617-6CE31E20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E3F74-B0A6-4B88-B2B1-EB351FD9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B6DA-C68A-4DF4-844E-17A22A82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FF9B5-3379-4AC1-A3BD-07093F0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2A0-B29C-4873-8FDA-93DE972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F2CEE-8244-410E-9C59-F2A7E68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E24B-5E70-4A48-A8C8-A0B31A0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27D05-C1C7-4C74-97DF-E177AC5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F3FC-A40C-4BED-ACC7-6D3825E5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55903-6EF0-4D17-83D1-2A96ABF6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0E8D-4219-4792-BAA3-4E7E0D70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AB73-9923-46C0-9898-EA7AEC7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7121E-4C94-4463-82A7-B4945BA3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13A61-7B7A-49E7-BEF6-4A63EE24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79882-F006-4FF3-A0F8-362BC59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CA1-B051-42C5-9AA0-7A087049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A218-46E2-405D-99C1-622D7386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25461-600E-4EBF-AFA3-D27659B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E9902-5364-47AD-9B44-416D7EF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08FD1-E77D-405C-8E06-B0E1F0E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0358-B83E-4C3C-91D8-6A83DDC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9FE42-A03C-4293-8EB0-DBD6D3C0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23DA6-A2A8-4F06-9C5C-A118FD2D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3A5C2-454B-4379-9B3B-CDAF8986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B9E08-9190-4153-B6B6-CAD430FE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4D0B8-25A9-4D07-BDF5-6CCE7A42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D2A-CFD1-40BD-9F5E-8D94BAC932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67" name="Freeform 8"/>
            <p:cNvSpPr/>
            <p:nvPr/>
          </p:nvSpPr>
          <p:spPr>
            <a:xfrm rot="16200000">
              <a:off x="-2887560" y="2882160"/>
              <a:ext cx="688212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7fd13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"/>
            <p:cNvSpPr/>
            <p:nvPr/>
          </p:nvSpPr>
          <p:spPr>
            <a:xfrm rot="16200000">
              <a:off x="-2889000" y="2912400"/>
              <a:ext cx="686160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70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73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76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0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A2C-5F05-4573-954B-7A4F9843905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24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27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30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12B6-FAB2-487E-9095-33F20898FEE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78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81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84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11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03FD-C8FE-4F7B-A327-EA74A529FC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8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5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51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8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4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1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6D22-69FC-4BBF-BCD1-877DF248860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100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6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38D4-8895-48AD-9C05-DB3CB90413E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4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7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60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165C-AA83-467B-B165-90F49CF99B8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8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5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11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8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BE47-43C5-4AA6-8523-20B8850F7DF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60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5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63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F22B-4E36-4286-8455-0606CA0A547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14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17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20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E2B8-21BB-4E31-B7C5-58B7285BB7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6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7fd13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6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7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7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9D07-0CF2-43D5-9D8C-95E6846FC69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7fd13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5fa326">
                  <a:alpha val="69019"/>
                </a:srgbClr>
              </a:gs>
              <a:gs pos="100000">
                <a:srgbClr val="7fd13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21" name="Freeform 8"/>
            <p:cNvSpPr/>
            <p:nvPr/>
          </p:nvSpPr>
          <p:spPr>
            <a:xfrm rot="16200000">
              <a:off x="-2887560" y="2882160"/>
              <a:ext cx="688212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7fd13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"/>
            <p:cNvSpPr/>
            <p:nvPr/>
          </p:nvSpPr>
          <p:spPr>
            <a:xfrm rot="16200000">
              <a:off x="-2889000" y="2912400"/>
              <a:ext cx="686160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dd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1ab39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65B7-E5B3-421E-B604-50B4348C1A6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4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34.gif"/><Relationship Id="rId16" Type="http://schemas.openxmlformats.org/officeDocument/2006/relationships/image" Target="../media/image34.gif"/><Relationship Id="rId17" Type="http://schemas.openxmlformats.org/officeDocument/2006/relationships/image" Target="../media/image19.gif"/><Relationship Id="rId18" Type="http://schemas.openxmlformats.org/officeDocument/2006/relationships/image" Target="../media/image34.gif"/><Relationship Id="rId19" Type="http://schemas.openxmlformats.org/officeDocument/2006/relationships/image" Target="../media/image34.gif"/><Relationship Id="rId20" Type="http://schemas.openxmlformats.org/officeDocument/2006/relationships/image" Target="../media/image34.gif"/><Relationship Id="rId21" Type="http://schemas.openxmlformats.org/officeDocument/2006/relationships/image" Target="../media/image34.gif"/><Relationship Id="rId22" Type="http://schemas.openxmlformats.org/officeDocument/2006/relationships/image" Target="../media/image19.gif"/><Relationship Id="rId23" Type="http://schemas.openxmlformats.org/officeDocument/2006/relationships/image" Target="../media/image19.gif"/><Relationship Id="rId24" Type="http://schemas.openxmlformats.org/officeDocument/2006/relationships/image" Target="../media/image19.gif"/><Relationship Id="rId2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500040" y="207180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5 «В» класса «Кадетской школы № 47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8" name="Picture 7" descr=""/>
          <p:cNvPicPr/>
          <p:nvPr/>
        </p:nvPicPr>
        <p:blipFill>
          <a:blip r:embed="rId1"/>
          <a:stretch/>
        </p:blipFill>
        <p:spPr>
          <a:xfrm>
            <a:off x="714240" y="5643720"/>
            <a:ext cx="1266840" cy="952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0" name="Object 2"/>
              <p:cNvSpPr txBox="1"/>
              <p:nvPr/>
            </p:nvSpPr>
            <p:spPr>
              <a:xfrm>
                <a:off x="4514760" y="3643200"/>
                <a:ext cx="9018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6716880" y="1330200"/>
                <a:ext cx="1658880" cy="24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2" name="Picture 5" descr=""/>
          <p:cNvPicPr/>
          <p:nvPr/>
        </p:nvPicPr>
        <p:blipFill>
          <a:blip r:embed="rId1"/>
          <a:stretch/>
        </p:blipFill>
        <p:spPr>
          <a:xfrm>
            <a:off x="1870200" y="1417680"/>
            <a:ext cx="3076560" cy="2633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"/>
          <p:cNvPicPr/>
          <p:nvPr/>
        </p:nvPicPr>
        <p:blipFill>
          <a:blip r:embed="rId2"/>
          <a:stretch/>
        </p:blipFill>
        <p:spPr>
          <a:xfrm>
            <a:off x="468360" y="1582560"/>
            <a:ext cx="1398600" cy="240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"/>
          <p:cNvPicPr/>
          <p:nvPr/>
        </p:nvPicPr>
        <p:blipFill>
          <a:blip r:embed="rId3"/>
          <a:stretch/>
        </p:blipFill>
        <p:spPr>
          <a:xfrm>
            <a:off x="1566720" y="2336760"/>
            <a:ext cx="1006560" cy="1006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"/>
          <p:cNvPicPr/>
          <p:nvPr/>
        </p:nvPicPr>
        <p:blipFill>
          <a:blip r:embed="rId4"/>
          <a:stretch/>
        </p:blipFill>
        <p:spPr>
          <a:xfrm>
            <a:off x="5721480" y="2206800"/>
            <a:ext cx="1231920" cy="12315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9"/>
          <p:cNvSpPr/>
          <p:nvPr/>
        </p:nvSpPr>
        <p:spPr>
          <a:xfrm>
            <a:off x="1290600" y="60660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5643720" y="5922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375360" y="4826160"/>
            <a:ext cx="331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=4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6"/>
          <p:cNvGrpSpPr/>
          <p:nvPr/>
        </p:nvGrpSpPr>
        <p:grpSpPr>
          <a:xfrm>
            <a:off x="4579920" y="1420920"/>
            <a:ext cx="1476360" cy="2676960"/>
            <a:chOff x="4579920" y="1420920"/>
            <a:chExt cx="1476360" cy="2676960"/>
          </a:xfrm>
        </p:grpSpPr>
        <p:sp>
          <p:nvSpPr>
            <p:cNvPr id="680" name="AutoShape 5"/>
            <p:cNvSpPr/>
            <p:nvPr/>
          </p:nvSpPr>
          <p:spPr>
            <a:xfrm>
              <a:off x="4579920" y="1420920"/>
              <a:ext cx="147636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4821480" y="1476360"/>
              <a:ext cx="1093320" cy="26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Управляющая кнопка: домой 14">
            <a:hlinkClick r:id="" action="ppaction://hlinkshowjump?jump=previousslide"/>
          </p:cNvPr>
          <p:cNvSpPr/>
          <p:nvPr/>
        </p:nvSpPr>
        <p:spPr>
          <a:xfrm>
            <a:off x="7429680" y="5572080"/>
            <a:ext cx="1357200" cy="1071720"/>
          </a:xfrm>
          <a:custGeom>
            <a:avLst/>
            <a:gdLst>
              <a:gd name="textAreaLeft" fmla="*/ 69480 w 1357200"/>
              <a:gd name="textAreaRight" fmla="*/ 1287720 w 1357200"/>
              <a:gd name="textAreaTop" fmla="*/ 69480 h 1071720"/>
              <a:gd name="textAreaBottom" fmla="*/ 1002240 h 1071720"/>
            </a:gdLst>
            <a:ahLst/>
            <a:rect l="textAreaLeft" t="textAreaTop" r="textAreaRight" b="textAreaBottom"/>
            <a:pathLst>
              <a:path w="27352" h="21600">
                <a:moveTo>
                  <a:pt x="0" y="0"/>
                </a:moveTo>
                <a:lnTo>
                  <a:pt x="27352" y="0"/>
                </a:lnTo>
                <a:lnTo>
                  <a:pt x="27352" y="21600"/>
                </a:lnTo>
                <a:lnTo>
                  <a:pt x="0" y="21600"/>
                </a:lnTo>
                <a:close/>
              </a:path>
              <a:path fill="lightenLess" w="27352" h="21600">
                <a:moveTo>
                  <a:pt x="0" y="0"/>
                </a:moveTo>
                <a:lnTo>
                  <a:pt x="27352" y="0"/>
                </a:lnTo>
                <a:lnTo>
                  <a:pt x="25952" y="1400"/>
                </a:lnTo>
                <a:lnTo>
                  <a:pt x="1400" y="1400"/>
                </a:lnTo>
                <a:close/>
              </a:path>
              <a:path fill="darken" w="27352" h="21600">
                <a:moveTo>
                  <a:pt x="27352" y="0"/>
                </a:moveTo>
                <a:lnTo>
                  <a:pt x="27352" y="21600"/>
                </a:lnTo>
                <a:lnTo>
                  <a:pt x="25952" y="20200"/>
                </a:lnTo>
                <a:lnTo>
                  <a:pt x="25952" y="1400"/>
                </a:lnTo>
                <a:close/>
              </a:path>
              <a:path fill="darkenLess" w="27352" h="21600">
                <a:moveTo>
                  <a:pt x="27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2" y="20200"/>
                </a:lnTo>
                <a:close/>
              </a:path>
              <a:path fill="lighten" w="27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2" h="21600">
                <a:moveTo>
                  <a:pt x="13676" y="3837"/>
                </a:moveTo>
                <a:lnTo>
                  <a:pt x="16252" y="6448"/>
                </a:ln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lnTo>
                  <a:pt x="20639" y="10800"/>
                </a:lnTo>
                <a:lnTo>
                  <a:pt x="18985" y="10800"/>
                </a:lnTo>
                <a:lnTo>
                  <a:pt x="18985" y="17989"/>
                </a:lnTo>
                <a:lnTo>
                  <a:pt x="8367" y="17989"/>
                </a:lnTo>
                <a:lnTo>
                  <a:pt x="8367" y="10800"/>
                </a:lnTo>
                <a:lnTo>
                  <a:pt x="6713" y="10800"/>
                </a:lnTo>
                <a:close/>
              </a:path>
              <a:path fill="darkenLess" w="27352" h="21600">
                <a:moveTo>
                  <a:pt x="16252" y="6448"/>
                </a:move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close/>
              </a:path>
              <a:path fill="darkenLess" w="27352" h="21600">
                <a:moveTo>
                  <a:pt x="12753" y="14299"/>
                </a:moveTo>
                <a:lnTo>
                  <a:pt x="14598" y="14299"/>
                </a:lnTo>
                <a:lnTo>
                  <a:pt x="14598" y="17989"/>
                </a:lnTo>
                <a:lnTo>
                  <a:pt x="18985" y="17989"/>
                </a:lnTo>
                <a:lnTo>
                  <a:pt x="18985" y="10800"/>
                </a:lnTo>
                <a:lnTo>
                  <a:pt x="8367" y="10800"/>
                </a:lnTo>
                <a:lnTo>
                  <a:pt x="8367" y="17989"/>
                </a:lnTo>
                <a:lnTo>
                  <a:pt x="12753" y="17989"/>
                </a:lnTo>
                <a:close/>
              </a:path>
            </a:pathLst>
          </a:custGeom>
          <a:solidFill>
            <a:srgbClr val="7fd13b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Заголовок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ahoma"/>
              </a:rPr>
              <a:t>Реши удобным способ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3884 C -0.0217 -0.06011 -0.03629 -0.08092 -0.07031 -0.09665 C -0.10452 -0.11191 -0.15469 -0.1237 -0.21215 -0.13248 C -0.26979 -0.14127 -0.36042 -0.14682 -0.41528 -0.14959 C -0.47031 -0.15214 -0.50452 -0.15792 -0.54149 -0.14959 C -0.57865 -0.14104 -0.60938 -0.12855 -0.63733 -0.09803 C -0.66511 -0.06798 -0.69705 0.01087 -0.70886 0.03283 E">
                                      <p:cBhvr>
                                        <p:cTn id="62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29 0.00462 C -0.0132 0.07699 -0.01493 0.14959 0.04132 0.19098 C 0.09774 0.23237 0.27066 0.24046 0.32708 0.25295 C 0.38351 0.26543 0.34948 0.26451 0.37986 0.26682 C 0.41024 0.26913 0.47361 0.27468 0.50903 0.26682 C 0.54444 0.25919 0.57274 0.25988 0.59219 0.22081 C 0.61163 0.18173 0.61771 0.07237 0.62569 0.03214 C 0.63351 -0.0081 0.63767 -0.01179 0.6401 -0.02058 E">
                                      <p:cBhvr>
                                        <p:cTn id="64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395280" y="1865160"/>
                <a:ext cx="324180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3"/>
              <p:cNvSpPr txBox="1"/>
              <p:nvPr/>
            </p:nvSpPr>
            <p:spPr>
              <a:xfrm>
                <a:off x="3564000" y="3860640"/>
                <a:ext cx="3500280" cy="279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4"/>
              <p:cNvSpPr txBox="1"/>
              <p:nvPr/>
            </p:nvSpPr>
            <p:spPr>
              <a:xfrm>
                <a:off x="3276720" y="2492280"/>
                <a:ext cx="12031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7" name="Picture 5" descr=""/>
          <p:cNvPicPr/>
          <p:nvPr/>
        </p:nvPicPr>
        <p:blipFill>
          <a:blip r:embed="rId1"/>
          <a:stretch/>
        </p:blipFill>
        <p:spPr>
          <a:xfrm>
            <a:off x="3780000" y="1844640"/>
            <a:ext cx="2663640" cy="2330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6"/>
          <p:cNvSpPr/>
          <p:nvPr/>
        </p:nvSpPr>
        <p:spPr>
          <a:xfrm>
            <a:off x="1476360" y="765000"/>
            <a:ext cx="3600360" cy="1295640"/>
          </a:xfrm>
          <a:custGeom>
            <a:avLst/>
            <a:gdLst>
              <a:gd name="textAreaLeft" fmla="*/ 716760 w 3600360"/>
              <a:gd name="textAreaRight" fmla="*/ 2523600 w 3600360"/>
              <a:gd name="textAreaTop" fmla="*/ 173520 h 1295640"/>
              <a:gd name="textAreaBottom" fmla="*/ 1122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01" hR="21600" stAng="10800000" swAng="5400000"/>
                <a:lnTo>
                  <a:pt x="10839" y="0"/>
                </a:lnTo>
                <a:arcTo wR="8601" hR="21600" stAng="-5400000" swAng="2903904"/>
                <a:lnTo>
                  <a:pt x="21108" y="14400"/>
                </a:lnTo>
                <a:lnTo>
                  <a:pt x="18321" y="21600"/>
                </a:lnTo>
                <a:lnTo>
                  <a:pt x="14550" y="14400"/>
                </a:lnTo>
                <a:lnTo>
                  <a:pt x="16710" y="14400"/>
                </a:lnTo>
                <a:arcTo wR="8601" hR="21600" stAng="-2496096" swAng="-2724446"/>
                <a:lnTo>
                  <a:pt x="9720" y="184"/>
                </a:lnTo>
                <a:arcTo wR="8601" hR="21600" stAng="-5579458" swAng="-5220542"/>
                <a:close/>
              </a:path>
              <a:path fill="darkenLess" w="21600" h="21600">
                <a:moveTo>
                  <a:pt x="0" y="21600"/>
                </a:moveTo>
                <a:arcTo wR="8601" hR="21600" stAng="10800000" swAng="5400000"/>
                <a:lnTo>
                  <a:pt x="8601" y="0"/>
                </a:lnTo>
                <a:arcTo wR="8601" hR="21600" stAng="-5400000" swAng="179458"/>
                <a:lnTo>
                  <a:pt x="9720" y="184"/>
                </a:lnTo>
                <a:arcTo wR="8601" hR="21600" stAng="-5579458" swAng="-5220542"/>
                <a:close/>
              </a:path>
            </a:pathLst>
          </a:custGeom>
          <a:solidFill>
            <a:srgbClr val="ea157a"/>
          </a:solidFill>
          <a:ln w="316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4286160" y="4365720"/>
            <a:ext cx="356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Управляющая кнопка: домой 7">
            <a:hlinkClick r:id="" action="ppaction://hlinkshowjump?jump=previousslide"/>
          </p:cNvPr>
          <p:cNvSpPr/>
          <p:nvPr/>
        </p:nvSpPr>
        <p:spPr>
          <a:xfrm>
            <a:off x="7429680" y="5572080"/>
            <a:ext cx="1357200" cy="1071720"/>
          </a:xfrm>
          <a:custGeom>
            <a:avLst/>
            <a:gdLst>
              <a:gd name="textAreaLeft" fmla="*/ 69480 w 1357200"/>
              <a:gd name="textAreaRight" fmla="*/ 1287720 w 1357200"/>
              <a:gd name="textAreaTop" fmla="*/ 69480 h 1071720"/>
              <a:gd name="textAreaBottom" fmla="*/ 1002240 h 1071720"/>
            </a:gdLst>
            <a:ahLst/>
            <a:rect l="textAreaLeft" t="textAreaTop" r="textAreaRight" b="textAreaBottom"/>
            <a:pathLst>
              <a:path w="27352" h="21600">
                <a:moveTo>
                  <a:pt x="0" y="0"/>
                </a:moveTo>
                <a:lnTo>
                  <a:pt x="27352" y="0"/>
                </a:lnTo>
                <a:lnTo>
                  <a:pt x="27352" y="21600"/>
                </a:lnTo>
                <a:lnTo>
                  <a:pt x="0" y="21600"/>
                </a:lnTo>
                <a:close/>
              </a:path>
              <a:path fill="lightenLess" w="27352" h="21600">
                <a:moveTo>
                  <a:pt x="0" y="0"/>
                </a:moveTo>
                <a:lnTo>
                  <a:pt x="27352" y="0"/>
                </a:lnTo>
                <a:lnTo>
                  <a:pt x="25952" y="1400"/>
                </a:lnTo>
                <a:lnTo>
                  <a:pt x="1400" y="1400"/>
                </a:lnTo>
                <a:close/>
              </a:path>
              <a:path fill="darken" w="27352" h="21600">
                <a:moveTo>
                  <a:pt x="27352" y="0"/>
                </a:moveTo>
                <a:lnTo>
                  <a:pt x="27352" y="21600"/>
                </a:lnTo>
                <a:lnTo>
                  <a:pt x="25952" y="20200"/>
                </a:lnTo>
                <a:lnTo>
                  <a:pt x="25952" y="1400"/>
                </a:lnTo>
                <a:close/>
              </a:path>
              <a:path fill="darkenLess" w="27352" h="21600">
                <a:moveTo>
                  <a:pt x="27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2" y="20200"/>
                </a:lnTo>
                <a:close/>
              </a:path>
              <a:path fill="lighten" w="27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2" h="21600">
                <a:moveTo>
                  <a:pt x="13676" y="3837"/>
                </a:moveTo>
                <a:lnTo>
                  <a:pt x="16252" y="6448"/>
                </a:ln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lnTo>
                  <a:pt x="20639" y="10800"/>
                </a:lnTo>
                <a:lnTo>
                  <a:pt x="18985" y="10800"/>
                </a:lnTo>
                <a:lnTo>
                  <a:pt x="18985" y="17989"/>
                </a:lnTo>
                <a:lnTo>
                  <a:pt x="8367" y="17989"/>
                </a:lnTo>
                <a:lnTo>
                  <a:pt x="8367" y="10800"/>
                </a:lnTo>
                <a:lnTo>
                  <a:pt x="6713" y="10800"/>
                </a:lnTo>
                <a:close/>
              </a:path>
              <a:path fill="darkenLess" w="27352" h="21600">
                <a:moveTo>
                  <a:pt x="16252" y="6448"/>
                </a:move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close/>
              </a:path>
              <a:path fill="darkenLess" w="27352" h="21600">
                <a:moveTo>
                  <a:pt x="12753" y="14299"/>
                </a:moveTo>
                <a:lnTo>
                  <a:pt x="14598" y="14299"/>
                </a:lnTo>
                <a:lnTo>
                  <a:pt x="14598" y="17989"/>
                </a:lnTo>
                <a:lnTo>
                  <a:pt x="18985" y="17989"/>
                </a:lnTo>
                <a:lnTo>
                  <a:pt x="18985" y="10800"/>
                </a:lnTo>
                <a:lnTo>
                  <a:pt x="8367" y="10800"/>
                </a:lnTo>
                <a:lnTo>
                  <a:pt x="8367" y="17989"/>
                </a:lnTo>
                <a:lnTo>
                  <a:pt x="12753" y="17989"/>
                </a:lnTo>
                <a:close/>
              </a:path>
            </a:pathLst>
          </a:custGeom>
          <a:solidFill>
            <a:srgbClr val="7fd13b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111E-006 L 0.0434 -0.3169 E">
                                      <p:cBhvr>
                                        <p:cTn id="96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0.04496 -0.29838 E">
                                      <p:cBhvr>
                                        <p:cTn id="101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5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6840" y="1801800"/>
            <a:ext cx="35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те пример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2●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3●1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45●14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4●6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12●9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2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1" descr="Soccer03"/>
          <p:cNvPicPr/>
          <p:nvPr/>
        </p:nvPicPr>
        <p:blipFill>
          <a:blip r:embed="rId2"/>
          <a:stretch/>
        </p:blipFill>
        <p:spPr>
          <a:xfrm>
            <a:off x="2786040" y="2928960"/>
            <a:ext cx="530280" cy="515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1" descr="Soccer03"/>
          <p:cNvPicPr/>
          <p:nvPr/>
        </p:nvPicPr>
        <p:blipFill>
          <a:blip r:embed="rId3"/>
          <a:stretch/>
        </p:blipFill>
        <p:spPr>
          <a:xfrm>
            <a:off x="2786040" y="4143240"/>
            <a:ext cx="530280" cy="5162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2" descr="072"/>
          <p:cNvPicPr/>
          <p:nvPr/>
        </p:nvPicPr>
        <p:blipFill>
          <a:blip r:embed="rId4"/>
          <a:stretch/>
        </p:blipFill>
        <p:spPr>
          <a:xfrm>
            <a:off x="2643120" y="3286080"/>
            <a:ext cx="750960" cy="7574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2" descr="072"/>
          <p:cNvPicPr/>
          <p:nvPr/>
        </p:nvPicPr>
        <p:blipFill>
          <a:blip r:embed="rId5"/>
          <a:stretch/>
        </p:blipFill>
        <p:spPr>
          <a:xfrm>
            <a:off x="2571840" y="4643280"/>
            <a:ext cx="750960" cy="757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2" descr="072"/>
          <p:cNvPicPr/>
          <p:nvPr/>
        </p:nvPicPr>
        <p:blipFill>
          <a:blip r:embed="rId6"/>
          <a:stretch/>
        </p:blipFill>
        <p:spPr>
          <a:xfrm>
            <a:off x="2571840" y="2143080"/>
            <a:ext cx="750960" cy="75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ратино потянул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 – нагнулся, два нагнулс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и в стороны развел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ючик видно не наше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ключик нам доста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носочки нужно вст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Заголовок 1" descr=""/>
          <p:cNvPicPr/>
          <p:nvPr/>
        </p:nvPicPr>
        <p:blipFill>
          <a:blip r:embed="rId1"/>
          <a:stretch/>
        </p:blipFill>
        <p:spPr>
          <a:xfrm>
            <a:off x="633240" y="2451240"/>
            <a:ext cx="8242560" cy="2230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1" descr="Soccer03"/>
          <p:cNvPicPr/>
          <p:nvPr/>
        </p:nvPicPr>
        <p:blipFill>
          <a:blip r:embed="rId1"/>
          <a:stretch/>
        </p:blipFill>
        <p:spPr>
          <a:xfrm>
            <a:off x="7381800" y="260280"/>
            <a:ext cx="530280" cy="5158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072"/>
          <p:cNvPicPr/>
          <p:nvPr/>
        </p:nvPicPr>
        <p:blipFill>
          <a:blip r:embed="rId2"/>
          <a:stretch/>
        </p:blipFill>
        <p:spPr>
          <a:xfrm>
            <a:off x="7165800" y="836640"/>
            <a:ext cx="750960" cy="75708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3"/>
          <p:cNvSpPr/>
          <p:nvPr/>
        </p:nvSpPr>
        <p:spPr>
          <a:xfrm>
            <a:off x="684360" y="189000"/>
            <a:ext cx="842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Цена одного футбольного мяча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х р.,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 одного  баскетбольного мяча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у р.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могут означать выра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674640" y="2351160"/>
            <a:ext cx="85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3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18"/>
          <p:cNvGrpSpPr/>
          <p:nvPr/>
        </p:nvGrpSpPr>
        <p:grpSpPr>
          <a:xfrm>
            <a:off x="1614600" y="2422440"/>
            <a:ext cx="1969560" cy="515880"/>
            <a:chOff x="1614600" y="2422440"/>
            <a:chExt cx="1969560" cy="515880"/>
          </a:xfrm>
        </p:grpSpPr>
        <p:pic>
          <p:nvPicPr>
            <p:cNvPr id="706" name="Picture 15" descr="Soccer03"/>
            <p:cNvPicPr/>
            <p:nvPr/>
          </p:nvPicPr>
          <p:blipFill>
            <a:blip r:embed="rId3"/>
            <a:stretch/>
          </p:blipFill>
          <p:spPr>
            <a:xfrm>
              <a:off x="1614600" y="2422440"/>
              <a:ext cx="529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16" descr="Soccer03"/>
            <p:cNvPicPr/>
            <p:nvPr/>
          </p:nvPicPr>
          <p:blipFill>
            <a:blip r:embed="rId4"/>
            <a:stretch/>
          </p:blipFill>
          <p:spPr>
            <a:xfrm>
              <a:off x="2334960" y="2422440"/>
              <a:ext cx="529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17" descr="Soccer03"/>
            <p:cNvPicPr/>
            <p:nvPr/>
          </p:nvPicPr>
          <p:blipFill>
            <a:blip r:embed="rId5"/>
            <a:stretch/>
          </p:blipFill>
          <p:spPr>
            <a:xfrm>
              <a:off x="3054240" y="2422440"/>
              <a:ext cx="52992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 Box 19"/>
          <p:cNvSpPr/>
          <p:nvPr/>
        </p:nvSpPr>
        <p:spPr>
          <a:xfrm>
            <a:off x="700560" y="3359160"/>
            <a:ext cx="8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4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25"/>
          <p:cNvGrpSpPr/>
          <p:nvPr/>
        </p:nvGrpSpPr>
        <p:grpSpPr>
          <a:xfrm>
            <a:off x="1542960" y="3141720"/>
            <a:ext cx="1470240" cy="1189080"/>
            <a:chOff x="1542960" y="3141720"/>
            <a:chExt cx="1470240" cy="1189080"/>
          </a:xfrm>
        </p:grpSpPr>
        <p:pic>
          <p:nvPicPr>
            <p:cNvPr id="711" name="Picture 20" descr="072"/>
            <p:cNvPicPr/>
            <p:nvPr/>
          </p:nvPicPr>
          <p:blipFill>
            <a:blip r:embed="rId6"/>
            <a:stretch/>
          </p:blipFill>
          <p:spPr>
            <a:xfrm>
              <a:off x="1542960" y="3430440"/>
              <a:ext cx="750960" cy="75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Group 24"/>
            <p:cNvGrpSpPr/>
            <p:nvPr/>
          </p:nvGrpSpPr>
          <p:grpSpPr>
            <a:xfrm>
              <a:off x="1830600" y="3141720"/>
              <a:ext cx="1182600" cy="1189080"/>
              <a:chOff x="1830600" y="3141720"/>
              <a:chExt cx="1182600" cy="1189080"/>
            </a:xfrm>
          </p:grpSpPr>
          <p:pic>
            <p:nvPicPr>
              <p:cNvPr id="713" name="Picture 23" descr="072"/>
              <p:cNvPicPr/>
              <p:nvPr/>
            </p:nvPicPr>
            <p:blipFill>
              <a:blip r:embed="rId7"/>
              <a:stretch/>
            </p:blipFill>
            <p:spPr>
              <a:xfrm>
                <a:off x="1901880" y="3141720"/>
                <a:ext cx="750960" cy="7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Picture 21" descr="072"/>
              <p:cNvPicPr/>
              <p:nvPr/>
            </p:nvPicPr>
            <p:blipFill>
              <a:blip r:embed="rId8"/>
              <a:stretch/>
            </p:blipFill>
            <p:spPr>
              <a:xfrm>
                <a:off x="1830600" y="3573360"/>
                <a:ext cx="750600" cy="75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Picture 22" descr="072"/>
              <p:cNvPicPr/>
              <p:nvPr/>
            </p:nvPicPr>
            <p:blipFill>
              <a:blip r:embed="rId9"/>
              <a:stretch/>
            </p:blipFill>
            <p:spPr>
              <a:xfrm>
                <a:off x="2262240" y="3502080"/>
                <a:ext cx="750960" cy="7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16" name="Text Box 26"/>
          <p:cNvSpPr/>
          <p:nvPr/>
        </p:nvSpPr>
        <p:spPr>
          <a:xfrm>
            <a:off x="506520" y="4653000"/>
            <a:ext cx="20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5х + 2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35"/>
          <p:cNvGrpSpPr/>
          <p:nvPr/>
        </p:nvGrpSpPr>
        <p:grpSpPr>
          <a:xfrm>
            <a:off x="2622600" y="4294080"/>
            <a:ext cx="1969560" cy="1379160"/>
            <a:chOff x="2622600" y="4294080"/>
            <a:chExt cx="1969560" cy="1379160"/>
          </a:xfrm>
        </p:grpSpPr>
        <p:grpSp>
          <p:nvGrpSpPr>
            <p:cNvPr id="718" name="Group 27"/>
            <p:cNvGrpSpPr/>
            <p:nvPr/>
          </p:nvGrpSpPr>
          <p:grpSpPr>
            <a:xfrm>
              <a:off x="2622600" y="4941720"/>
              <a:ext cx="1969560" cy="515520"/>
              <a:chOff x="2622600" y="4941720"/>
              <a:chExt cx="1969560" cy="515520"/>
            </a:xfrm>
          </p:grpSpPr>
          <p:pic>
            <p:nvPicPr>
              <p:cNvPr id="719" name="Picture 28" descr="Soccer03"/>
              <p:cNvPicPr/>
              <p:nvPr/>
            </p:nvPicPr>
            <p:blipFill>
              <a:blip r:embed="rId10"/>
              <a:stretch/>
            </p:blipFill>
            <p:spPr>
              <a:xfrm>
                <a:off x="2622600" y="4941720"/>
                <a:ext cx="529920" cy="51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" name="Picture 29" descr="Soccer03"/>
              <p:cNvPicPr/>
              <p:nvPr/>
            </p:nvPicPr>
            <p:blipFill>
              <a:blip r:embed="rId11"/>
              <a:stretch/>
            </p:blipFill>
            <p:spPr>
              <a:xfrm>
                <a:off x="3342960" y="4941720"/>
                <a:ext cx="529920" cy="51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Picture 30" descr="Soccer03"/>
              <p:cNvPicPr/>
              <p:nvPr/>
            </p:nvPicPr>
            <p:blipFill>
              <a:blip r:embed="rId12"/>
              <a:stretch/>
            </p:blipFill>
            <p:spPr>
              <a:xfrm>
                <a:off x="4062240" y="4941720"/>
                <a:ext cx="529920" cy="515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2" name="Picture 31" descr="Soccer03"/>
            <p:cNvPicPr/>
            <p:nvPr/>
          </p:nvPicPr>
          <p:blipFill>
            <a:blip r:embed="rId13"/>
            <a:stretch/>
          </p:blipFill>
          <p:spPr>
            <a:xfrm>
              <a:off x="2982600" y="5157360"/>
              <a:ext cx="529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32" descr="Soccer03"/>
            <p:cNvPicPr/>
            <p:nvPr/>
          </p:nvPicPr>
          <p:blipFill>
            <a:blip r:embed="rId14"/>
            <a:stretch/>
          </p:blipFill>
          <p:spPr>
            <a:xfrm>
              <a:off x="3701880" y="5157360"/>
              <a:ext cx="529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33" descr="072"/>
            <p:cNvPicPr/>
            <p:nvPr/>
          </p:nvPicPr>
          <p:blipFill>
            <a:blip r:embed="rId15"/>
            <a:stretch/>
          </p:blipFill>
          <p:spPr>
            <a:xfrm>
              <a:off x="2909880" y="4294080"/>
              <a:ext cx="75024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34" descr="072"/>
            <p:cNvPicPr/>
            <p:nvPr/>
          </p:nvPicPr>
          <p:blipFill>
            <a:blip r:embed="rId16"/>
            <a:stretch/>
          </p:blipFill>
          <p:spPr>
            <a:xfrm>
              <a:off x="3485880" y="4294080"/>
              <a:ext cx="750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6" name="Text Box 37"/>
          <p:cNvSpPr/>
          <p:nvPr/>
        </p:nvSpPr>
        <p:spPr>
          <a:xfrm>
            <a:off x="5925960" y="2351160"/>
            <a:ext cx="22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4(х + у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48"/>
          <p:cNvGrpSpPr/>
          <p:nvPr/>
        </p:nvGrpSpPr>
        <p:grpSpPr>
          <a:xfrm>
            <a:off x="6300720" y="3213000"/>
            <a:ext cx="1754280" cy="1909800"/>
            <a:chOff x="6300720" y="3213000"/>
            <a:chExt cx="1754280" cy="1909800"/>
          </a:xfrm>
        </p:grpSpPr>
        <p:pic>
          <p:nvPicPr>
            <p:cNvPr id="728" name="Picture 40" descr="Soccer03"/>
            <p:cNvPicPr/>
            <p:nvPr/>
          </p:nvPicPr>
          <p:blipFill>
            <a:blip r:embed="rId17"/>
            <a:stretch/>
          </p:blipFill>
          <p:spPr>
            <a:xfrm>
              <a:off x="6588000" y="3644640"/>
              <a:ext cx="53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41" descr="072"/>
            <p:cNvPicPr/>
            <p:nvPr/>
          </p:nvPicPr>
          <p:blipFill>
            <a:blip r:embed="rId18"/>
            <a:stretch/>
          </p:blipFill>
          <p:spPr>
            <a:xfrm>
              <a:off x="6300720" y="4005000"/>
              <a:ext cx="75096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2" descr="072"/>
            <p:cNvPicPr/>
            <p:nvPr/>
          </p:nvPicPr>
          <p:blipFill>
            <a:blip r:embed="rId19"/>
            <a:stretch/>
          </p:blipFill>
          <p:spPr>
            <a:xfrm>
              <a:off x="6732720" y="3933720"/>
              <a:ext cx="75060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43" descr="072"/>
            <p:cNvPicPr/>
            <p:nvPr/>
          </p:nvPicPr>
          <p:blipFill>
            <a:blip r:embed="rId20"/>
            <a:stretch/>
          </p:blipFill>
          <p:spPr>
            <a:xfrm>
              <a:off x="7164360" y="4005000"/>
              <a:ext cx="75096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44" descr="072"/>
            <p:cNvPicPr/>
            <p:nvPr/>
          </p:nvPicPr>
          <p:blipFill>
            <a:blip r:embed="rId21"/>
            <a:stretch/>
          </p:blipFill>
          <p:spPr>
            <a:xfrm>
              <a:off x="6804000" y="4365360"/>
              <a:ext cx="75096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45" descr="Soccer03"/>
            <p:cNvPicPr/>
            <p:nvPr/>
          </p:nvPicPr>
          <p:blipFill>
            <a:blip r:embed="rId22"/>
            <a:stretch/>
          </p:blipFill>
          <p:spPr>
            <a:xfrm>
              <a:off x="7021440" y="3644640"/>
              <a:ext cx="53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6" descr="Soccer03"/>
            <p:cNvPicPr/>
            <p:nvPr/>
          </p:nvPicPr>
          <p:blipFill>
            <a:blip r:embed="rId23"/>
            <a:stretch/>
          </p:blipFill>
          <p:spPr>
            <a:xfrm>
              <a:off x="7524720" y="3789000"/>
              <a:ext cx="53028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47" descr="Soccer03"/>
            <p:cNvPicPr/>
            <p:nvPr/>
          </p:nvPicPr>
          <p:blipFill>
            <a:blip r:embed="rId24"/>
            <a:stretch/>
          </p:blipFill>
          <p:spPr>
            <a:xfrm>
              <a:off x="6877080" y="3213000"/>
              <a:ext cx="53028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Text Box 61"/>
          <p:cNvSpPr/>
          <p:nvPr/>
        </p:nvSpPr>
        <p:spPr>
          <a:xfrm>
            <a:off x="611280" y="5792760"/>
            <a:ext cx="197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15х-2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Заголовок 15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5"/>
          <p:cNvSpPr/>
          <p:nvPr/>
        </p:nvSpPr>
        <p:spPr>
          <a:xfrm>
            <a:off x="1214280" y="1857240"/>
            <a:ext cx="42148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4•5•22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25•98•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250•7•4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50•(2•568)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25•48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6-конечная звезда 18"/>
          <p:cNvSpPr/>
          <p:nvPr/>
        </p:nvSpPr>
        <p:spPr>
          <a:xfrm>
            <a:off x="4143240" y="1000080"/>
            <a:ext cx="2143440" cy="1571760"/>
          </a:xfrm>
          <a:prstGeom prst="pie">
            <a:avLst/>
          </a:prstGeom>
          <a:solidFill>
            <a:srgbClr val="ffff00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Tahoma"/>
              </a:rPr>
              <a:t>44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6-конечная звезда 19"/>
          <p:cNvSpPr/>
          <p:nvPr/>
        </p:nvSpPr>
        <p:spPr>
          <a:xfrm>
            <a:off x="6500880" y="2928960"/>
            <a:ext cx="2428920" cy="1571760"/>
          </a:xfrm>
          <a:prstGeom prst="pie">
            <a:avLst/>
          </a:prstGeom>
          <a:solidFill>
            <a:srgbClr val="ffff00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Tahoma"/>
              </a:rPr>
              <a:t>7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6-конечная звезда 20"/>
          <p:cNvSpPr/>
          <p:nvPr/>
        </p:nvSpPr>
        <p:spPr>
          <a:xfrm>
            <a:off x="4357800" y="2286000"/>
            <a:ext cx="2143080" cy="1571760"/>
          </a:xfrm>
          <a:prstGeom prst="pie">
            <a:avLst/>
          </a:prstGeom>
          <a:solidFill>
            <a:srgbClr val="1ae6d3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9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6-конечная звезда 21" descr=""/>
          <p:cNvPicPr/>
          <p:nvPr/>
        </p:nvPicPr>
        <p:blipFill>
          <a:blip r:embed="rId2"/>
          <a:stretch/>
        </p:blipFill>
        <p:spPr>
          <a:xfrm>
            <a:off x="5126040" y="3840120"/>
            <a:ext cx="2397240" cy="1616040"/>
          </a:xfrm>
          <a:prstGeom prst="rect">
            <a:avLst/>
          </a:prstGeom>
          <a:ln w="0">
            <a:noFill/>
          </a:ln>
        </p:spPr>
      </p:pic>
      <p:sp>
        <p:nvSpPr>
          <p:cNvPr id="743" name="6-конечная звезда 22"/>
          <p:cNvSpPr/>
          <p:nvPr/>
        </p:nvSpPr>
        <p:spPr>
          <a:xfrm>
            <a:off x="3571920" y="4857840"/>
            <a:ext cx="2143080" cy="1571400"/>
          </a:xfrm>
          <a:prstGeom prst="pie">
            <a:avLst/>
          </a:prstGeom>
          <a:solidFill>
            <a:srgbClr val="ffff00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Tahoma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Прямоугольник 3"/>
          <p:cNvSpPr/>
          <p:nvPr/>
        </p:nvSpPr>
        <p:spPr>
          <a:xfrm>
            <a:off x="1042920" y="1413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7"/>
          <p:cNvSpPr/>
          <p:nvPr/>
        </p:nvSpPr>
        <p:spPr>
          <a:xfrm>
            <a:off x="118728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8"/>
          <p:cNvSpPr/>
          <p:nvPr/>
        </p:nvSpPr>
        <p:spPr>
          <a:xfrm>
            <a:off x="1332000" y="3068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9"/>
          <p:cNvSpPr/>
          <p:nvPr/>
        </p:nvSpPr>
        <p:spPr>
          <a:xfrm>
            <a:off x="1187280" y="3645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0"/>
          <p:cNvSpPr/>
          <p:nvPr/>
        </p:nvSpPr>
        <p:spPr>
          <a:xfrm>
            <a:off x="1476360" y="4221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Заголовок 6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 txBox="1"/>
          <p:nvPr/>
        </p:nvSpPr>
        <p:spPr>
          <a:xfrm>
            <a:off x="457200" y="107172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ыполните самостоятель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738ac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йти произведение: а)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· 9  б) 23· 207  в) 5· 1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г) 18· 3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738ac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числи  удобным способ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 а) 25· 96· 4;   б) (306· 8)· 1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738ac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орт стоит в 3 раза дороже, чем 5 пирожных. Сколько стоит торт, если пирожное стоит 22 рубля?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738ac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йти произведение: а) 8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· 9  б) 32· 205  в) 7· 11  г) 17· 3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738ac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числи  удобным способ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 а) 25· 39· 4;   б) (207· 8)· 1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738ac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очка вмещает воды в 9 раз больше, чем 4 ведра. Сколько  литров воды вмещает бочка, если ведро  вмещает 8л воды?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6087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Tahoma"/>
              </a:rPr>
              <a:t>Финиш.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Награждение победителей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9884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считать количество баллов, написать на листочек с самостоятельной работ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3" name="fanfar1.mp3" descr=""/>
          <p:cNvPicPr/>
          <p:nvPr/>
        </p:nvPicPr>
        <p:blipFill>
          <a:blip r:embed="rId1"/>
          <a:stretch/>
        </p:blipFill>
        <p:spPr>
          <a:xfrm>
            <a:off x="43560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58654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Заголовок 4" descr=""/>
          <p:cNvPicPr/>
          <p:nvPr/>
        </p:nvPicPr>
        <p:blipFill>
          <a:blip r:embed="rId1"/>
          <a:stretch/>
        </p:blipFill>
        <p:spPr>
          <a:xfrm>
            <a:off x="420840" y="853920"/>
            <a:ext cx="8242200" cy="1150920"/>
          </a:xfrm>
          <a:prstGeom prst="rect">
            <a:avLst/>
          </a:prstGeom>
          <a:ln w="0">
            <a:noFill/>
          </a:ln>
        </p:spPr>
      </p:pic>
      <p:pic>
        <p:nvPicPr>
          <p:cNvPr id="755" name="Прямоугольник 6" descr=""/>
          <p:cNvPicPr/>
          <p:nvPr/>
        </p:nvPicPr>
        <p:blipFill>
          <a:blip r:embed="rId2"/>
          <a:stretch/>
        </p:blipFill>
        <p:spPr>
          <a:xfrm>
            <a:off x="669960" y="2646360"/>
            <a:ext cx="757872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Заголовок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457200" y="1801440"/>
            <a:ext cx="8229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22 октябр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да в городе </a:t>
            </a:r>
            <a:r>
              <a:rPr b="0" lang="ru-RU" sz="3200" spc="-1" strike="noStrike">
                <a:solidFill>
                  <a:srgbClr val="003f75"/>
                </a:solidFill>
                <a:latin typeface="Tahoma"/>
              </a:rPr>
              <a:t>Набережные Челны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йдет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марафо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f75"/>
                </a:solidFill>
                <a:latin typeface="Tahoma"/>
              </a:rPr>
              <a:t>«Бег с препятствиями»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сим вас принять в нем участ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беждает тот, кто наберет больше очков в свой зач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оретическая подготов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ниров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матический мараф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нишный рыв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38ac8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граждение победител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Вперед, к победе!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4" name="Picture 11" descr="Soccer03"/>
          <p:cNvPicPr/>
          <p:nvPr/>
        </p:nvPicPr>
        <p:blipFill>
          <a:blip r:embed="rId1"/>
          <a:stretch/>
        </p:blipFill>
        <p:spPr>
          <a:xfrm>
            <a:off x="1000080" y="4929120"/>
            <a:ext cx="530280" cy="515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023 C 0.00364 -0.01457 0.00903 -0.03168 0.01545 -0.04487 C 0.0184 -0.06429 0.02448 -0.08511 0.03246 -0.10222 C 0.03542 -0.12373 0.03125 -0.10106 0.03854 -0.12072 C 0.03941 -0.12327 0.03941 -0.12604 0.0401 -0.12858 C 0.04479 -0.145 0.05382 -0.17183 0.06319 -0.18386 C 0.0717 -0.21785 0.10451 -0.21924 0.12621 -0.22086 C 0.14219 -0.20675 0.14045 -0.16605 0.15087 -0.145 C 0.15312 -0.13344 0.15486 -0.12905 0.15989 -0.11864 C 0.16146 -0.1154 0.16198 -0.1117 0.16302 -0.10823 C 0.16406 -0.10592 0.16528 -0.1043 0.16614 -0.10222 C 0.17864 -0.07886 0.19114 -0.06175 0.21076 -0.0488 C 0.21701 -0.0407 0.22083 -0.03538 0.22934 -0.03238 C 0.23038 -0.03053 0.2309 -0.02729 0.23246 -0.02636 C 0.23472 -0.02428 0.23767 -0.02521 0.2401 -0.02405 C 0.24219 -0.02336 0.2441 -0.02128 0.24618 -0.02012 C 0.24826 -0.01919 0.25035 -0.01896 0.25243 -0.01804 C 0.26302 -0.01087 0.27621 -0.00856 0.28785 -0.00578 C 0.31267 -0.00786 0.30903 -0.00763 0.32778 -0.02012 C 0.32847 -0.02081 0.33837 -0.02845 0.3401 -0.03053 C 0.3434 -0.03423 0.3493 -0.04278 0.3493 -0.04278 C 0.35312 -0.05759 0.34774 -0.03932 0.35538 -0.05481 C 0.35625 -0.05689 0.35625 -0.05944 0.35677 -0.06129 C 0.35781 -0.06314 0.35903 -0.06499 0.35989 -0.06707 C 0.3618 -0.07377 0.36476 -0.07886 0.36614 -0.0858 C 0.36962 -0.09898 0.37101 -0.11494 0.37708 -0.1265 C 0.3809 -0.14894 0.37552 -0.12234 0.3816 -0.14084 C 0.3842 -0.1487 0.3842 -0.15426 0.38785 -0.16166 C 0.39219 -0.18062 0.40694 -0.21022 0.41545 -0.2271 C 0.41979 -0.23566 0.42326 -0.24607 0.4309 -0.24954 C 0.44618 -0.24884 0.46198 -0.25162 0.47708 -0.24746 C 0.48264 -0.24584 0.48646 -0.22271 0.48923 -0.2167 C 0.49184 -0.19681 0.49236 -0.17414 0.49687 -0.15518 C 0.49844 -0.14084 0.49982 -0.12905 0.50469 -0.11656 C 0.5059 -0.10823 0.50712 -0.09759 0.50937 -0.08996 C 0.51232 -0.07863 0.51823 -0.06915 0.52309 -0.0592 C 0.52396 -0.05735 0.52396 -0.05481 0.52448 -0.05273 C 0.52535 -0.05065 0.52673 -0.0488 0.52778 -0.04695 C 0.5316 -0.03076 0.54496 -0.02174 0.55538 -0.01411 C 0.55955 -0.01087 0.56354 -0.0074 0.56771 -0.0037 C 0.56979 -0.00231 0.59271 0.00601 0.59548 0.00671 C 0.60903 0.00509 0.62205 0.00578 0.63385 -0.0037 C 0.64028 -0.00902 0.64236 -0.01133 0.64774 -0.01619 C 0.65087 -0.01896 0.65694 -0.02405 0.65694 -0.02405 C 0.66059 -0.03122 0.6651 -0.03376 0.66927 -0.0407 C 0.67292 -0.04625 0.67656 -0.05782 0.67847 -0.06314 C 0.68003 -0.06753 0.68472 -0.07562 0.68472 -0.07562 C 0.68611 -0.08326 0.68923 -0.08834 0.6908 -0.09574 C 0.69427 -0.1117 0.69479 -0.12905 0.70156 -0.14292 C 0.70555 -0.16142 0.7059 -0.1827 0.71389 -0.19843 C 0.71597 -0.21184 0.71892 -0.22525 0.72621 -0.2352 C 0.72899 -0.24607 0.72691 -0.23959 0.73385 -0.2537 C 0.73767 -0.26133 0.73923 -0.27058 0.74323 -0.27821 C 0.74653 -0.29764 0.75104 -0.3166 0.75399 -0.3358 C 0.75521 -0.38552 0.76632 -0.45351 0.74618 -0.49746 C 0.74444 -0.50717 0.74028 -0.51156 0.73698 -0.52035 C 0.72344 -0.5555 0.69913 -0.59204 0.66927 -0.60199 C 0.66719 -0.60338 0.6651 -0.6043 0.66319 -0.60615 C 0.66146 -0.60777 0.66042 -0.61101 0.65851 -0.6124 C 0.65312 -0.61656 0.64618 -0.61494 0.6401 -0.61633 C 0.63038 -0.61841 0.62066 -0.62095 0.61076 -0.62257 C 0.59531 -0.62789 0.57899 -0.63043 0.56319 -0.63483 C 0.54913 -0.63876 0.56996 -0.63483 0.55243 -0.64107 C 0.54896 -0.64223 0.54531 -0.64223 0.54167 -0.64292 C 0.52673 -0.64963 0.51111 -0.65102 0.49548 -0.65333 C 0.47639 -0.65957 0.45642 -0.65634 0.43698 -0.65934 C 0.35798 -0.65865 0.27899 -0.65888 0.2 -0.65749 C 0.19305 -0.65749 0.18281 -0.645 0.17708 -0.64107 C 0.15816 -0.62858 0.13854 -0.60916 0.11857 -0.59991 C 0.11163 -0.59343 0.10469 -0.58672 0.09705 -0.58164 C 0.0868 -0.57493 0.075 -0.57216 0.06476 -0.56522 C 0.0592 -0.56129 0.05503 -0.55458 0.0493 -0.55088 C 0.0401 -0.5451 0.02934 -0.53932 0.0217 -0.53053 C 0.01441 -0.52151 0.00347 -0.50671 -0.00139 -0.49537 C -0.01649 -0.46115 -0.00191 -0.49075 -0.01077 -0.47294 C -0.0125 -0.46068 -0.01667 -0.45143 -0.01997 -0.4401 C -0.0217 -0.43409 -0.02188 -0.42784 -0.02292 -0.4216 C -0.02431 -0.41351 -0.025 -0.41651 -0.02761 -0.40726 C -0.02952 -0.40055 -0.03056 -0.39385 -0.03229 -0.38691 C -0.03837 -0.36309 -0.05226 -0.33372 -0.06302 -0.31314 C -0.06667 -0.2988 -0.06788 -0.284 -0.07222 -0.27012 C -0.07361 -0.26041 -0.07552 -0.25116 -0.07691 -0.24144 C -0.07952 -0.20629 -0.0875 -0.14061 -0.07066 -0.10823 C -0.06823 -0.09852 -0.0658 -0.08811 -0.06146 -0.07956 C -0.05868 -0.06845 -0.05573 -0.05666 -0.0507 -0.04695 C -0.04705 -0.03191 -0.04531 -0.01665 -0.04149 -0.00185 C -0.04011 0.0037 -0.03958 0.0111 -0.03681 0.01457 E">
                                      <p:cBhvr>
                                        <p:cTn id="6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Заголовок 1" descr=""/>
          <p:cNvPicPr/>
          <p:nvPr/>
        </p:nvPicPr>
        <p:blipFill>
          <a:blip r:embed="rId1"/>
          <a:stretch/>
        </p:blipFill>
        <p:spPr>
          <a:xfrm>
            <a:off x="493560" y="22536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500040" y="171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738a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Каким действием можно заменить сложение одинаковых чис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738a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Прямоугольник 3"/>
          <p:cNvSpPr/>
          <p:nvPr/>
        </p:nvSpPr>
        <p:spPr>
          <a:xfrm>
            <a:off x="857160" y="4714920"/>
            <a:ext cx="7500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какое свойство умножения,  можно наиболее рационально вычислить этот пример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·(2·81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4"/>
          <p:cNvSpPr/>
          <p:nvPr/>
        </p:nvSpPr>
        <p:spPr>
          <a:xfrm>
            <a:off x="571680" y="27147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умму чисел в виде произведения: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010+2010+2010+2010+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5"/>
          <p:cNvSpPr/>
          <p:nvPr/>
        </p:nvSpPr>
        <p:spPr>
          <a:xfrm>
            <a:off x="785880" y="3714840"/>
            <a:ext cx="7143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свойство выражает это равенств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·b=b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41" name="Овал 5"/>
          <p:cNvGrpSpPr/>
          <p:nvPr/>
        </p:nvGrpSpPr>
        <p:grpSpPr>
          <a:xfrm>
            <a:off x="1536840" y="4395960"/>
            <a:ext cx="1279440" cy="1272960"/>
            <a:chOff x="1536840" y="4395960"/>
            <a:chExt cx="1279440" cy="1272960"/>
          </a:xfrm>
        </p:grpSpPr>
        <p:pic>
          <p:nvPicPr>
            <p:cNvPr id="642" name="Овал 5" descr=""/>
            <p:cNvPicPr/>
            <p:nvPr/>
          </p:nvPicPr>
          <p:blipFill>
            <a:blip r:embed="rId2"/>
            <a:stretch/>
          </p:blipFill>
          <p:spPr>
            <a:xfrm>
              <a:off x="1536840" y="4395960"/>
              <a:ext cx="127944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749600" y="4606920"/>
              <a:ext cx="8586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ahom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Овал 6"/>
          <p:cNvGrpSpPr/>
          <p:nvPr/>
        </p:nvGrpSpPr>
        <p:grpSpPr>
          <a:xfrm>
            <a:off x="1036800" y="1609560"/>
            <a:ext cx="1279440" cy="1273320"/>
            <a:chOff x="1036800" y="1609560"/>
            <a:chExt cx="1279440" cy="1273320"/>
          </a:xfrm>
        </p:grpSpPr>
        <p:pic>
          <p:nvPicPr>
            <p:cNvPr id="645" name="Овал 6" descr=""/>
            <p:cNvPicPr/>
            <p:nvPr/>
          </p:nvPicPr>
          <p:blipFill>
            <a:blip r:embed="rId3"/>
            <a:stretch/>
          </p:blipFill>
          <p:spPr>
            <a:xfrm>
              <a:off x="1036800" y="1609560"/>
              <a:ext cx="127944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1249200" y="1820880"/>
              <a:ext cx="8589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Tahom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Овал 7"/>
          <p:cNvGrpSpPr/>
          <p:nvPr/>
        </p:nvGrpSpPr>
        <p:grpSpPr>
          <a:xfrm>
            <a:off x="3554280" y="2749680"/>
            <a:ext cx="1262160" cy="1279440"/>
            <a:chOff x="3554280" y="2749680"/>
            <a:chExt cx="1262160" cy="1279440"/>
          </a:xfrm>
        </p:grpSpPr>
        <p:pic>
          <p:nvPicPr>
            <p:cNvPr id="648" name="Овал 7" descr=""/>
            <p:cNvPicPr/>
            <p:nvPr/>
          </p:nvPicPr>
          <p:blipFill>
            <a:blip r:embed="rId4"/>
            <a:stretch/>
          </p:blipFill>
          <p:spPr>
            <a:xfrm>
              <a:off x="3554280" y="2749680"/>
              <a:ext cx="12621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3749760" y="2963880"/>
              <a:ext cx="8586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d0d0d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Овал 8"/>
          <p:cNvGrpSpPr/>
          <p:nvPr/>
        </p:nvGrpSpPr>
        <p:grpSpPr>
          <a:xfrm>
            <a:off x="5967360" y="1609560"/>
            <a:ext cx="1274760" cy="1273320"/>
            <a:chOff x="5967360" y="1609560"/>
            <a:chExt cx="1274760" cy="1273320"/>
          </a:xfrm>
        </p:grpSpPr>
        <p:pic>
          <p:nvPicPr>
            <p:cNvPr id="651" name="Овал 8" descr=""/>
            <p:cNvPicPr/>
            <p:nvPr/>
          </p:nvPicPr>
          <p:blipFill>
            <a:blip r:embed="rId5"/>
            <a:stretch/>
          </p:blipFill>
          <p:spPr>
            <a:xfrm>
              <a:off x="5967360" y="1609560"/>
              <a:ext cx="12747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178680" y="1820880"/>
              <a:ext cx="8586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Овал 9"/>
          <p:cNvGrpSpPr/>
          <p:nvPr/>
        </p:nvGrpSpPr>
        <p:grpSpPr>
          <a:xfrm>
            <a:off x="6108840" y="4254480"/>
            <a:ext cx="1279440" cy="1274760"/>
            <a:chOff x="6108840" y="4254480"/>
            <a:chExt cx="1279440" cy="1274760"/>
          </a:xfrm>
        </p:grpSpPr>
        <p:pic>
          <p:nvPicPr>
            <p:cNvPr id="654" name="Овал 9" descr=""/>
            <p:cNvPicPr/>
            <p:nvPr/>
          </p:nvPicPr>
          <p:blipFill>
            <a:blip r:embed="rId6"/>
            <a:stretch/>
          </p:blipFill>
          <p:spPr>
            <a:xfrm>
              <a:off x="6108840" y="4254480"/>
              <a:ext cx="12794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321600" y="4464000"/>
              <a:ext cx="8586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2060"/>
                  </a:solidFill>
                  <a:latin typeface="Tahoma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Управляющая кнопка: возврат 10"/>
          <p:cNvSpPr/>
          <p:nvPr/>
        </p:nvSpPr>
        <p:spPr>
          <a:xfrm>
            <a:off x="6929280" y="5715000"/>
            <a:ext cx="2000520" cy="571680"/>
          </a:xfrm>
          <a:custGeom>
            <a:avLst/>
            <a:gdLst>
              <a:gd name="textAreaLeft" fmla="*/ 36720 w 2000520"/>
              <a:gd name="textAreaRight" fmla="*/ 1963800 w 200052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75552" h="21600">
                <a:moveTo>
                  <a:pt x="0" y="0"/>
                </a:moveTo>
                <a:lnTo>
                  <a:pt x="75552" y="0"/>
                </a:lnTo>
                <a:lnTo>
                  <a:pt x="75552" y="21600"/>
                </a:lnTo>
                <a:lnTo>
                  <a:pt x="0" y="21600"/>
                </a:lnTo>
                <a:close/>
              </a:path>
              <a:path fill="lightenLess" w="75552" h="21600">
                <a:moveTo>
                  <a:pt x="0" y="0"/>
                </a:moveTo>
                <a:lnTo>
                  <a:pt x="75552" y="0"/>
                </a:lnTo>
                <a:lnTo>
                  <a:pt x="74152" y="1400"/>
                </a:lnTo>
                <a:lnTo>
                  <a:pt x="1400" y="1400"/>
                </a:lnTo>
                <a:close/>
              </a:path>
              <a:path fill="darken" w="75552" h="21600">
                <a:moveTo>
                  <a:pt x="75552" y="0"/>
                </a:moveTo>
                <a:lnTo>
                  <a:pt x="75552" y="21600"/>
                </a:lnTo>
                <a:lnTo>
                  <a:pt x="74152" y="20200"/>
                </a:lnTo>
                <a:lnTo>
                  <a:pt x="74152" y="1400"/>
                </a:lnTo>
                <a:close/>
              </a:path>
              <a:path fill="darkenLess" w="75552" h="21600">
                <a:moveTo>
                  <a:pt x="75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2" y="20200"/>
                </a:lnTo>
                <a:close/>
              </a:path>
              <a:path fill="lighten" w="75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52" h="21600">
                <a:moveTo>
                  <a:pt x="30770" y="7493"/>
                </a:moveTo>
                <a:lnTo>
                  <a:pt x="34277" y="7493"/>
                </a:lnTo>
                <a:lnTo>
                  <a:pt x="34277" y="12828"/>
                </a:lnTo>
                <a:cubicBezTo>
                  <a:pt x="34277" y="13751"/>
                  <a:pt x="35078" y="14482"/>
                  <a:pt x="36114" y="14482"/>
                </a:cubicBezTo>
                <a:lnTo>
                  <a:pt x="37776" y="14482"/>
                </a:lnTo>
                <a:cubicBezTo>
                  <a:pt x="38812" y="14482"/>
                  <a:pt x="39613" y="13751"/>
                  <a:pt x="39613" y="12828"/>
                </a:cubicBezTo>
                <a:lnTo>
                  <a:pt x="39613" y="7493"/>
                </a:lnTo>
                <a:lnTo>
                  <a:pt x="37776" y="7493"/>
                </a:lnTo>
                <a:lnTo>
                  <a:pt x="41284" y="3985"/>
                </a:lnTo>
                <a:lnTo>
                  <a:pt x="44957" y="7493"/>
                </a:lnTo>
                <a:lnTo>
                  <a:pt x="43120" y="7493"/>
                </a:lnTo>
                <a:lnTo>
                  <a:pt x="43120" y="12828"/>
                </a:lnTo>
                <a:cubicBezTo>
                  <a:pt x="43120" y="15596"/>
                  <a:pt x="40544" y="18155"/>
                  <a:pt x="37776" y="18155"/>
                </a:cubicBezTo>
                <a:lnTo>
                  <a:pt x="36114" y="18155"/>
                </a:lnTo>
                <a:cubicBezTo>
                  <a:pt x="33346" y="18155"/>
                  <a:pt x="30770" y="15596"/>
                  <a:pt x="30770" y="12828"/>
                </a:cubicBezTo>
                <a:close/>
              </a:path>
            </a:pathLst>
          </a:custGeom>
          <a:solidFill>
            <a:srgbClr val="7fd13b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642960" y="95472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одном доме 250 квартир, в другом в 4 раза больше. Сколько  квартир во втором дом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4" descr=" Картинка 23. Многоэтажные дома. "/>
          <p:cNvPicPr/>
          <p:nvPr/>
        </p:nvPicPr>
        <p:blipFill>
          <a:blip r:embed="rId1"/>
          <a:srcRect l="17638" t="15577" r="17750" b="0"/>
          <a:stretch/>
        </p:blipFill>
        <p:spPr>
          <a:xfrm>
            <a:off x="142920" y="4929120"/>
            <a:ext cx="1838160" cy="1809720"/>
          </a:xfrm>
          <a:prstGeom prst="rect">
            <a:avLst/>
          </a:prstGeom>
          <a:ln w="0">
            <a:noFill/>
          </a:ln>
        </p:spPr>
      </p:pic>
      <p:sp>
        <p:nvSpPr>
          <p:cNvPr id="659" name="7-конечная звезда 4"/>
          <p:cNvSpPr/>
          <p:nvPr/>
        </p:nvSpPr>
        <p:spPr>
          <a:xfrm>
            <a:off x="6357960" y="1214280"/>
            <a:ext cx="2214720" cy="1857600"/>
          </a:xfrm>
          <a:prstGeom prst="pie">
            <a:avLst/>
          </a:prstGeom>
          <a:gradFill rotWithShape="0">
            <a:gsLst>
              <a:gs pos="0">
                <a:srgbClr val="fff6e0"/>
              </a:gs>
              <a:gs pos="100000">
                <a:srgbClr val="ffe7b2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6d19"/>
                </a:solidFill>
                <a:latin typeface="Tahoma"/>
              </a:rPr>
              <a:t>=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Управляющая кнопка: домой 9">
            <a:hlinkClick r:id="" action="ppaction://hlinkshowjump?jump=previousslide"/>
          </p:cNvPr>
          <p:cNvSpPr/>
          <p:nvPr/>
        </p:nvSpPr>
        <p:spPr>
          <a:xfrm>
            <a:off x="7429680" y="5572080"/>
            <a:ext cx="1357200" cy="1071720"/>
          </a:xfrm>
          <a:custGeom>
            <a:avLst/>
            <a:gdLst>
              <a:gd name="textAreaLeft" fmla="*/ 69480 w 1357200"/>
              <a:gd name="textAreaRight" fmla="*/ 1287720 w 1357200"/>
              <a:gd name="textAreaTop" fmla="*/ 69480 h 1071720"/>
              <a:gd name="textAreaBottom" fmla="*/ 1002240 h 1071720"/>
            </a:gdLst>
            <a:ahLst/>
            <a:rect l="textAreaLeft" t="textAreaTop" r="textAreaRight" b="textAreaBottom"/>
            <a:pathLst>
              <a:path w="27352" h="21600">
                <a:moveTo>
                  <a:pt x="0" y="0"/>
                </a:moveTo>
                <a:lnTo>
                  <a:pt x="27352" y="0"/>
                </a:lnTo>
                <a:lnTo>
                  <a:pt x="27352" y="21600"/>
                </a:lnTo>
                <a:lnTo>
                  <a:pt x="0" y="21600"/>
                </a:lnTo>
                <a:close/>
              </a:path>
              <a:path fill="lightenLess" w="27352" h="21600">
                <a:moveTo>
                  <a:pt x="0" y="0"/>
                </a:moveTo>
                <a:lnTo>
                  <a:pt x="27352" y="0"/>
                </a:lnTo>
                <a:lnTo>
                  <a:pt x="25952" y="1400"/>
                </a:lnTo>
                <a:lnTo>
                  <a:pt x="1400" y="1400"/>
                </a:lnTo>
                <a:close/>
              </a:path>
              <a:path fill="darken" w="27352" h="21600">
                <a:moveTo>
                  <a:pt x="27352" y="0"/>
                </a:moveTo>
                <a:lnTo>
                  <a:pt x="27352" y="21600"/>
                </a:lnTo>
                <a:lnTo>
                  <a:pt x="25952" y="20200"/>
                </a:lnTo>
                <a:lnTo>
                  <a:pt x="25952" y="1400"/>
                </a:lnTo>
                <a:close/>
              </a:path>
              <a:path fill="darkenLess" w="27352" h="21600">
                <a:moveTo>
                  <a:pt x="27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2" y="20200"/>
                </a:lnTo>
                <a:close/>
              </a:path>
              <a:path fill="lighten" w="27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2" h="21600">
                <a:moveTo>
                  <a:pt x="13676" y="3837"/>
                </a:moveTo>
                <a:lnTo>
                  <a:pt x="16252" y="6448"/>
                </a:ln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lnTo>
                  <a:pt x="20639" y="10800"/>
                </a:lnTo>
                <a:lnTo>
                  <a:pt x="18985" y="10800"/>
                </a:lnTo>
                <a:lnTo>
                  <a:pt x="18985" y="17989"/>
                </a:lnTo>
                <a:lnTo>
                  <a:pt x="8367" y="17989"/>
                </a:lnTo>
                <a:lnTo>
                  <a:pt x="8367" y="10800"/>
                </a:lnTo>
                <a:lnTo>
                  <a:pt x="6713" y="10800"/>
                </a:lnTo>
                <a:close/>
              </a:path>
              <a:path fill="darkenLess" w="27352" h="21600">
                <a:moveTo>
                  <a:pt x="16252" y="6448"/>
                </a:move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close/>
              </a:path>
              <a:path fill="darkenLess" w="27352" h="21600">
                <a:moveTo>
                  <a:pt x="12753" y="14299"/>
                </a:moveTo>
                <a:lnTo>
                  <a:pt x="14598" y="14299"/>
                </a:lnTo>
                <a:lnTo>
                  <a:pt x="14598" y="17989"/>
                </a:lnTo>
                <a:lnTo>
                  <a:pt x="18985" y="17989"/>
                </a:lnTo>
                <a:lnTo>
                  <a:pt x="18985" y="10800"/>
                </a:lnTo>
                <a:lnTo>
                  <a:pt x="8367" y="10800"/>
                </a:lnTo>
                <a:lnTo>
                  <a:pt x="8367" y="17989"/>
                </a:lnTo>
                <a:lnTo>
                  <a:pt x="12753" y="17989"/>
                </a:lnTo>
                <a:close/>
              </a:path>
            </a:pathLst>
          </a:custGeom>
          <a:solidFill>
            <a:srgbClr val="7fd13b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Заголовок 4"/>
          <p:cNvSpPr/>
          <p:nvPr/>
        </p:nvSpPr>
        <p:spPr>
          <a:xfrm>
            <a:off x="2858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Реши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6-конечная звезда 2"/>
          <p:cNvSpPr/>
          <p:nvPr/>
        </p:nvSpPr>
        <p:spPr>
          <a:xfrm>
            <a:off x="7572240" y="1643040"/>
            <a:ext cx="1571760" cy="2000160"/>
          </a:xfrm>
          <a:prstGeom prst="pie">
            <a:avLst/>
          </a:prstGeom>
          <a:solidFill>
            <a:srgbClr val="ffffff"/>
          </a:solidFill>
          <a:ln w="316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7429680" y="5572080"/>
            <a:ext cx="1357200" cy="1071720"/>
          </a:xfrm>
          <a:custGeom>
            <a:avLst/>
            <a:gdLst>
              <a:gd name="textAreaLeft" fmla="*/ 69480 w 1357200"/>
              <a:gd name="textAreaRight" fmla="*/ 1287720 w 1357200"/>
              <a:gd name="textAreaTop" fmla="*/ 69480 h 1071720"/>
              <a:gd name="textAreaBottom" fmla="*/ 1002240 h 1071720"/>
            </a:gdLst>
            <a:ahLst/>
            <a:rect l="textAreaLeft" t="textAreaTop" r="textAreaRight" b="textAreaBottom"/>
            <a:pathLst>
              <a:path w="27352" h="21600">
                <a:moveTo>
                  <a:pt x="0" y="0"/>
                </a:moveTo>
                <a:lnTo>
                  <a:pt x="27352" y="0"/>
                </a:lnTo>
                <a:lnTo>
                  <a:pt x="27352" y="21600"/>
                </a:lnTo>
                <a:lnTo>
                  <a:pt x="0" y="21600"/>
                </a:lnTo>
                <a:close/>
              </a:path>
              <a:path fill="lightenLess" w="27352" h="21600">
                <a:moveTo>
                  <a:pt x="0" y="0"/>
                </a:moveTo>
                <a:lnTo>
                  <a:pt x="27352" y="0"/>
                </a:lnTo>
                <a:lnTo>
                  <a:pt x="25952" y="1400"/>
                </a:lnTo>
                <a:lnTo>
                  <a:pt x="1400" y="1400"/>
                </a:lnTo>
                <a:close/>
              </a:path>
              <a:path fill="darken" w="27352" h="21600">
                <a:moveTo>
                  <a:pt x="27352" y="0"/>
                </a:moveTo>
                <a:lnTo>
                  <a:pt x="27352" y="21600"/>
                </a:lnTo>
                <a:lnTo>
                  <a:pt x="25952" y="20200"/>
                </a:lnTo>
                <a:lnTo>
                  <a:pt x="25952" y="1400"/>
                </a:lnTo>
                <a:close/>
              </a:path>
              <a:path fill="darkenLess" w="27352" h="21600">
                <a:moveTo>
                  <a:pt x="27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2" y="20200"/>
                </a:lnTo>
                <a:close/>
              </a:path>
              <a:path fill="lighten" w="27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2" h="21600">
                <a:moveTo>
                  <a:pt x="13676" y="3837"/>
                </a:moveTo>
                <a:lnTo>
                  <a:pt x="16252" y="6448"/>
                </a:ln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lnTo>
                  <a:pt x="20639" y="10800"/>
                </a:lnTo>
                <a:lnTo>
                  <a:pt x="18985" y="10800"/>
                </a:lnTo>
                <a:lnTo>
                  <a:pt x="18985" y="17989"/>
                </a:lnTo>
                <a:lnTo>
                  <a:pt x="8367" y="17989"/>
                </a:lnTo>
                <a:lnTo>
                  <a:pt x="8367" y="10800"/>
                </a:lnTo>
                <a:lnTo>
                  <a:pt x="6713" y="10800"/>
                </a:lnTo>
                <a:close/>
              </a:path>
              <a:path fill="darkenLess" w="27352" h="21600">
                <a:moveTo>
                  <a:pt x="16252" y="6448"/>
                </a:move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close/>
              </a:path>
              <a:path fill="darkenLess" w="27352" h="21600">
                <a:moveTo>
                  <a:pt x="12753" y="14299"/>
                </a:moveTo>
                <a:lnTo>
                  <a:pt x="14598" y="14299"/>
                </a:lnTo>
                <a:lnTo>
                  <a:pt x="14598" y="17989"/>
                </a:lnTo>
                <a:lnTo>
                  <a:pt x="18985" y="17989"/>
                </a:lnTo>
                <a:lnTo>
                  <a:pt x="18985" y="10800"/>
                </a:lnTo>
                <a:lnTo>
                  <a:pt x="8367" y="10800"/>
                </a:lnTo>
                <a:lnTo>
                  <a:pt x="8367" y="17989"/>
                </a:lnTo>
                <a:lnTo>
                  <a:pt x="12753" y="17989"/>
                </a:lnTo>
                <a:close/>
              </a:path>
            </a:pathLst>
          </a:custGeom>
          <a:solidFill>
            <a:srgbClr val="7fd13b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Заголовок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914400" y="1571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. Насте  6 лет, она в 4 раза младш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20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своего брата. Сколько лет брату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20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6"/>
          <p:cNvSpPr/>
          <p:nvPr/>
        </p:nvSpPr>
        <p:spPr>
          <a:xfrm>
            <a:off x="414720" y="1507320"/>
            <a:ext cx="834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В магазин привезли 14 короб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печеньем по 6 кг  в каждой короб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колько печенья привезли в магазин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6-конечная звезда 2"/>
          <p:cNvSpPr/>
          <p:nvPr/>
        </p:nvSpPr>
        <p:spPr>
          <a:xfrm>
            <a:off x="7143840" y="3000240"/>
            <a:ext cx="1857240" cy="2071800"/>
          </a:xfrm>
          <a:prstGeom prst="pie">
            <a:avLst/>
          </a:prstGeom>
          <a:solidFill>
            <a:srgbClr val="dcfe0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ahoma"/>
              </a:rPr>
              <a:t>84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7429680" y="5572080"/>
            <a:ext cx="1357200" cy="1071720"/>
          </a:xfrm>
          <a:custGeom>
            <a:avLst/>
            <a:gdLst>
              <a:gd name="textAreaLeft" fmla="*/ 69480 w 1357200"/>
              <a:gd name="textAreaRight" fmla="*/ 1287720 w 1357200"/>
              <a:gd name="textAreaTop" fmla="*/ 69480 h 1071720"/>
              <a:gd name="textAreaBottom" fmla="*/ 1002240 h 1071720"/>
            </a:gdLst>
            <a:ahLst/>
            <a:rect l="textAreaLeft" t="textAreaTop" r="textAreaRight" b="textAreaBottom"/>
            <a:pathLst>
              <a:path w="27352" h="21600">
                <a:moveTo>
                  <a:pt x="0" y="0"/>
                </a:moveTo>
                <a:lnTo>
                  <a:pt x="27352" y="0"/>
                </a:lnTo>
                <a:lnTo>
                  <a:pt x="27352" y="21600"/>
                </a:lnTo>
                <a:lnTo>
                  <a:pt x="0" y="21600"/>
                </a:lnTo>
                <a:close/>
              </a:path>
              <a:path fill="lightenLess" w="27352" h="21600">
                <a:moveTo>
                  <a:pt x="0" y="0"/>
                </a:moveTo>
                <a:lnTo>
                  <a:pt x="27352" y="0"/>
                </a:lnTo>
                <a:lnTo>
                  <a:pt x="25952" y="1400"/>
                </a:lnTo>
                <a:lnTo>
                  <a:pt x="1400" y="1400"/>
                </a:lnTo>
                <a:close/>
              </a:path>
              <a:path fill="darken" w="27352" h="21600">
                <a:moveTo>
                  <a:pt x="27352" y="0"/>
                </a:moveTo>
                <a:lnTo>
                  <a:pt x="27352" y="21600"/>
                </a:lnTo>
                <a:lnTo>
                  <a:pt x="25952" y="20200"/>
                </a:lnTo>
                <a:lnTo>
                  <a:pt x="25952" y="1400"/>
                </a:lnTo>
                <a:close/>
              </a:path>
              <a:path fill="darkenLess" w="27352" h="21600">
                <a:moveTo>
                  <a:pt x="27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2" y="20200"/>
                </a:lnTo>
                <a:close/>
              </a:path>
              <a:path fill="lighten" w="27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2" h="21600">
                <a:moveTo>
                  <a:pt x="13676" y="3837"/>
                </a:moveTo>
                <a:lnTo>
                  <a:pt x="16252" y="6448"/>
                </a:ln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lnTo>
                  <a:pt x="20639" y="10800"/>
                </a:lnTo>
                <a:lnTo>
                  <a:pt x="18985" y="10800"/>
                </a:lnTo>
                <a:lnTo>
                  <a:pt x="18985" y="17989"/>
                </a:lnTo>
                <a:lnTo>
                  <a:pt x="8367" y="17989"/>
                </a:lnTo>
                <a:lnTo>
                  <a:pt x="8367" y="10800"/>
                </a:lnTo>
                <a:lnTo>
                  <a:pt x="6713" y="10800"/>
                </a:lnTo>
                <a:close/>
              </a:path>
              <a:path fill="darkenLess" w="27352" h="21600">
                <a:moveTo>
                  <a:pt x="16252" y="6448"/>
                </a:moveTo>
                <a:lnTo>
                  <a:pt x="16252" y="4707"/>
                </a:lnTo>
                <a:lnTo>
                  <a:pt x="18028" y="4707"/>
                </a:lnTo>
                <a:lnTo>
                  <a:pt x="18028" y="8224"/>
                </a:lnTo>
                <a:close/>
              </a:path>
              <a:path fill="darkenLess" w="27352" h="21600">
                <a:moveTo>
                  <a:pt x="12753" y="14299"/>
                </a:moveTo>
                <a:lnTo>
                  <a:pt x="14598" y="14299"/>
                </a:lnTo>
                <a:lnTo>
                  <a:pt x="14598" y="17989"/>
                </a:lnTo>
                <a:lnTo>
                  <a:pt x="18985" y="17989"/>
                </a:lnTo>
                <a:lnTo>
                  <a:pt x="18985" y="10800"/>
                </a:lnTo>
                <a:lnTo>
                  <a:pt x="8367" y="10800"/>
                </a:lnTo>
                <a:lnTo>
                  <a:pt x="8367" y="17989"/>
                </a:lnTo>
                <a:lnTo>
                  <a:pt x="12753" y="17989"/>
                </a:lnTo>
                <a:close/>
              </a:path>
            </a:pathLst>
          </a:custGeom>
          <a:solidFill>
            <a:srgbClr val="7fd13b"/>
          </a:solidFill>
          <a:ln w="316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4"/>
          <p:cNvSpPr/>
          <p:nvPr/>
        </p:nvSpPr>
        <p:spPr>
          <a:xfrm>
            <a:off x="4287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Реши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3-10-08T18:40:36Z</dcterms:modified>
  <cp:revision>255</cp:revision>
  <dc:subject/>
  <dc:title>Поле чудес</dc:title>
</cp:coreProperties>
</file>