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12A-48F2-4E9E-8EA2-E525F838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B7A-F273-49DF-A3E9-A376A09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6FC-B062-43F1-834D-2FA42098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5C3-0E3E-49DB-A0D0-512A66D5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BC18-0147-4735-AC43-560386EB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AA35-6AFC-4E55-8753-0432C70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C73-C51F-44D7-AB68-8EFC96A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492C-A32F-4AB4-B53C-E6B46521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A6AE-3C53-4A75-B602-039EDE7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BCE2-9AAF-4F7D-A98B-FEC6E6D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45E-5EAA-47B9-A5EA-8C4D2A1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C34-7AF9-4926-B719-0645AF3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DFE5-8976-4610-9AA3-9F1E119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FF4-D8B0-416D-A7F0-BFF6438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B231-B9C2-49A0-A99C-9BA1A76C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192F-EEEE-481F-BFAC-F8CFF56A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C1E3-65A6-4D13-9BE0-776318E0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C2A-ABBD-4811-B322-6B987CD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543-7E58-482C-85F0-7FB3C45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EF1-536A-4D7E-8E46-2789D90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222-971B-48E0-9624-9D55386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B36-852E-4256-9E16-E0FAC94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117-ACC0-46C9-915C-AF48028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071-088E-4BA6-B9C9-41556EE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CD6-2066-446E-BFD4-6E2DF28D10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2ED-F1F1-4F95-8287-94E8E98C05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Узнай басни И.А. Крылова по иллюстраци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299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348080" cy="568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0194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сел и солов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s://www.google.ru/search?q=%D0%B8%D0%BB%D0%BB%D1%8E%D1%81%D1%82%D1%80%D0%B0%D1%86%D0%B8%D0%B8+%D0%BA+%D0%B1%D0%B0%D1%81%D0%BD%D1%8F%D0%BC+%D0%BA%D1%80%D1%8B%D0%BB%D0%BE%D0%B2%D0%B0+%D1%81%D0%B2%D0%B8%D0%BD%D1%8C%D1%8F+%D0%BF%D0%BE%D0%B4+%D0%B4%D1%83%D0%B1%D0%BE%D0%BC&amp;newwindow=1&amp;safe=off&amp;noj=1&amp;tbm=isch&amp;tbo=u&amp;source=univ&amp;sa=X&amp;ei=GyRTUr7DI7PY4QSbtIHIAw&amp;ved=0CDcQsAQ&amp;biw=1280&amp;bih=884&amp;dpr=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381560" cy="597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2200" y="20764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418280" cy="604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30114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укушка и пету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53280" cy="6120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8200" y="3227400"/>
            <a:ext cx="12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Свинья под дуб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622760" cy="612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200" y="344340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Зеркало и обезья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749840" cy="630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3213000"/>
            <a:ext cx="13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Лебедь, щука и ра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42120" cy="59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2200" y="401940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Стрекоза и мурав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48812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3371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Мартышка и 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25772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73720" y="31561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варт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11:51Z</dcterms:created>
  <dc:creator>Universal Support</dc:creator>
  <dc:description/>
  <dc:language>en-US</dc:language>
  <cp:lastModifiedBy>User</cp:lastModifiedBy>
  <dcterms:modified xsi:type="dcterms:W3CDTF">2013-10-07T22:15:45Z</dcterms:modified>
  <cp:revision>4</cp:revision>
  <dc:subject/>
  <dc:title>Викторина</dc:title>
</cp:coreProperties>
</file>