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990-D442-402F-A814-3EFF4B2E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17D-85C8-43D7-B293-FB6F82E6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277-6CC6-4BCF-A341-A85D9973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C62-2363-4306-A4A8-BA098F39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C002-5E41-4446-B467-8A25F372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8AAC-7F23-49D7-A106-B1A9E7C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F3DF-F4F5-4F28-BFD8-FB4C3AC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21A-B774-44D0-AEA5-2B3305D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C96-ECBF-48B8-8DDD-BDDD6000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7F1D-71F2-4E32-8448-6228BB63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7E5-099F-42E7-AF0E-2AF65D9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77E-2D80-46E5-8A47-3D0755E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92A-6919-455F-BBBF-BD51856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B5C-B008-404C-9545-AD64C73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9A7F-C5DA-4763-9EDB-7DCD856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81F-3C24-492F-AE25-8A7A853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D2A8-7A05-4B7D-988C-26D01F0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43DE4-C579-46D1-9088-6D0A9673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D08F1-040B-40C6-A2A8-5871C223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F44B3-FF4B-4CF0-B90B-7E395512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FE409-E0C0-41B6-8087-C0C2DB1D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A96D8-A5FE-447A-82A6-C17DEA8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585-75A9-48D4-8DAD-B7A7E92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39C54-CF31-44F7-8D18-D4C12DB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E04B8-EAE9-4B7C-960F-B23397C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7D34D-577D-4121-8BD7-DD868A7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734A3-5B56-475C-933F-010F6B1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2A1F7-AB22-4FDA-B001-8386702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7EA09-F35B-4BEE-9E48-E54BF55A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4461B-7E49-4EAC-BE89-1FCF143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1FCB-20A9-4EE8-9866-BA58837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8CD0-E473-40B6-968E-7FEE933B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9D2D8-5594-44CC-9059-8DF155E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993-B9AF-4B97-86DB-52A4CFD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6AA0-96EE-44B7-8182-D3ACB77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45D0-1802-4C6D-9B80-2455B0A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8106-E20F-43C8-BBD0-82BA864F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7BAE-855E-483E-8951-A7562CB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8F6E-A9CF-4DC9-AE68-0588EB1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F316-9A67-492E-A11C-4F9B01D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735B-F407-4CA1-886A-1E08EA3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3C78-8FB0-4F9E-A6C5-148A5E87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E263-E82F-4132-BB93-0F31A37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C92-4F5C-457F-9776-E8832794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750-4120-4306-AE4D-AFD92B61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2A8-69AB-4C71-9BF7-44A317A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F8F-36E5-419B-A5C7-5769EA66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0F4-8107-471F-987A-7291EDB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481B-3C04-481A-9788-ED5366FF209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2AE-C07B-469F-A824-F5217DDFCF7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542E-40A3-4C34-B106-8B2C1FD13E4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847-DD2A-4BE2-ABB8-A9B9BB44BAB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року «Окружающий мир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 82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яных Н.В.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рато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1725480" y="1689120"/>
            <a:ext cx="5072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3" descr="мой7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ы и типы водоемов  нашего кра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они называю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е значение имеют в  природе и жизни люд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Содержимое 4" descr="4242_okean_d1403_512.jpg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Picture 2" descr="C:\Users\Нина\Desktop\водоемы\volga_4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Picture 2" descr="C:\Users\Нина\Desktop\водоемы\volga_8.jpg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7" name="Picture 2" descr="C:\Users\Нина\Desktop\водоемы\molodeckiy.jpg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9" name="Содержимое 5" descr="картааа.jpg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43434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666880" y="3048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1066680" y="1752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ки  и речные бассейн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br>
              <a:rPr sz="3600"/>
            </a:b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Реки Волжского бассейна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52120"/>
            <a:ext cx="82296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Волг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Большой Иргиз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Малый Иргиз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Тереш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Еруслан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Камелик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Курдюм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Терс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Чардым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Большой и Малый Караман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аратов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Талов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br>
              <a:rPr sz="3600"/>
            </a:b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Реки бассейна Дона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едведиц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олг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алан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ер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рамы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ла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опер и его прито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br>
              <a:rPr sz="3600"/>
            </a:b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Реки  бессточного бассейна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ой Узень и прито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алый Узень и прито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8" name="Picture 2" descr="C:\Users\Нина\Desktop\водоемы\0_22cc_a4a41b22_XL.jpe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11840"/>
          </a:xfrm>
          <a:prstGeom prst="rect">
            <a:avLst/>
          </a:prstGeom>
          <a:ln w="0">
            <a:noFill/>
          </a:ln>
        </p:spPr>
      </p:pic>
      <p:pic>
        <p:nvPicPr>
          <p:cNvPr id="219" name="Звук с компакт-диска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Звук с компакт-диска 6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Звук с компакт-диска 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чение водоемов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ды  для хозяйственных нужд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м для растений и живот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возка груз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3" descr="800px-Goluboe_Lake.jpg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990720" y="19810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</a:rPr>
              <a:t>Голубое озер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зведение домашних птиц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4" name="Содержимое 3" descr="ва.jpg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пой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6" name="Содержимое 4" descr="водопой.jpg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учей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Содержимое 3" descr="Creek.jpg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юч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0" name="Содержимое 3" descr="15983_u_ruchya_89ff7_512.jpg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аратовское водохранилищ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Содержимое 3" descr="2817b55cc26a2d_512.jpg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рош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Содержимое 3" descr="орошение.jpg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храна водоем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оставляйте мусор на берегу водое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мойте транспортные средства в водоем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очные воды опасны для жителей водое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амятка отдыхающим у вод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бросай мусор в вод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оставляй мусор на бере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блюдай правила поведения на в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Содержимое 3" descr="мой0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ВОДОЕМ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0" name="Содержимое 2" descr=""/>
          <p:cNvPicPr/>
          <p:nvPr/>
        </p:nvPicPr>
        <p:blipFill>
          <a:blip r:embed="rId1"/>
          <a:stretch/>
        </p:blipFill>
        <p:spPr>
          <a:xfrm>
            <a:off x="450720" y="2073240"/>
            <a:ext cx="82425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Нина\Desktop\водоемы\20080326_002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е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Содержимое 5" descr="картааа.jpg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43434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2666880" y="3048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1066680" y="175248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ки и  речные бассейн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371600" y="2199960"/>
            <a:ext cx="632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ите родную природу –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ера, леса и пол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дь это же наша с тобою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веки родная земл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ней мы с тобою родились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ем мы с тобою на не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 будем же, люди, все вмест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ы к ней относиться добре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Звук с компакт-диска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Звук с компакт-диска 5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3" descr="мой1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Содержимое 3" descr="мой2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3" descr="мой3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Содержимое 3" descr="мой4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Содержимое 3" descr="мой5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доёмы нашего кра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Содержимое 3" descr="мой6.jpg"/>
          <p:cNvPicPr/>
          <p:nvPr/>
        </p:nvPicPr>
        <p:blipFill>
          <a:blip r:embed="rId1"/>
          <a:stretch/>
        </p:blipFill>
        <p:spPr>
          <a:xfrm>
            <a:off x="1847880" y="2249640"/>
            <a:ext cx="5448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8:56:25Z</dcterms:created>
  <dc:creator>Нина</dc:creator>
  <dc:description/>
  <dc:language>en-US</dc:language>
  <cp:lastModifiedBy>User</cp:lastModifiedBy>
  <dcterms:modified xsi:type="dcterms:W3CDTF">2013-10-08T17:41:42Z</dcterms:modified>
  <cp:revision>40</cp:revision>
  <dc:subject/>
  <dc:title>Слайд 1</dc:title>
</cp:coreProperties>
</file>