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2FF-10E8-4D8B-A61D-1310004D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20A7-7C31-4F9F-80F1-9B1C0689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996-30E5-49BD-BC2A-6BA73BE6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84EF-E820-47FB-B990-998FC130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EBEE8-2B04-4BCF-A93A-16504507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28CBC-0883-42A4-B7BB-5A9B008D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C3F21-1CEF-4A13-809C-4F3CB878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F5975-F42B-4025-B40F-FD087760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0621C-EAB0-4634-B8B7-210C03B8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AA329-BBCA-41DC-B930-1E1C06D1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87CF3-A441-40A0-88F1-06F6ECFD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E350-4F15-4869-B86A-1420CAFD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A9A1C-D80C-42A3-9720-62B6D125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6C2D3-BB2F-47FF-9AE8-FA514D06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35114-B5E6-4760-85D5-0FA6B32A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05E85-0394-4371-8765-4BFDC6C8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29F8F-55DE-4866-9B42-B8495417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8792-DF33-40F1-AE14-EC0EABF1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F97E-EDBB-4115-A543-8798D499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3E5-1C92-48E9-80D6-CEAF33C2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E3F7-AB95-495E-BD7B-82AFCE43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D2C1-3BBD-4059-8B5B-BBF6D81E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1D81-7F6D-4780-A936-7DEA5D50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F857-7834-46C4-9C58-FB2832AE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505F-970F-47A0-91B5-ED60643996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5D50-315D-4109-83EF-6BD9CAD029D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ма урока: Высшая нервная деятельность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5280" y="1988640"/>
            <a:ext cx="856944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Цели урока:</a:t>
            </a: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- дать определение высшей нерв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                     </a:t>
            </a: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деятельности человека и рассмотреть е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                     </a:t>
            </a: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проя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- охарактеризовать различные проявл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                     </a:t>
            </a: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высшей нервной деятельности (мышление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                     </a:t>
            </a: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речь, память и т.д.) и установить их ро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                     </a:t>
            </a: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в жизни челов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- провести тесты позволяющие оцени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                     </a:t>
            </a: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характеристики различных видов памя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                     </a:t>
            </a: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и устойчивость вним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0000"/>
                </a:solidFill>
                <a:latin typeface="Arial Black"/>
              </a:rPr>
              <a:t>СТОП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00"/>
                </a:solidFill>
                <a:latin typeface="Tahoma"/>
              </a:rPr>
              <a:t>Сено, ключ, самолёт, поезд, картина, месяц, певец, радио, трава, перевал, автомобиль, сердце, букет, тротуар, столетие, фильм, аромат, горы, океан, неподвижность, календарь, мужчина, женщина, абстракция, вертолё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ение характеристик объёма памя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28640"/>
          <a:ext cx="8229600" cy="4484880"/>
        </p:xfrm>
        <a:graphic>
          <a:graphicData uri="http://schemas.openxmlformats.org/drawingml/2006/table">
            <a:tbl>
              <a:tblPr/>
              <a:tblGrid>
                <a:gridCol w="2176560"/>
                <a:gridCol w="60530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Число балл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Характеристика памя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6 и меньш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Объём памяти низкий. Желательно регулярно тренировать память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7-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Объём памяти чуть ниже среднего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13 - 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Объём памяти хороший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18 - 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Объём памяти отличный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Свыше 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Ваша память феноменаль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ыт №2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ение объёма зрительной памя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333300"/>
                </a:solidFill>
                <a:latin typeface="Tahoma"/>
              </a:rPr>
              <a:t>Определите объём своей зритель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ahoma"/>
              </a:rPr>
              <a:t>памяти: в течении 1 минуты изучит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ahoma"/>
              </a:rPr>
              <a:t>фигуры на рисунке №1, а затем найдит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ahoma"/>
              </a:rPr>
              <a:t>их на рисунке №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333300"/>
                </a:solidFill>
                <a:latin typeface="Tahoma"/>
              </a:rPr>
              <a:t>Подсчитайте процент фигур назван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ahoma"/>
              </a:rPr>
              <a:t>правиль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исунок №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4360" y="1905120"/>
          <a:ext cx="7848360" cy="447660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tangle 24"/>
          <p:cNvSpPr/>
          <p:nvPr/>
        </p:nvSpPr>
        <p:spPr>
          <a:xfrm>
            <a:off x="1403280" y="2205000"/>
            <a:ext cx="1152720" cy="936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25"/>
          <p:cNvSpPr/>
          <p:nvPr/>
        </p:nvSpPr>
        <p:spPr>
          <a:xfrm>
            <a:off x="4067280" y="2205000"/>
            <a:ext cx="1081080" cy="936720"/>
          </a:xfrm>
          <a:prstGeom prst="flowChartCollate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26"/>
          <p:cNvSpPr/>
          <p:nvPr/>
        </p:nvSpPr>
        <p:spPr>
          <a:xfrm>
            <a:off x="6588000" y="2276640"/>
            <a:ext cx="505080" cy="360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27"/>
          <p:cNvSpPr/>
          <p:nvPr/>
        </p:nvSpPr>
        <p:spPr>
          <a:xfrm flipV="1">
            <a:off x="7093080" y="2276280"/>
            <a:ext cx="503280" cy="360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28"/>
          <p:cNvSpPr/>
          <p:nvPr/>
        </p:nvSpPr>
        <p:spPr>
          <a:xfrm>
            <a:off x="7093080" y="2637000"/>
            <a:ext cx="0" cy="504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Oval 36"/>
          <p:cNvSpPr/>
          <p:nvPr/>
        </p:nvSpPr>
        <p:spPr>
          <a:xfrm>
            <a:off x="1403280" y="3573360"/>
            <a:ext cx="1152720" cy="1150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40"/>
          <p:cNvSpPr/>
          <p:nvPr/>
        </p:nvSpPr>
        <p:spPr>
          <a:xfrm rot="10800000">
            <a:off x="6516720" y="3573000"/>
            <a:ext cx="1295280" cy="1150920"/>
          </a:xfrm>
          <a:prstGeom prst="pie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41"/>
          <p:cNvSpPr/>
          <p:nvPr/>
        </p:nvSpPr>
        <p:spPr>
          <a:xfrm>
            <a:off x="1403280" y="5084640"/>
            <a:ext cx="1152720" cy="1152720"/>
          </a:xfrm>
          <a:prstGeom prst="octagon">
            <a:avLst>
              <a:gd name="adj" fmla="val 29287"/>
            </a:avLst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42"/>
          <p:cNvSpPr/>
          <p:nvPr/>
        </p:nvSpPr>
        <p:spPr>
          <a:xfrm>
            <a:off x="4572000" y="5157720"/>
            <a:ext cx="0" cy="9352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43"/>
          <p:cNvSpPr/>
          <p:nvPr/>
        </p:nvSpPr>
        <p:spPr>
          <a:xfrm>
            <a:off x="4140360" y="5589720"/>
            <a:ext cx="93636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4"/>
          <p:cNvSpPr/>
          <p:nvPr/>
        </p:nvSpPr>
        <p:spPr>
          <a:xfrm rot="16200000">
            <a:off x="6696720" y="5193000"/>
            <a:ext cx="1079640" cy="100800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Oval 46"/>
          <p:cNvSpPr/>
          <p:nvPr/>
        </p:nvSpPr>
        <p:spPr>
          <a:xfrm>
            <a:off x="4067280" y="3500280"/>
            <a:ext cx="1296720" cy="1297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4284720" y="3716280"/>
            <a:ext cx="863640" cy="865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сунок №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052640"/>
          <a:ext cx="8713800" cy="5562360"/>
        </p:xfrm>
        <a:graphic>
          <a:graphicData uri="http://schemas.openxmlformats.org/drawingml/2006/table">
            <a:tbl>
              <a:tblPr/>
              <a:tblGrid>
                <a:gridCol w="1743120"/>
                <a:gridCol w="1742760"/>
                <a:gridCol w="1741680"/>
                <a:gridCol w="1743120"/>
                <a:gridCol w="1743120"/>
              </a:tblGrid>
              <a:tr h="13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Rectangle 38"/>
          <p:cNvSpPr/>
          <p:nvPr/>
        </p:nvSpPr>
        <p:spPr>
          <a:xfrm>
            <a:off x="611280" y="1268280"/>
            <a:ext cx="1081080" cy="936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39"/>
          <p:cNvSpPr/>
          <p:nvPr/>
        </p:nvSpPr>
        <p:spPr>
          <a:xfrm rot="16200000">
            <a:off x="2322360" y="1287000"/>
            <a:ext cx="1008360" cy="900360"/>
          </a:xfrm>
          <a:prstGeom prst="flowChartCollate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40"/>
          <p:cNvSpPr/>
          <p:nvPr/>
        </p:nvSpPr>
        <p:spPr>
          <a:xfrm>
            <a:off x="4067280" y="1268280"/>
            <a:ext cx="1081080" cy="1008360"/>
          </a:xfrm>
          <a:prstGeom prst="flowChartOr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AutoShape 41"/>
          <p:cNvSpPr/>
          <p:nvPr/>
        </p:nvSpPr>
        <p:spPr>
          <a:xfrm rot="10800000">
            <a:off x="5796000" y="1341000"/>
            <a:ext cx="1008000" cy="863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Line 42"/>
          <p:cNvSpPr/>
          <p:nvPr/>
        </p:nvSpPr>
        <p:spPr>
          <a:xfrm>
            <a:off x="8101080" y="1268280"/>
            <a:ext cx="0" cy="1008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43"/>
          <p:cNvSpPr/>
          <p:nvPr/>
        </p:nvSpPr>
        <p:spPr>
          <a:xfrm>
            <a:off x="7596360" y="1773360"/>
            <a:ext cx="10080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44"/>
          <p:cNvSpPr/>
          <p:nvPr/>
        </p:nvSpPr>
        <p:spPr>
          <a:xfrm>
            <a:off x="1116000" y="2637000"/>
            <a:ext cx="0" cy="1008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46"/>
          <p:cNvSpPr/>
          <p:nvPr/>
        </p:nvSpPr>
        <p:spPr>
          <a:xfrm>
            <a:off x="684360" y="2637000"/>
            <a:ext cx="8632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47"/>
          <p:cNvSpPr/>
          <p:nvPr/>
        </p:nvSpPr>
        <p:spPr>
          <a:xfrm>
            <a:off x="684360" y="3645000"/>
            <a:ext cx="8632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48"/>
          <p:cNvSpPr/>
          <p:nvPr/>
        </p:nvSpPr>
        <p:spPr>
          <a:xfrm>
            <a:off x="2484360" y="2637000"/>
            <a:ext cx="935280" cy="1008000"/>
          </a:xfrm>
          <a:prstGeom prst="flowChartDelay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49"/>
          <p:cNvSpPr/>
          <p:nvPr/>
        </p:nvSpPr>
        <p:spPr>
          <a:xfrm>
            <a:off x="4140360" y="2637000"/>
            <a:ext cx="1008000" cy="1008000"/>
          </a:xfrm>
          <a:prstGeom prst="octagon">
            <a:avLst>
              <a:gd name="adj" fmla="val 29287"/>
            </a:avLst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AutoShape 50"/>
          <p:cNvSpPr/>
          <p:nvPr/>
        </p:nvSpPr>
        <p:spPr>
          <a:xfrm>
            <a:off x="5867280" y="2708280"/>
            <a:ext cx="1081080" cy="865080"/>
          </a:xfrm>
          <a:prstGeom prst="beve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53"/>
          <p:cNvSpPr/>
          <p:nvPr/>
        </p:nvSpPr>
        <p:spPr>
          <a:xfrm>
            <a:off x="7667640" y="2708280"/>
            <a:ext cx="936720" cy="936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Oval 54"/>
          <p:cNvSpPr/>
          <p:nvPr/>
        </p:nvSpPr>
        <p:spPr>
          <a:xfrm>
            <a:off x="7667640" y="2708280"/>
            <a:ext cx="936720" cy="936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Oval 56"/>
          <p:cNvSpPr/>
          <p:nvPr/>
        </p:nvSpPr>
        <p:spPr>
          <a:xfrm>
            <a:off x="468360" y="3933720"/>
            <a:ext cx="1224000" cy="1224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57"/>
          <p:cNvSpPr/>
          <p:nvPr/>
        </p:nvSpPr>
        <p:spPr>
          <a:xfrm>
            <a:off x="2340000" y="3933720"/>
            <a:ext cx="1152360" cy="1150920"/>
          </a:xfrm>
          <a:prstGeom prst="pie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58"/>
          <p:cNvSpPr/>
          <p:nvPr/>
        </p:nvSpPr>
        <p:spPr>
          <a:xfrm>
            <a:off x="3924360" y="4076640"/>
            <a:ext cx="576360" cy="432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59"/>
          <p:cNvSpPr/>
          <p:nvPr/>
        </p:nvSpPr>
        <p:spPr>
          <a:xfrm flipH="1">
            <a:off x="3995280" y="4508640"/>
            <a:ext cx="505080" cy="433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Line 60"/>
          <p:cNvSpPr/>
          <p:nvPr/>
        </p:nvSpPr>
        <p:spPr>
          <a:xfrm>
            <a:off x="4500720" y="4508640"/>
            <a:ext cx="64764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61"/>
          <p:cNvSpPr/>
          <p:nvPr/>
        </p:nvSpPr>
        <p:spPr>
          <a:xfrm>
            <a:off x="6156360" y="4005360"/>
            <a:ext cx="503280" cy="1079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Line 62"/>
          <p:cNvSpPr/>
          <p:nvPr/>
        </p:nvSpPr>
        <p:spPr>
          <a:xfrm>
            <a:off x="7524720" y="4149720"/>
            <a:ext cx="107964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63"/>
          <p:cNvSpPr/>
          <p:nvPr/>
        </p:nvSpPr>
        <p:spPr>
          <a:xfrm>
            <a:off x="7524720" y="5013360"/>
            <a:ext cx="107964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Line 64"/>
          <p:cNvSpPr/>
          <p:nvPr/>
        </p:nvSpPr>
        <p:spPr>
          <a:xfrm>
            <a:off x="7667640" y="4005360"/>
            <a:ext cx="0" cy="10792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65"/>
          <p:cNvSpPr/>
          <p:nvPr/>
        </p:nvSpPr>
        <p:spPr>
          <a:xfrm>
            <a:off x="8459640" y="4005360"/>
            <a:ext cx="0" cy="10792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AutoShape 66"/>
          <p:cNvSpPr/>
          <p:nvPr/>
        </p:nvSpPr>
        <p:spPr>
          <a:xfrm>
            <a:off x="539640" y="5300640"/>
            <a:ext cx="1152720" cy="1224000"/>
          </a:xfrm>
          <a:prstGeom prst="flowChartSummingJunction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67"/>
          <p:cNvSpPr/>
          <p:nvPr/>
        </p:nvSpPr>
        <p:spPr>
          <a:xfrm>
            <a:off x="2556000" y="5300640"/>
            <a:ext cx="720720" cy="1224000"/>
          </a:xfrm>
          <a:prstGeom prst="flowChartSor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Oval 68"/>
          <p:cNvSpPr/>
          <p:nvPr/>
        </p:nvSpPr>
        <p:spPr>
          <a:xfrm>
            <a:off x="3995640" y="5300640"/>
            <a:ext cx="1297080" cy="1224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69"/>
          <p:cNvSpPr/>
          <p:nvPr/>
        </p:nvSpPr>
        <p:spPr>
          <a:xfrm>
            <a:off x="4211640" y="5445000"/>
            <a:ext cx="865080" cy="936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70"/>
          <p:cNvSpPr/>
          <p:nvPr/>
        </p:nvSpPr>
        <p:spPr>
          <a:xfrm>
            <a:off x="5940360" y="5445000"/>
            <a:ext cx="1079640" cy="1008360"/>
          </a:xfrm>
          <a:prstGeom prst="rtTriangle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71"/>
          <p:cNvSpPr/>
          <p:nvPr/>
        </p:nvSpPr>
        <p:spPr>
          <a:xfrm>
            <a:off x="7524720" y="5373720"/>
            <a:ext cx="1079640" cy="1079640"/>
          </a:xfrm>
          <a:prstGeom prst="diamond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0000"/>
                </a:solidFill>
                <a:latin typeface="Arial Black"/>
              </a:rPr>
              <a:t>СТОП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р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836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258920" y="1989000"/>
            <a:ext cx="1295280" cy="1224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3851280" y="2060640"/>
            <a:ext cx="1368360" cy="1224000"/>
          </a:xfrm>
          <a:prstGeom prst="octagon">
            <a:avLst>
              <a:gd name="adj" fmla="val 29287"/>
            </a:avLst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Oval 8"/>
          <p:cNvSpPr/>
          <p:nvPr/>
        </p:nvSpPr>
        <p:spPr>
          <a:xfrm>
            <a:off x="6588000" y="1989000"/>
            <a:ext cx="1295640" cy="1224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3059280" y="3789360"/>
            <a:ext cx="0" cy="1655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10"/>
          <p:cNvSpPr/>
          <p:nvPr/>
        </p:nvSpPr>
        <p:spPr>
          <a:xfrm>
            <a:off x="2195640" y="4653000"/>
            <a:ext cx="17287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Oval 11"/>
          <p:cNvSpPr/>
          <p:nvPr/>
        </p:nvSpPr>
        <p:spPr>
          <a:xfrm>
            <a:off x="5148360" y="4005360"/>
            <a:ext cx="1439640" cy="1439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5364000" y="4221000"/>
            <a:ext cx="1008360" cy="1008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казатели зрительной памя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ahoma"/>
              </a:rPr>
              <a:t>90 – 100 % - отлич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ahoma"/>
              </a:rPr>
              <a:t>70 – 90 % - очень хорош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ahoma"/>
              </a:rPr>
              <a:t>50 – 70 % -  хорош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ahoma"/>
              </a:rPr>
              <a:t>30 – 50 % - удовлетворите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ahoma"/>
              </a:rPr>
              <a:t>10 -30 % - плох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00"/>
                </a:solidFill>
                <a:latin typeface="Tahoma"/>
              </a:rPr>
              <a:t>0 -10 % - очень плох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шая нервная деятельность человека – это деятельность мозга связанная с его психикой.</a:t>
            </a:r>
            <a:br>
              <a:rPr sz="2400"/>
            </a:br>
            <a:br>
              <a:rPr sz="24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сновные проявления высшей нервной деятель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5280" y="263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Мышл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Реч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Пам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Вним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Эмо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Вол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ыт №3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ение устойчивости вним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Внимательно присмотритесь к рисун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на котором изображена проекция усечён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ной пирамиды в течении 30 секунд. Пр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каждом изменении восприятия не гляд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в тетрадь делаете штрих. После оконча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ния опыта результат удваиваете и сравнивае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с таблицей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826920" y="549360"/>
            <a:ext cx="7490160" cy="5618160"/>
          </a:xfrm>
          <a:prstGeom prst="bevel">
            <a:avLst>
              <a:gd name="adj" fmla="val 34190"/>
            </a:avLst>
          </a:prstGeom>
          <a:solidFill>
            <a:srgbClr val="33cccc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7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0000"/>
                </a:solidFill>
                <a:latin typeface="Arial Black"/>
              </a:rPr>
              <a:t>СТОП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ценка характера устойчивости вним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Частота изменения изображ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Характеристика вним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Не более 11 ра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Очень устойчив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12 -20 ра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Средней устойчив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Более 20 ра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Недостаточно устойчив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шление – высшая ступень познания, процесс опосредованного отражения объективной действительности, устанавливающей связи и отношения между познавательными процессами.</a:t>
            </a:r>
            <a:br>
              <a:rPr sz="2800"/>
            </a:b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Виды мышления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64276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По форме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наглядно-действенное, наглядно-образное, абстрактно-логическо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По характеру задач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теоретическое, практическ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По степени новизны и оригиналь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репродуктивное (воспроизводящее), продуктивное (творческо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Мыслительные операц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071720"/>
            <a:ext cx="82296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Анализ – мысленное разделение предметов и явлений на ча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Синтез – мысленное объединение частей или свойств в цело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Сравнение – сопоставление предметов и явлений, нахождение сходства и различия между ни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Обобщение – мысленное объединение предметов и явлений по их общим признак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Абстрагирование – выделение одних признаков и отвлечение от друг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чь (вторая сигнальная система) – материальная основа мышления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Функции реч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0512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В общен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Коммуникация – передача друг другу определённых сведений, мыслей, чув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Экспрессия – передача эмоционального отношения к человеку, к которому она обраще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В мышлен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Сигнализация – через слово обозначается предмет, действие, состоя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Обобщение – каждое слово уже обобщает и это позволяет реализоваться мышле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Виды реч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8568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ahoma"/>
              </a:rPr>
              <a:t>Внешня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333300"/>
                </a:solidFill>
                <a:latin typeface="Tahoma"/>
              </a:rPr>
              <a:t>Общение между людьми при помощи разгово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ahoma"/>
              </a:rPr>
              <a:t>Внутрення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333300"/>
                </a:solidFill>
                <a:latin typeface="Tahoma"/>
              </a:rPr>
              <a:t>Направлена на себя. Носит свёрнутый, сокращённый характе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ahoma"/>
              </a:rPr>
              <a:t>Устна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333300"/>
                </a:solidFill>
                <a:latin typeface="Tahoma"/>
              </a:rPr>
              <a:t>Отличается сокращённым количеством слов и простой грамматической конструкци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ahoma"/>
              </a:rPr>
              <a:t>Письменн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333300"/>
                </a:solidFill>
                <a:latin typeface="Tahoma"/>
              </a:rPr>
              <a:t>Очень чёткий замысел. Сложная смысловая програм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ahoma"/>
              </a:rPr>
              <a:t>Аффективн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333300"/>
                </a:solidFill>
                <a:latin typeface="Tahoma"/>
              </a:rPr>
              <a:t>Нет замысла. Очень проста, ограниченна «Ах!», «Ну, погоди!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ahoma"/>
              </a:rPr>
              <a:t>Диалогиче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333300"/>
                </a:solidFill>
                <a:latin typeface="Tahoma"/>
              </a:rPr>
              <a:t>Речь при которой активны в равной степени все её участни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ahoma"/>
              </a:rPr>
              <a:t>Монологиче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333300"/>
                </a:solidFill>
                <a:latin typeface="Tahoma"/>
              </a:rPr>
              <a:t>Предъявляет высокие требования к говорящему (доклад, лекция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мять – форма психического отражения, заключающаяся в закреплении, сохранении и последующем воспроизведении прошлого опыта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иды памяти: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56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По длительности сохранения: долговременная, кратковременная оперативн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По преобладанию той или иной модальности: зрительная, слуховая, двигательн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По уровню организаци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наглядно-образная, словесно-логическая, эмоциональ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ыт №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явление объёма кратковремен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мя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В течении 1 минуты внимательно прочитай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предложенные слова и постарайтесь запомнить 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В течении 5 минут запишите все слова,</a:t>
            </a: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которые ва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удалось запомнить, в любом поряд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Подсчитайте число правильно написанных слов, 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каждое правильное слово начислите себе 1 бал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Полученный результат сравните с таблицей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ahoma"/>
              </a:rPr>
              <a:t>сделайте выво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ahoma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00"/>
                </a:solidFill>
                <a:latin typeface="Tahoma"/>
              </a:rPr>
              <a:t>Сено, ключ, самолёт, поезд, картина, месяц, певец, радио, трава, перевал, автомобиль, сердце, букет, тротуар, столетие, фильм, аромат, горы, океан, неподвижность, календарь, мужчина, женщина, абстракция, вертолё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3:06:35Z</dcterms:created>
  <dc:creator>1</dc:creator>
  <dc:description/>
  <dc:language>en-US</dc:language>
  <cp:lastModifiedBy>Илья</cp:lastModifiedBy>
  <dcterms:modified xsi:type="dcterms:W3CDTF">2008-11-19T14:45:38Z</dcterms:modified>
  <cp:revision>27</cp:revision>
  <dc:subject/>
  <dc:title>Слайд 1</dc:title>
</cp:coreProperties>
</file>