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365F-BF2D-4917-8917-81BB4E392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F974-EE7A-477E-B326-F698F183F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1AB7-32E5-45A7-BDB3-F22C0F40B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5A54-E0FB-499B-BFAB-249313F03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F187-103A-42F9-A6E5-CFE79639D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B9C7-5B06-4304-BC9C-6A27B5B8A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C741-2509-4349-97DF-A149A060A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F381-79B8-48EB-A5EF-E57B63993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3E89-01C3-4FA5-8EF1-CDFFA7F0C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66F8-C4F0-4822-B74D-7940ED27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F935-3B58-4C50-922E-1FBE7870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A133-113F-4AA6-BCDB-8FE75DDE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720AB-7E0D-43D1-8CCD-E9733C4322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10920" y="4436640"/>
            <a:ext cx="8281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тор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акарова С.С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– председатель МО, учитель мате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олгих Е.С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– учитель мате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БОУ СОШ №9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. Моск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250920" y="549360"/>
            <a:ext cx="842472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доровьесберегающие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технологии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а   уроках   математики.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тикальные движения глаз вверх-вниз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изонтальное вправо-влево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ращение глазами по часовой стрелке и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проти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рыть глаза и представить по очереди цвета радуг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можно отчетливе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доске до начала урока начертить какую-либо криву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спираль, окружность, ломаную); предлагается глаз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исовать” эти фигуры несколько раз в одном, 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тем в другом направл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5"/>
          <p:cNvSpPr txBox="1"/>
          <p:nvPr/>
        </p:nvSpPr>
        <p:spPr>
          <a:xfrm>
            <a:off x="3348000" y="333360"/>
            <a:ext cx="4176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Times New Roman"/>
              </a:rPr>
              <a:t>Физкультминутка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2606760" cy="2874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"/>
          <p:cNvPicPr/>
          <p:nvPr/>
        </p:nvPicPr>
        <p:blipFill>
          <a:blip r:embed="rId4"/>
          <a:stretch/>
        </p:blipFill>
        <p:spPr>
          <a:xfrm>
            <a:off x="5219640" y="5300640"/>
            <a:ext cx="334332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уставе Всемирной организации здравоохранения здоровье определяется как "Состояние полного физического, духовного и социального благополучия". Здоровье во все времена считалось высшей ценностью, основой активной творческой жизни, счастья, радости и благополучия человека. В современном обществе оно становится еще и условием выживания. Одно 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ременных определений здоров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ется как способ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даптироваться, приспосаблива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6118200" y="3952800"/>
            <a:ext cx="302580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доровь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мера реализации генетических потенциа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роцессе воспитания и обучения эти потенциалы развиваются – телесные, психические и духовно-нравственны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5867280" y="4724280"/>
            <a:ext cx="2514600" cy="18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еспечить школьнику возможность сохранения здоровья за период обучения в шко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формировать у него необходимые знания, умения и навыки по здоровому образу жиз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чить использовать полученные знания в повседневной жизн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324000" y="404640"/>
            <a:ext cx="7632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Times New Roman"/>
              </a:rPr>
              <a:t>Цель здоровьесберегающих технологий: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физическом плане – здоровье позволяет ему справляться с учебной нагрузкой, ребёнок умеет преодолевать усталость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социальном плане – он коммуникабелен, общителен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эмоциональном плане – ребёнок уравновешен, способен удивляться и восхищать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интеллектуальном плане – учащийся проявляет хорошие умственные способности, наблюдательность, воображение, самообучаемость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нравственном плане – он признаёт основные общечеловеческие ц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3"/>
          <p:cNvSpPr txBox="1"/>
          <p:nvPr/>
        </p:nvSpPr>
        <p:spPr>
          <a:xfrm>
            <a:off x="324000" y="404640"/>
            <a:ext cx="7632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Times New Roman"/>
              </a:rPr>
              <a:t>Задачи, стоящие перед школой: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ченик способен сосредоточиться лишь на том, что ему интересно, нравится, поэтому задача учителя – помочь ученику преодолеть усталость, уныние, неудовлетворенность. Ведь часто мы слышим от своих ученико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не тогда все понятно, когда интересно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начит, ребенку должно быть интересно на уроке. Неудовлетворенность, не облагороженная разумом, может привести к агрессивности, мнительности, тревожности. Учитель должен постоянно заботиться о сохранении психического здоровья детей в норме, повышать устойчивость нервной системы учащихся в преодолении трудностей. Необходимо постоянно заботиться о том, чтобы привести в согласие притязания ученика и его возмож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4"/>
          <p:cNvSpPr txBox="1"/>
          <p:nvPr/>
        </p:nvSpPr>
        <p:spPr>
          <a:xfrm>
            <a:off x="324000" y="404640"/>
            <a:ext cx="7632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Times New Roman"/>
              </a:rPr>
              <a:t>Задачи, стоящие перед школой: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доровье учащихся определяется исходным состоянием его здоровья на момент поступления в школ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ьшое значение имеет правильная организация учебной деятельности, а имен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4"/>
          <p:cNvSpPr txBox="1"/>
          <p:nvPr/>
        </p:nvSpPr>
        <p:spPr>
          <a:xfrm>
            <a:off x="324000" y="404640"/>
            <a:ext cx="849600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Times New Roman"/>
              </a:rPr>
              <a:t>Здоровьесберегающие технологии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Times New Roman"/>
              </a:rPr>
              <a:t>на уроках математики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Times New Roman"/>
              </a:rPr>
              <a:t> </a:t>
            </a: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Times New Roman"/>
              </a:rPr>
              <a:t>и информатики: 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доброжелательной обстановк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ожительный эмоциональный настр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огая дозировка учебной нагрузк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мена (4-7) видов деятельнос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роение урока с учетом работоспособности учащих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людение гигиенических требований (свежий воздух, оптимальный тепловой режим, хорошая освещенность, чистота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4"/>
          <p:cNvSpPr txBox="1"/>
          <p:nvPr/>
        </p:nvSpPr>
        <p:spPr>
          <a:xfrm>
            <a:off x="324000" y="404640"/>
            <a:ext cx="7632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Times New Roman"/>
              </a:rPr>
              <a:t>Здоровьесберегающие технологии: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агоприятный эмоциональный настро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дение физкультминуток и динамических пауз на уро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тистрессовым моментом на уроке является стимулирование учащихся к использованию различных способов решения, без боязни ошибиться, получить неправильный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рошие результаты дает работа в парах, в группах как на местах, так и у доски, более “слабый” ученик чувствует поддерж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онце урока нужно обсудить не только то, что усвоено нового, но выяснить, что понравилось на уроке, какие вопросы хотелось бы повторить, задания какого типа выполн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3"/>
          <p:cNvSpPr txBox="1"/>
          <p:nvPr/>
        </p:nvSpPr>
        <p:spPr>
          <a:xfrm>
            <a:off x="324000" y="404640"/>
            <a:ext cx="7632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Times New Roman"/>
              </a:rPr>
              <a:t>Здоровьесберегающие технологии: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2T10:00:13Z</dcterms:created>
  <dc:creator>User</dc:creator>
  <dc:description/>
  <dc:language>en-US</dc:language>
  <cp:lastModifiedBy>konti satellit</cp:lastModifiedBy>
  <dcterms:modified xsi:type="dcterms:W3CDTF">2013-10-08T16:01:24Z</dcterms:modified>
  <cp:revision>12</cp:revision>
  <dc:subject/>
  <dc:title>Здоровьесберегающие технологии на уроках математики.</dc:title>
</cp:coreProperties>
</file>