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C49B-D4C1-4263-A6B4-2D02F43F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077F-CB6B-4FAA-9F40-50B43811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44D5-6F12-4C55-8187-ECE2840C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6B28-41FD-4F0D-9CD1-B72A8A8A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18F6-B850-44D7-B569-196557AA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EFF6-A996-4929-AE2E-7031D3F2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25F4-A08A-44B4-B0DD-6619F12B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0622-1A44-42D9-81EB-24B29C59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D119-133F-4030-9CBF-A91E3F35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64D-0274-4595-9B15-DFB073D5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B713-7438-452E-A422-C206D40F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F65B-3973-4F97-AA7C-C1ECD886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921F-6069-44CA-8EA5-C89589D386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554040" y="542880"/>
            <a:ext cx="7834320" cy="148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55600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Дементьева С.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п. Дергач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атовская облас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195640" y="278136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по тем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м, в котором я живу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ile:Igloo.jpg"/>
          <p:cNvPicPr/>
          <p:nvPr/>
        </p:nvPicPr>
        <p:blipFill>
          <a:blip r:embed="rId1"/>
          <a:stretch/>
        </p:blipFill>
        <p:spPr>
          <a:xfrm>
            <a:off x="395280" y="189000"/>
            <a:ext cx="8170920" cy="554364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4426560" y="59500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гл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ile:Stroczycy 2008 06.jpg"/>
          <p:cNvPicPr/>
          <p:nvPr/>
        </p:nvPicPr>
        <p:blipFill>
          <a:blip r:embed="rId1"/>
          <a:stretch/>
        </p:blipFill>
        <p:spPr>
          <a:xfrm>
            <a:off x="39528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4358880" y="5950080"/>
            <a:ext cx="9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а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ile:Hogan Navajo.jpg"/>
          <p:cNvPicPr/>
          <p:nvPr/>
        </p:nvPicPr>
        <p:blipFill>
          <a:blip r:embed="rId1"/>
          <a:stretch/>
        </p:blipFill>
        <p:spPr>
          <a:xfrm>
            <a:off x="468360" y="189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3782880" y="6093000"/>
            <a:ext cx="23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м из гли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ile:LeshtenHouses.jpg"/>
          <p:cNvPicPr/>
          <p:nvPr/>
        </p:nvPicPr>
        <p:blipFill>
          <a:blip r:embed="rId1"/>
          <a:stretch/>
        </p:blipFill>
        <p:spPr>
          <a:xfrm>
            <a:off x="468360" y="189000"/>
            <a:ext cx="7581960" cy="570528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4076280" y="616572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 из кам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File:Russia-Suzdal-MWAPL-House of Poor Peasant-1.jpg"/>
          <p:cNvPicPr/>
          <p:nvPr/>
        </p:nvPicPr>
        <p:blipFill>
          <a:blip r:embed="rId1"/>
          <a:stretch/>
        </p:blipFill>
        <p:spPr>
          <a:xfrm>
            <a:off x="179280" y="189000"/>
            <a:ext cx="7620120" cy="5705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3999960" y="595008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б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Крым. Вид на спуск с Чуфут-Кале "/>
          <p:cNvPicPr/>
          <p:nvPr/>
        </p:nvPicPr>
        <p:blipFill>
          <a:blip r:embed="rId1"/>
          <a:stretch/>
        </p:blipFill>
        <p:spPr>
          <a:xfrm>
            <a:off x="0" y="0"/>
            <a:ext cx="7969320" cy="597708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2927160" y="6165720"/>
            <a:ext cx="26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ма – пеще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ile:Barracks-amazon.jpg"/>
          <p:cNvPicPr/>
          <p:nvPr/>
        </p:nvPicPr>
        <p:blipFill>
          <a:blip r:embed="rId1"/>
          <a:stretch/>
        </p:blipFill>
        <p:spPr>
          <a:xfrm>
            <a:off x="179280" y="189000"/>
            <a:ext cx="7518600" cy="482436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3215880" y="5445000"/>
            <a:ext cx="33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ижина соломе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ile:Kyrgyz yurt.jpg"/>
          <p:cNvPicPr/>
          <p:nvPr/>
        </p:nvPicPr>
        <p:blipFill>
          <a:blip r:embed="rId1"/>
          <a:stretch/>
        </p:blipFill>
        <p:spPr>
          <a:xfrm>
            <a:off x="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4722120" y="595008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Юр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Настя\Downloads\eskimosy.jpg"/>
          <p:cNvPicPr/>
          <p:nvPr/>
        </p:nvPicPr>
        <p:blipFill>
          <a:blip r:embed="rId1"/>
          <a:stretch/>
        </p:blipFill>
        <p:spPr>
          <a:xfrm>
            <a:off x="684360" y="907920"/>
            <a:ext cx="727056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ile:Vankarem yaranga and Chukchi 1881 Nelson.JPG"/>
          <p:cNvPicPr/>
          <p:nvPr/>
        </p:nvPicPr>
        <p:blipFill>
          <a:blip r:embed="rId1"/>
          <a:stretch/>
        </p:blipFill>
        <p:spPr>
          <a:xfrm>
            <a:off x="324000" y="333360"/>
            <a:ext cx="7619760" cy="475308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5370120" y="5732640"/>
            <a:ext cx="12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ран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Настя\Downloads\800px-Choris,_Tschuktschen.jpg"/>
          <p:cNvPicPr/>
          <p:nvPr/>
        </p:nvPicPr>
        <p:blipFill>
          <a:blip r:embed="rId1"/>
          <a:stretch/>
        </p:blipFill>
        <p:spPr>
          <a:xfrm>
            <a:off x="684360" y="765000"/>
            <a:ext cx="79070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Настя\Downloads\choomm-300x201.jpg"/>
          <p:cNvPicPr/>
          <p:nvPr/>
        </p:nvPicPr>
        <p:blipFill>
          <a:blip r:embed="rId1"/>
          <a:stretch/>
        </p:blipFill>
        <p:spPr>
          <a:xfrm>
            <a:off x="755640" y="981000"/>
            <a:ext cx="76312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ile:Apache Wickiup, Edward Curtis, 1903.jpg"/>
          <p:cNvPicPr/>
          <p:nvPr/>
        </p:nvPicPr>
        <p:blipFill>
          <a:blip r:embed="rId1"/>
          <a:stretch/>
        </p:blipFill>
        <p:spPr>
          <a:xfrm>
            <a:off x="395280" y="404640"/>
            <a:ext cx="7620120" cy="564840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 flipH="1">
            <a:off x="4642560" y="6165720"/>
            <a:ext cx="13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гв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8T05:19:08Z</dcterms:created>
  <dc:creator>Настя</dc:creator>
  <dc:description/>
  <dc:language>en-US</dc:language>
  <cp:lastModifiedBy>Настя</cp:lastModifiedBy>
  <dcterms:modified xsi:type="dcterms:W3CDTF">2013-10-08T06:09:36Z</dcterms:modified>
  <cp:revision>6</cp:revision>
  <dc:subject/>
  <dc:title>Слайд 1</dc:title>
</cp:coreProperties>
</file>