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8.jpeg" ContentType="image/jpeg"/>
  <Override PartName="/ppt/media/image34.jpeg" ContentType="image/jpeg"/>
  <Override PartName="/ppt/media/image6.png" ContentType="image/pn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1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A491-0363-4D65-A579-FD483CD6F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2632-642C-44B5-9697-F567F960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6507-F629-4D38-A235-51003A432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92CF-B572-4316-8C13-2C29C21B6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C209-21C3-4DA0-A652-C7279C55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DFE7-6A00-45B4-BFB2-5788FD38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6E8B-AD12-4B49-9215-4F41C474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B1B6-C7DC-4045-B9A4-0E8D312C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2675-10CD-47FA-9E9D-4735A82A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1B9E-3763-4587-BADB-F92947A1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ECB4-30A3-472A-B4FC-E3A7E791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AEE5-9344-455E-9A0E-BFF7C82B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222DF-029A-44BC-BE5C-EFE29B0224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6400" spc="-1" strike="noStrike">
                <a:solidFill>
                  <a:srgbClr val="280099"/>
                </a:solidFill>
                <a:latin typeface="Times New Roman"/>
              </a:rPr>
              <a:t>Click to edit the title text format</a:t>
            </a:r>
            <a:endParaRPr b="1" i="1" lang="en-US" sz="6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3"/>
          <a:stretch/>
        </p:blipFill>
        <p:spPr>
          <a:xfrm>
            <a:off x="7462800" y="4829040"/>
            <a:ext cx="2616120" cy="254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Line 1"/>
          <p:cNvSpPr/>
          <p:nvPr/>
        </p:nvSpPr>
        <p:spPr>
          <a:xfrm>
            <a:off x="0" y="914400"/>
            <a:ext cx="1007748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"/>
          <p:cNvSpPr/>
          <p:nvPr/>
        </p:nvSpPr>
        <p:spPr>
          <a:xfrm>
            <a:off x="0" y="939960"/>
            <a:ext cx="1007748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3"/>
          <p:cNvSpPr/>
          <p:nvPr/>
        </p:nvSpPr>
        <p:spPr>
          <a:xfrm>
            <a:off x="0" y="1252440"/>
            <a:ext cx="10077480" cy="180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0" y="159228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5"/>
          <p:cNvSpPr/>
          <p:nvPr/>
        </p:nvSpPr>
        <p:spPr>
          <a:xfrm>
            <a:off x="0" y="192888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"/>
          <p:cNvSpPr/>
          <p:nvPr/>
        </p:nvSpPr>
        <p:spPr>
          <a:xfrm>
            <a:off x="0" y="226692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0" y="2604960"/>
            <a:ext cx="10077480" cy="180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0" y="294012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9"/>
          <p:cNvSpPr/>
          <p:nvPr/>
        </p:nvSpPr>
        <p:spPr>
          <a:xfrm>
            <a:off x="0" y="3279600"/>
            <a:ext cx="10077480" cy="180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0"/>
          <p:cNvSpPr/>
          <p:nvPr/>
        </p:nvSpPr>
        <p:spPr>
          <a:xfrm>
            <a:off x="0" y="3619440"/>
            <a:ext cx="10077480" cy="180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1"/>
          <p:cNvSpPr/>
          <p:nvPr/>
        </p:nvSpPr>
        <p:spPr>
          <a:xfrm>
            <a:off x="0" y="395460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2"/>
          <p:cNvSpPr/>
          <p:nvPr/>
        </p:nvSpPr>
        <p:spPr>
          <a:xfrm>
            <a:off x="0" y="429264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3"/>
          <p:cNvSpPr/>
          <p:nvPr/>
        </p:nvSpPr>
        <p:spPr>
          <a:xfrm>
            <a:off x="0" y="463248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4"/>
          <p:cNvSpPr/>
          <p:nvPr/>
        </p:nvSpPr>
        <p:spPr>
          <a:xfrm>
            <a:off x="0" y="497052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5"/>
          <p:cNvSpPr/>
          <p:nvPr/>
        </p:nvSpPr>
        <p:spPr>
          <a:xfrm>
            <a:off x="0" y="530712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6"/>
          <p:cNvSpPr/>
          <p:nvPr/>
        </p:nvSpPr>
        <p:spPr>
          <a:xfrm>
            <a:off x="0" y="564516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7"/>
          <p:cNvSpPr/>
          <p:nvPr/>
        </p:nvSpPr>
        <p:spPr>
          <a:xfrm>
            <a:off x="0" y="5983200"/>
            <a:ext cx="10077480" cy="180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8"/>
          <p:cNvSpPr/>
          <p:nvPr/>
        </p:nvSpPr>
        <p:spPr>
          <a:xfrm>
            <a:off x="0" y="6319800"/>
            <a:ext cx="10077480" cy="180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9"/>
          <p:cNvSpPr/>
          <p:nvPr/>
        </p:nvSpPr>
        <p:spPr>
          <a:xfrm>
            <a:off x="0" y="6657840"/>
            <a:ext cx="10077480" cy="180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"/>
          <p:cNvSpPr/>
          <p:nvPr/>
        </p:nvSpPr>
        <p:spPr>
          <a:xfrm>
            <a:off x="0" y="699768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1"/>
          <p:cNvSpPr/>
          <p:nvPr/>
        </p:nvSpPr>
        <p:spPr>
          <a:xfrm>
            <a:off x="0" y="733284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22"/>
          <p:cNvGrpSpPr/>
          <p:nvPr/>
        </p:nvGrpSpPr>
        <p:grpSpPr>
          <a:xfrm>
            <a:off x="503280" y="1717560"/>
            <a:ext cx="303120" cy="280800"/>
            <a:chOff x="503280" y="1717560"/>
            <a:chExt cx="303120" cy="280800"/>
          </a:xfrm>
        </p:grpSpPr>
        <p:sp>
          <p:nvSpPr>
            <p:cNvPr id="260" name="Oval 23"/>
            <p:cNvSpPr/>
            <p:nvPr/>
          </p:nvSpPr>
          <p:spPr>
            <a:xfrm>
              <a:off x="503280" y="1734840"/>
              <a:ext cx="2858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24"/>
            <p:cNvSpPr/>
            <p:nvPr/>
          </p:nvSpPr>
          <p:spPr>
            <a:xfrm>
              <a:off x="520560" y="1717560"/>
              <a:ext cx="285840" cy="26208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25"/>
          <p:cNvGrpSpPr/>
          <p:nvPr/>
        </p:nvGrpSpPr>
        <p:grpSpPr>
          <a:xfrm>
            <a:off x="503280" y="5580000"/>
            <a:ext cx="303120" cy="281160"/>
            <a:chOff x="503280" y="5580000"/>
            <a:chExt cx="303120" cy="281160"/>
          </a:xfrm>
        </p:grpSpPr>
        <p:sp>
          <p:nvSpPr>
            <p:cNvPr id="263" name="Oval 26"/>
            <p:cNvSpPr/>
            <p:nvPr/>
          </p:nvSpPr>
          <p:spPr>
            <a:xfrm>
              <a:off x="503280" y="5595840"/>
              <a:ext cx="285840" cy="2653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27"/>
            <p:cNvSpPr/>
            <p:nvPr/>
          </p:nvSpPr>
          <p:spPr>
            <a:xfrm>
              <a:off x="520560" y="5580000"/>
              <a:ext cx="285840" cy="2635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AutoShape 1"/>
          <p:cNvSpPr/>
          <p:nvPr/>
        </p:nvSpPr>
        <p:spPr>
          <a:xfrm rot="5400000">
            <a:off x="6426000" y="3485880"/>
            <a:ext cx="6048360" cy="126072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141f28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"/>
          <p:cNvSpPr/>
          <p:nvPr/>
        </p:nvSpPr>
        <p:spPr>
          <a:xfrm rot="5400000">
            <a:off x="4841640" y="2320560"/>
            <a:ext cx="400320" cy="10080720"/>
          </a:xfrm>
          <a:custGeom>
            <a:avLst/>
            <a:gdLst>
              <a:gd name="textAreaLeft" fmla="*/ 360 w 400320"/>
              <a:gd name="textAreaRight" fmla="*/ 399960 w 40032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543454">
                <a:moveTo>
                  <a:pt x="85" y="0"/>
                </a:moveTo>
                <a:arcTo wR="85" hR="85" stAng="16200000" swAng="-5400000"/>
                <a:lnTo>
                  <a:pt x="0" y="543369"/>
                </a:lnTo>
                <a:arcTo wR="85" hR="85" stAng="10800000" swAng="-5400000"/>
                <a:lnTo>
                  <a:pt x="21515" y="543454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3"/>
          <p:cNvSpPr/>
          <p:nvPr/>
        </p:nvSpPr>
        <p:spPr>
          <a:xfrm rot="5400000">
            <a:off x="4495680" y="-4492800"/>
            <a:ext cx="1092240" cy="10080720"/>
          </a:xfrm>
          <a:custGeom>
            <a:avLst/>
            <a:gdLst>
              <a:gd name="textAreaLeft" fmla="*/ 360 w 1092240"/>
              <a:gd name="textAreaRight" fmla="*/ 1091880 w 109224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199296">
                <a:moveTo>
                  <a:pt x="31" y="0"/>
                </a:moveTo>
                <a:arcTo wR="31" hR="31" stAng="16200000" swAng="-5400000"/>
                <a:lnTo>
                  <a:pt x="0" y="199265"/>
                </a:lnTo>
                <a:arcTo wR="31" hR="31" stAng="10800000" swAng="-5400000"/>
                <a:lnTo>
                  <a:pt x="21569" y="199296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60160" y="167760"/>
            <a:ext cx="89024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feeb9a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55280" y="1510920"/>
            <a:ext cx="8566200" cy="54579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500" spc="-1" strike="noStrike">
              <a:solidFill>
                <a:srgbClr val="eaeaea"/>
              </a:solidFill>
              <a:latin typeface="Arial Narrow"/>
            </a:endParaRPr>
          </a:p>
          <a:p>
            <a:pPr lvl="1" marL="343080" indent="-343080">
              <a:lnSpc>
                <a:spcPct val="97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500" spc="-1" strike="noStrike">
              <a:solidFill>
                <a:srgbClr val="eaeaea"/>
              </a:solidFill>
              <a:latin typeface="Arial Narrow"/>
            </a:endParaRPr>
          </a:p>
          <a:p>
            <a:pPr lvl="2" marL="343080" indent="-343080">
              <a:lnSpc>
                <a:spcPct val="97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500" spc="-1" strike="noStrike">
              <a:solidFill>
                <a:srgbClr val="eaeaea"/>
              </a:solidFill>
              <a:latin typeface="Arial Narrow"/>
            </a:endParaRPr>
          </a:p>
          <a:p>
            <a:pPr lvl="3" marL="343080" indent="-343080">
              <a:lnSpc>
                <a:spcPct val="97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500" spc="-1" strike="noStrike">
              <a:solidFill>
                <a:srgbClr val="eaeaea"/>
              </a:solidFill>
              <a:latin typeface="Arial Narrow"/>
            </a:endParaRPr>
          </a:p>
          <a:p>
            <a:pPr lvl="4" marL="343080" indent="-343080">
              <a:lnSpc>
                <a:spcPct val="97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500" spc="-1" strike="noStrike">
              <a:solidFill>
                <a:srgbClr val="eaeaea"/>
              </a:solidFill>
              <a:latin typeface="Arial Narrow"/>
            </a:endParaRPr>
          </a:p>
          <a:p>
            <a:pPr lvl="5" marL="343080" indent="-343080">
              <a:lnSpc>
                <a:spcPct val="97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500" spc="-1" strike="noStrike">
              <a:solidFill>
                <a:srgbClr val="eaeaea"/>
              </a:solidFill>
              <a:latin typeface="Arial Narrow"/>
            </a:endParaRPr>
          </a:p>
          <a:p>
            <a:pPr lvl="6" marL="343080" indent="-343080">
              <a:lnSpc>
                <a:spcPct val="97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5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755640" y="7034040"/>
            <a:ext cx="21002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7"/>
          <p:cNvSpPr/>
          <p:nvPr/>
        </p:nvSpPr>
        <p:spPr>
          <a:xfrm>
            <a:off x="0" y="117648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8"/>
          <p:cNvSpPr/>
          <p:nvPr/>
        </p:nvSpPr>
        <p:spPr>
          <a:xfrm>
            <a:off x="0" y="126036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9"/>
          <p:cNvSpPr/>
          <p:nvPr/>
        </p:nvSpPr>
        <p:spPr>
          <a:xfrm>
            <a:off x="0" y="134460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10"/>
          <p:cNvSpPr/>
          <p:nvPr/>
        </p:nvSpPr>
        <p:spPr>
          <a:xfrm>
            <a:off x="4300560" y="3633840"/>
            <a:ext cx="1008072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1"/>
          <p:cNvSpPr/>
          <p:nvPr/>
        </p:nvSpPr>
        <p:spPr>
          <a:xfrm>
            <a:off x="0" y="705636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2"/>
          <p:cNvSpPr/>
          <p:nvPr/>
        </p:nvSpPr>
        <p:spPr>
          <a:xfrm rot="16200000">
            <a:off x="8804160" y="-168480"/>
            <a:ext cx="19080" cy="252720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08400">
                <a:moveTo>
                  <a:pt x="1800" y="0"/>
                </a:moveTo>
                <a:arcTo wR="1800" hR="1800" stAng="16200000" swAng="-5400000"/>
                <a:lnTo>
                  <a:pt x="0" y="2806600"/>
                </a:lnTo>
                <a:arcTo wR="1800" hR="1800" stAng="10800000" swAng="-5400000"/>
                <a:lnTo>
                  <a:pt x="19800" y="28084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3"/>
          <p:cNvSpPr/>
          <p:nvPr/>
        </p:nvSpPr>
        <p:spPr>
          <a:xfrm rot="16200000">
            <a:off x="8804520" y="336600"/>
            <a:ext cx="18720" cy="2527200"/>
          </a:xfrm>
          <a:custGeom>
            <a:avLst/>
            <a:gdLst>
              <a:gd name="textAreaLeft" fmla="*/ 360 w 18720"/>
              <a:gd name="textAreaRight" fmla="*/ 18360 w 1872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61389">
                <a:moveTo>
                  <a:pt x="1800" y="0"/>
                </a:moveTo>
                <a:arcTo wR="1800" hR="1800" stAng="16200000" swAng="-5400000"/>
                <a:lnTo>
                  <a:pt x="0" y="2859589"/>
                </a:lnTo>
                <a:arcTo wR="1800" hR="1800" stAng="10800000" swAng="-5400000"/>
                <a:lnTo>
                  <a:pt x="19800" y="2861389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4"/>
          <p:cNvSpPr/>
          <p:nvPr/>
        </p:nvSpPr>
        <p:spPr>
          <a:xfrm rot="16200000">
            <a:off x="8804160" y="839160"/>
            <a:ext cx="19080" cy="252720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08400">
                <a:moveTo>
                  <a:pt x="1800" y="0"/>
                </a:moveTo>
                <a:arcTo wR="1800" hR="1800" stAng="16200000" swAng="-5400000"/>
                <a:lnTo>
                  <a:pt x="0" y="2806600"/>
                </a:lnTo>
                <a:arcTo wR="1800" hR="1800" stAng="10800000" swAng="-5400000"/>
                <a:lnTo>
                  <a:pt x="19800" y="28084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5"/>
          <p:cNvSpPr/>
          <p:nvPr/>
        </p:nvSpPr>
        <p:spPr>
          <a:xfrm rot="16200000">
            <a:off x="8804160" y="1344240"/>
            <a:ext cx="19080" cy="252720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08400">
                <a:moveTo>
                  <a:pt x="1800" y="0"/>
                </a:moveTo>
                <a:arcTo wR="1800" hR="1800" stAng="16200000" swAng="-5400000"/>
                <a:lnTo>
                  <a:pt x="0" y="2806600"/>
                </a:lnTo>
                <a:arcTo wR="1800" hR="1800" stAng="10800000" swAng="-5400000"/>
                <a:lnTo>
                  <a:pt x="19800" y="28084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6"/>
          <p:cNvSpPr/>
          <p:nvPr/>
        </p:nvSpPr>
        <p:spPr>
          <a:xfrm rot="16200000">
            <a:off x="8804160" y="1847520"/>
            <a:ext cx="19080" cy="252720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08400">
                <a:moveTo>
                  <a:pt x="1800" y="0"/>
                </a:moveTo>
                <a:arcTo wR="1800" hR="1800" stAng="16200000" swAng="-5400000"/>
                <a:lnTo>
                  <a:pt x="0" y="2806600"/>
                </a:lnTo>
                <a:arcTo wR="1800" hR="1800" stAng="10800000" swAng="-5400000"/>
                <a:lnTo>
                  <a:pt x="19800" y="28084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7"/>
          <p:cNvSpPr/>
          <p:nvPr/>
        </p:nvSpPr>
        <p:spPr>
          <a:xfrm rot="16200000">
            <a:off x="8804160" y="2352240"/>
            <a:ext cx="19080" cy="252720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08400">
                <a:moveTo>
                  <a:pt x="1800" y="0"/>
                </a:moveTo>
                <a:arcTo wR="1800" hR="1800" stAng="16200000" swAng="-5400000"/>
                <a:lnTo>
                  <a:pt x="0" y="2806600"/>
                </a:lnTo>
                <a:arcTo wR="1800" hR="1800" stAng="10800000" swAng="-5400000"/>
                <a:lnTo>
                  <a:pt x="19800" y="28084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8"/>
          <p:cNvSpPr/>
          <p:nvPr/>
        </p:nvSpPr>
        <p:spPr>
          <a:xfrm rot="16200000">
            <a:off x="8804160" y="2855520"/>
            <a:ext cx="19080" cy="252720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08400">
                <a:moveTo>
                  <a:pt x="1800" y="0"/>
                </a:moveTo>
                <a:arcTo wR="1800" hR="1800" stAng="16200000" swAng="-5400000"/>
                <a:lnTo>
                  <a:pt x="0" y="2806600"/>
                </a:lnTo>
                <a:arcTo wR="1800" hR="1800" stAng="10800000" swAng="-5400000"/>
                <a:lnTo>
                  <a:pt x="19800" y="28084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9"/>
          <p:cNvSpPr/>
          <p:nvPr/>
        </p:nvSpPr>
        <p:spPr>
          <a:xfrm rot="16200000">
            <a:off x="8804160" y="3360240"/>
            <a:ext cx="19080" cy="252720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08400">
                <a:moveTo>
                  <a:pt x="1800" y="0"/>
                </a:moveTo>
                <a:arcTo wR="1800" hR="1800" stAng="16200000" swAng="-5400000"/>
                <a:lnTo>
                  <a:pt x="0" y="2806600"/>
                </a:lnTo>
                <a:arcTo wR="1800" hR="1800" stAng="10800000" swAng="-5400000"/>
                <a:lnTo>
                  <a:pt x="19800" y="28084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20"/>
          <p:cNvSpPr/>
          <p:nvPr/>
        </p:nvSpPr>
        <p:spPr>
          <a:xfrm rot="16200000">
            <a:off x="8804160" y="3863520"/>
            <a:ext cx="19080" cy="252720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08400">
                <a:moveTo>
                  <a:pt x="1800" y="0"/>
                </a:moveTo>
                <a:arcTo wR="1800" hR="1800" stAng="16200000" swAng="-5400000"/>
                <a:lnTo>
                  <a:pt x="0" y="2806600"/>
                </a:lnTo>
                <a:arcTo wR="1800" hR="1800" stAng="10800000" swAng="-5400000"/>
                <a:lnTo>
                  <a:pt x="19800" y="28084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21"/>
          <p:cNvSpPr/>
          <p:nvPr/>
        </p:nvSpPr>
        <p:spPr>
          <a:xfrm rot="16200000">
            <a:off x="8804160" y="4368240"/>
            <a:ext cx="19080" cy="252720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08400">
                <a:moveTo>
                  <a:pt x="1800" y="0"/>
                </a:moveTo>
                <a:arcTo wR="1800" hR="1800" stAng="16200000" swAng="-5400000"/>
                <a:lnTo>
                  <a:pt x="0" y="2806600"/>
                </a:lnTo>
                <a:arcTo wR="1800" hR="1800" stAng="10800000" swAng="-5400000"/>
                <a:lnTo>
                  <a:pt x="19800" y="28084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2"/>
          <p:cNvSpPr/>
          <p:nvPr/>
        </p:nvSpPr>
        <p:spPr>
          <a:xfrm rot="16200000">
            <a:off x="8804160" y="4871520"/>
            <a:ext cx="19080" cy="252720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08400">
                <a:moveTo>
                  <a:pt x="1800" y="0"/>
                </a:moveTo>
                <a:arcTo wR="1800" hR="1800" stAng="16200000" swAng="-5400000"/>
                <a:lnTo>
                  <a:pt x="0" y="2806600"/>
                </a:lnTo>
                <a:arcTo wR="1800" hR="1800" stAng="10800000" swAng="-5400000"/>
                <a:lnTo>
                  <a:pt x="19800" y="28084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3"/>
          <p:cNvSpPr/>
          <p:nvPr/>
        </p:nvSpPr>
        <p:spPr>
          <a:xfrm rot="16200000">
            <a:off x="8804160" y="5376240"/>
            <a:ext cx="19080" cy="252720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08400">
                <a:moveTo>
                  <a:pt x="1800" y="0"/>
                </a:moveTo>
                <a:arcTo wR="1800" hR="1800" stAng="16200000" swAng="-5400000"/>
                <a:lnTo>
                  <a:pt x="0" y="2806600"/>
                </a:lnTo>
                <a:arcTo wR="1800" hR="1800" stAng="10800000" swAng="-5400000"/>
                <a:lnTo>
                  <a:pt x="19800" y="28084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24"/>
          <p:cNvSpPr/>
          <p:nvPr/>
        </p:nvSpPr>
        <p:spPr>
          <a:xfrm rot="16200000">
            <a:off x="8804160" y="5879520"/>
            <a:ext cx="19080" cy="252720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08400">
                <a:moveTo>
                  <a:pt x="1800" y="0"/>
                </a:moveTo>
                <a:arcTo wR="1800" hR="1800" stAng="16200000" swAng="-5400000"/>
                <a:lnTo>
                  <a:pt x="0" y="2806600"/>
                </a:lnTo>
                <a:arcTo wR="1800" hR="1800" stAng="10800000" swAng="-5400000"/>
                <a:lnTo>
                  <a:pt x="19800" y="28084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Freeform 1"/>
          <p:cNvSpPr/>
          <p:nvPr/>
        </p:nvSpPr>
        <p:spPr>
          <a:xfrm>
            <a:off x="0" y="0"/>
            <a:ext cx="5219640" cy="1017720"/>
          </a:xfrm>
          <a:custGeom>
            <a:avLst/>
            <a:gdLst/>
            <a:ahLst/>
            <a:rect l="l" t="t" r="r" b="b"/>
            <a:pathLst>
              <a:path w="14498" h="2828">
                <a:moveTo>
                  <a:pt x="0" y="0"/>
                </a:moveTo>
                <a:lnTo>
                  <a:pt x="0" y="1236"/>
                </a:lnTo>
                <a:lnTo>
                  <a:pt x="706" y="1631"/>
                </a:lnTo>
                <a:lnTo>
                  <a:pt x="1407" y="1935"/>
                </a:lnTo>
                <a:lnTo>
                  <a:pt x="2157" y="2197"/>
                </a:lnTo>
                <a:lnTo>
                  <a:pt x="2943" y="2418"/>
                </a:lnTo>
                <a:lnTo>
                  <a:pt x="3767" y="2593"/>
                </a:lnTo>
                <a:lnTo>
                  <a:pt x="4625" y="2721"/>
                </a:lnTo>
                <a:lnTo>
                  <a:pt x="5510" y="2801"/>
                </a:lnTo>
                <a:lnTo>
                  <a:pt x="6417" y="2827"/>
                </a:lnTo>
                <a:lnTo>
                  <a:pt x="7329" y="2801"/>
                </a:lnTo>
                <a:lnTo>
                  <a:pt x="8215" y="2721"/>
                </a:lnTo>
                <a:lnTo>
                  <a:pt x="9072" y="2593"/>
                </a:lnTo>
                <a:lnTo>
                  <a:pt x="9895" y="2418"/>
                </a:lnTo>
                <a:lnTo>
                  <a:pt x="10684" y="2197"/>
                </a:lnTo>
                <a:lnTo>
                  <a:pt x="11432" y="1935"/>
                </a:lnTo>
                <a:lnTo>
                  <a:pt x="12136" y="1631"/>
                </a:lnTo>
                <a:lnTo>
                  <a:pt x="12788" y="1293"/>
                </a:lnTo>
                <a:lnTo>
                  <a:pt x="13392" y="920"/>
                </a:lnTo>
                <a:lnTo>
                  <a:pt x="13940" y="513"/>
                </a:lnTo>
                <a:lnTo>
                  <a:pt x="14429" y="78"/>
                </a:lnTo>
                <a:lnTo>
                  <a:pt x="14497" y="0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2"/>
          <p:cNvSpPr/>
          <p:nvPr/>
        </p:nvSpPr>
        <p:spPr>
          <a:xfrm>
            <a:off x="0" y="5402160"/>
            <a:ext cx="10080720" cy="2157480"/>
          </a:xfrm>
          <a:prstGeom prst="roundRect">
            <a:avLst>
              <a:gd name="adj" fmla="val 69"/>
            </a:avLst>
          </a:prstGeom>
          <a:gradFill rotWithShape="0">
            <a:gsLst>
              <a:gs pos="0">
                <a:srgbClr val="0047ff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3"/>
          <p:cNvSpPr/>
          <p:nvPr/>
        </p:nvSpPr>
        <p:spPr>
          <a:xfrm>
            <a:off x="-33480" y="6459480"/>
            <a:ext cx="5240520" cy="1101960"/>
          </a:xfrm>
          <a:custGeom>
            <a:avLst/>
            <a:gdLst/>
            <a:ahLst/>
            <a:rect l="l" t="t" r="r" b="b"/>
            <a:pathLst>
              <a:path w="14555" h="3060">
                <a:moveTo>
                  <a:pt x="93" y="3059"/>
                </a:moveTo>
                <a:lnTo>
                  <a:pt x="93" y="2102"/>
                </a:lnTo>
                <a:lnTo>
                  <a:pt x="0" y="2065"/>
                </a:lnTo>
                <a:lnTo>
                  <a:pt x="586" y="1659"/>
                </a:lnTo>
                <a:lnTo>
                  <a:pt x="1219" y="1291"/>
                </a:lnTo>
                <a:lnTo>
                  <a:pt x="1898" y="964"/>
                </a:lnTo>
                <a:lnTo>
                  <a:pt x="2620" y="680"/>
                </a:lnTo>
                <a:lnTo>
                  <a:pt x="3383" y="441"/>
                </a:lnTo>
                <a:lnTo>
                  <a:pt x="4180" y="252"/>
                </a:lnTo>
                <a:lnTo>
                  <a:pt x="5008" y="112"/>
                </a:lnTo>
                <a:lnTo>
                  <a:pt x="5864" y="29"/>
                </a:lnTo>
                <a:lnTo>
                  <a:pt x="6745" y="0"/>
                </a:lnTo>
                <a:lnTo>
                  <a:pt x="7625" y="29"/>
                </a:lnTo>
                <a:lnTo>
                  <a:pt x="8479" y="112"/>
                </a:lnTo>
                <a:lnTo>
                  <a:pt x="9308" y="252"/>
                </a:lnTo>
                <a:lnTo>
                  <a:pt x="10104" y="441"/>
                </a:lnTo>
                <a:lnTo>
                  <a:pt x="10868" y="680"/>
                </a:lnTo>
                <a:lnTo>
                  <a:pt x="11590" y="964"/>
                </a:lnTo>
                <a:lnTo>
                  <a:pt x="12269" y="1291"/>
                </a:lnTo>
                <a:lnTo>
                  <a:pt x="12902" y="1659"/>
                </a:lnTo>
                <a:lnTo>
                  <a:pt x="13487" y="2065"/>
                </a:lnTo>
                <a:lnTo>
                  <a:pt x="14018" y="2504"/>
                </a:lnTo>
                <a:lnTo>
                  <a:pt x="14489" y="2976"/>
                </a:lnTo>
                <a:lnTo>
                  <a:pt x="14554" y="3059"/>
                </a:lnTo>
                <a:lnTo>
                  <a:pt x="93" y="3059"/>
                </a:lnTo>
              </a:path>
            </a:pathLst>
          </a:custGeom>
          <a:gradFill rotWithShape="0">
            <a:gsLst>
              <a:gs pos="0">
                <a:srgbClr val="2300dc"/>
              </a:gs>
              <a:gs pos="100000">
                <a:srgbClr val="000080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1320" y="-2700720"/>
            <a:ext cx="9147240" cy="648036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e6e6ff"/>
                </a:solidFill>
                <a:latin typeface="Times New Roman"/>
              </a:rPr>
              <a:t>Сад</a:t>
            </a:r>
            <a:endParaRPr b="0" lang="en-US" sz="96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1440000" y="1619280"/>
            <a:ext cx="6948360" cy="492264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20720" y="1792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e6e6ff"/>
                </a:solidFill>
                <a:latin typeface="Times New Roman"/>
              </a:rPr>
              <a:t>Смородина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435" name="Picture 2" descr=""/>
          <p:cNvPicPr/>
          <p:nvPr/>
        </p:nvPicPr>
        <p:blipFill>
          <a:blip r:embed="rId1"/>
          <a:stretch/>
        </p:blipFill>
        <p:spPr>
          <a:xfrm>
            <a:off x="720720" y="1800360"/>
            <a:ext cx="3527280" cy="21920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3" descr=""/>
          <p:cNvPicPr/>
          <p:nvPr/>
        </p:nvPicPr>
        <p:blipFill>
          <a:blip r:embed="rId2"/>
          <a:stretch/>
        </p:blipFill>
        <p:spPr>
          <a:xfrm>
            <a:off x="720720" y="4587840"/>
            <a:ext cx="3598920" cy="217476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965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Включает около 150 видов. До 50 видов распространены в Европе, Азии и Северной Америке, причём некоторые спускаются к югу континента по Андам до Магелланова пролива.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92000" y="25056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e6e6ff"/>
                </a:solidFill>
                <a:latin typeface="Times New Roman"/>
              </a:rPr>
              <a:t>Малина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439" name="Picture 3" descr=""/>
          <p:cNvPicPr/>
          <p:nvPr/>
        </p:nvPicPr>
        <p:blipFill>
          <a:blip r:embed="rId1"/>
          <a:stretch/>
        </p:blipFill>
        <p:spPr>
          <a:xfrm>
            <a:off x="647640" y="2195640"/>
            <a:ext cx="3816360" cy="38084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965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Малина обыкновенная — листопадный полукустарник с многолетним корневищем, из которого развиваются двухгодичные надземные стебли высотой 1,5—2,5 м.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18920" y="17928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e6e6ff"/>
                </a:solidFill>
                <a:latin typeface="Times New Roman"/>
              </a:rPr>
              <a:t>Крыжовник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719280" y="2340000"/>
            <a:ext cx="3673440" cy="374472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111640" y="1547280"/>
            <a:ext cx="4200480" cy="5418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Представляет собой небольшой кустарник высотой до 1—1,2 м, с тёмно-серой или тёмно-коричневой отслаивающейся корой. Ветви несут трёхраздельные, реже простые колючки листового происхождения.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18920" y="17928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e6e6ff"/>
                </a:solidFill>
                <a:latin typeface="Times New Roman"/>
              </a:rPr>
              <a:t>Садовая земляника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445" name="Picture 2" descr=""/>
          <p:cNvPicPr/>
          <p:nvPr/>
        </p:nvPicPr>
        <p:blipFill>
          <a:blip r:embed="rId1"/>
          <a:stretch/>
        </p:blipFill>
        <p:spPr>
          <a:xfrm>
            <a:off x="571680" y="2160720"/>
            <a:ext cx="3173400" cy="20192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3" descr=""/>
          <p:cNvPicPr/>
          <p:nvPr/>
        </p:nvPicPr>
        <p:blipFill>
          <a:blip r:embed="rId2"/>
          <a:stretch/>
        </p:blipFill>
        <p:spPr>
          <a:xfrm>
            <a:off x="539640" y="4568760"/>
            <a:ext cx="3205440" cy="202248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319640" y="1779120"/>
            <a:ext cx="5759280" cy="532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7000"/>
          </a:bodyPr>
          <a:p>
            <a:pPr marL="418680" indent="-31392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Крупные тройчатые листья зелёного цвета находятся на черешках высотой 20—25 см.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4186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Соцветие — многоцветковый щиток. Цветки — обычно обоеполые, пятилепестковые, белого цвета. Цветоносы у отдельных сортов выше стеблей. Много тычинок и пестиков.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e6e6ff"/>
                </a:solidFill>
                <a:latin typeface="Times New Roman"/>
              </a:rPr>
              <a:t>Яблоня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449" name="Picture 2" descr=""/>
          <p:cNvPicPr/>
          <p:nvPr/>
        </p:nvPicPr>
        <p:blipFill>
          <a:blip r:embed="rId1"/>
          <a:stretch/>
        </p:blipFill>
        <p:spPr>
          <a:xfrm>
            <a:off x="539640" y="1619280"/>
            <a:ext cx="3708360" cy="24652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" descr=""/>
          <p:cNvPicPr/>
          <p:nvPr/>
        </p:nvPicPr>
        <p:blipFill>
          <a:blip r:embed="rId2"/>
          <a:stretch/>
        </p:blipFill>
        <p:spPr>
          <a:xfrm>
            <a:off x="539640" y="4587840"/>
            <a:ext cx="3708360" cy="23385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184360" y="1402920"/>
            <a:ext cx="4388040" cy="5418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7000"/>
          </a:bodyPr>
          <a:p>
            <a:pPr marL="418680" indent="-31392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Деревья с развесистой кроной высотой 2,5—15 м. Ветви укороченные (плодущие), на которых закладываются цветочные почки, и удлинённые (ростовые). У дикорастущих видов на ветвях колючки.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18920" y="-1116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e6e6ff"/>
                </a:solidFill>
                <a:latin typeface="Times New Roman"/>
              </a:rPr>
              <a:t>Слива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360360" y="1619280"/>
            <a:ext cx="3333600" cy="22874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3" descr=""/>
          <p:cNvPicPr/>
          <p:nvPr/>
        </p:nvPicPr>
        <p:blipFill>
          <a:blip r:embed="rId2"/>
          <a:stretch/>
        </p:blipFill>
        <p:spPr>
          <a:xfrm>
            <a:off x="539640" y="4587840"/>
            <a:ext cx="3154320" cy="227160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140000" y="1439640"/>
            <a:ext cx="5940360" cy="613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Листья простые, ланцетные, по краю зубчатые.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Цветки обычно белые или розовые, с пятью лепестками и пятью чашелистиками, одиночные или в зонтиках от двух до шести соцветий.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Плод — костянка с относительно большой косточкой.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20720" y="25056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e6e6ff"/>
                </a:solidFill>
                <a:latin typeface="Times New Roman"/>
              </a:rPr>
              <a:t>Груша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457" name="Picture 3" descr=""/>
          <p:cNvPicPr/>
          <p:nvPr/>
        </p:nvPicPr>
        <p:blipFill>
          <a:blip r:embed="rId1"/>
          <a:stretch/>
        </p:blipFill>
        <p:spPr>
          <a:xfrm>
            <a:off x="576360" y="2340000"/>
            <a:ext cx="3471840" cy="367200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858920" y="1618920"/>
            <a:ext cx="5040360" cy="5869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Форма кроны свободно растущего дерева — пирамидальная или округлая, склонна к загущению. Годовой прирост составляет 30—40 см. При благоприятных условиях груша достигает крупных размеров — до 5—25 метров в высоту и 5 метров в диаметре кроны. .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18920" y="10800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e6e6ff"/>
                </a:solidFill>
                <a:latin typeface="Times New Roman"/>
              </a:rPr>
              <a:t>Абрикос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460" name="Picture 3" descr=""/>
          <p:cNvPicPr/>
          <p:nvPr/>
        </p:nvPicPr>
        <p:blipFill>
          <a:blip r:embed="rId1"/>
          <a:stretch/>
        </p:blipFill>
        <p:spPr>
          <a:xfrm>
            <a:off x="647640" y="2266920"/>
            <a:ext cx="3853080" cy="351324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00360" y="2077560"/>
            <a:ext cx="38480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Листопадное дерево средней высоты и окружности кроны. Дерево абрикоса растёт долго, в тёплом климате до 100 лет.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e6e6ff"/>
                </a:solidFill>
                <a:latin typeface="Times New Roman"/>
              </a:rPr>
              <a:t>Жабы и лягушки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1316160" y="2400480"/>
            <a:ext cx="2860560" cy="446400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Из мелких животных особенно полезны для сада лягушки и жабы. Основной пищей лягушек и жаб являются насекомые, чаще всего вредители.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76000" y="17928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e6e6ff"/>
                </a:solidFill>
                <a:latin typeface="Times New Roman"/>
              </a:rPr>
              <a:t>Горихвостка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466" name="Picture 2" descr=""/>
          <p:cNvPicPr/>
          <p:nvPr/>
        </p:nvPicPr>
        <p:blipFill>
          <a:blip r:embed="rId1"/>
          <a:stretch/>
        </p:blipFill>
        <p:spPr>
          <a:xfrm>
            <a:off x="1079640" y="1800360"/>
            <a:ext cx="3024000" cy="227628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3" descr=""/>
          <p:cNvPicPr/>
          <p:nvPr/>
        </p:nvPicPr>
        <p:blipFill>
          <a:blip r:embed="rId2"/>
          <a:stretch/>
        </p:blipFill>
        <p:spPr>
          <a:xfrm>
            <a:off x="1119240" y="4608360"/>
            <a:ext cx="3379680" cy="207036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Немного мельче и изящнее, чем схожий по строению домовый воробей.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45920" y="226800"/>
            <a:ext cx="860724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e6e6ff"/>
                </a:solidFill>
                <a:latin typeface="Times New Roman"/>
              </a:rPr>
              <a:t>Георгин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1008000" y="1619280"/>
            <a:ext cx="2952720" cy="22129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"/>
          <p:cNvPicPr/>
          <p:nvPr/>
        </p:nvPicPr>
        <p:blipFill>
          <a:blip r:embed="rId2"/>
          <a:stretch/>
        </p:blipFill>
        <p:spPr>
          <a:xfrm>
            <a:off x="1152360" y="4587840"/>
            <a:ext cx="2808360" cy="213516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159160" y="2160720"/>
            <a:ext cx="456084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Русское название дано в честь петербургского ботаника, географа и этнографа И. Георги.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род объединяет, по разным данным, от 4 до 24 видов  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-5532480" y="227160"/>
            <a:ext cx="492120" cy="111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ское название дано в честь петербургского ботаника, географа и этнографа И. Георг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e6e6ff"/>
                </a:solidFill>
                <a:latin typeface="Times New Roman"/>
              </a:rPr>
              <a:t>Мухоловка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539640" y="2101680"/>
            <a:ext cx="3814920" cy="22719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3" descr=""/>
          <p:cNvPicPr/>
          <p:nvPr/>
        </p:nvPicPr>
        <p:blipFill>
          <a:blip r:embed="rId2"/>
          <a:stretch/>
        </p:blipFill>
        <p:spPr>
          <a:xfrm>
            <a:off x="720720" y="4587840"/>
            <a:ext cx="3600360" cy="227160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Серая мухоловка неброской окраски птица с длинными крыльями и хвостом. Взрослые птицы имеют серое, либо серо-бурое оперение.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20720" y="1080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e6e6ff"/>
                </a:solidFill>
                <a:latin typeface="Times New Roman"/>
              </a:rPr>
              <a:t>Трясогузка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576360" y="2340000"/>
            <a:ext cx="3670200" cy="39243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79640" y="1592280"/>
            <a:ext cx="504036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7000"/>
          </a:bodyPr>
          <a:p>
            <a:pPr marL="418680" indent="-31392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Отличий от других представителей семейства трясогузковых сравнительно немного. У длинного узкого, прямо обрезанного хвоста два средних пера немного длиннее боковых; 1-е маховое перо короче 2-го и 3-го; слабоизогнутый коготь заднего пальца короче самого пальца.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60360" y="2520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e6e6ff"/>
                </a:solidFill>
                <a:latin typeface="Times New Roman"/>
              </a:rPr>
              <a:t>Синица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360360" y="2160720"/>
            <a:ext cx="3597120" cy="356364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176720" y="1187280"/>
            <a:ext cx="6045120" cy="632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Times New Roman"/>
              </a:rPr>
              <a:t>Подвижная, вертлявая птица. В Европе самая крупная синица — размером примерно с воробья, имеет достаточно длинный хвост. Длина 13—17 см, масса 14—21 г, размах крыльев 22—26 см.[2] Имеет довольно яркое оперение, среди других птиц выделяясь прежде всего ярко-жёлтым брюшком с «галстуком» — широкой чёрной полосой от груди до гузки. Верх головы, или шапочка, чёрный с синим металлическим блеском. Щёки белые. На затылке желтовато-белое пятно.</a:t>
            </a:r>
            <a:endParaRPr b="0" lang="en-US" sz="28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20720" y="1080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e6e6ff"/>
                </a:solidFill>
                <a:latin typeface="Times New Roman"/>
              </a:rPr>
              <a:t>Славка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480" name="Picture 3" descr=""/>
          <p:cNvPicPr/>
          <p:nvPr/>
        </p:nvPicPr>
        <p:blipFill>
          <a:blip r:embed="rId1"/>
          <a:stretch/>
        </p:blipFill>
        <p:spPr>
          <a:xfrm>
            <a:off x="685800" y="2050920"/>
            <a:ext cx="3598920" cy="360072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896000" y="1258560"/>
            <a:ext cx="4929120" cy="5869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Населяют опушки леса и большие лесные поляны. Любят кустарниковые заросли по берегам рек. Питаются в основном жуками, гусеницами; в конце лета или в начале осени охотно едят ягоды малины, черники, бузины. Перелётная птица. Зимует в тропической и южной Африке.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76000" y="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e6e6ff"/>
                </a:solidFill>
                <a:latin typeface="Times New Roman"/>
              </a:rPr>
              <a:t>Воробей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483" name="Picture 3" descr=""/>
          <p:cNvPicPr/>
          <p:nvPr/>
        </p:nvPicPr>
        <p:blipFill>
          <a:blip r:embed="rId1"/>
          <a:stretch/>
        </p:blipFill>
        <p:spPr>
          <a:xfrm>
            <a:off x="360360" y="1908000"/>
            <a:ext cx="4248000" cy="403236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824360" y="1258560"/>
            <a:ext cx="4748400" cy="6048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7000"/>
          </a:bodyPr>
          <a:p>
            <a:pPr marL="418680" indent="-31392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Длина тела до 16 см, масса 23—35 г.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Общая окраска оперения — сверху коричневато-бурая, ржавчинного цвета с чёрными пятнами, снизу беловатая или серая. Щёки белые, ушная область бледно-серая. Крылья с желтовато-белой поперечной полосой.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92000" y="25056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e6e6ff"/>
                </a:solidFill>
                <a:latin typeface="Times New Roman"/>
              </a:rPr>
              <a:t>Колючник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719280" y="2556000"/>
            <a:ext cx="3168360" cy="360504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латинское название рода образовано от имени императора франков — Карла Великого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род насчитывает около 20 видов, распространенных в Европе, Азии и Северной Африке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20720" y="1080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e6e6ff"/>
                </a:solidFill>
                <a:latin typeface="Times New Roman"/>
              </a:rPr>
              <a:t>Трициртис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704880" y="2124000"/>
            <a:ext cx="3478320" cy="40672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151600" y="1979280"/>
            <a:ext cx="43876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древнегреческое, означает «три бугорка» (нектарника)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все виды рода — чрезвычайно декоративные травянистые растения. Произрастают в Японии и Гималаях. В роде 10 видов. 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18920" y="10800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e6e6ff"/>
                </a:solidFill>
                <a:latin typeface="Times New Roman"/>
              </a:rPr>
              <a:t>Пион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418" name="Picture 3" descr=""/>
          <p:cNvPicPr/>
          <p:nvPr/>
        </p:nvPicPr>
        <p:blipFill>
          <a:blip r:embed="rId1"/>
          <a:stretch/>
        </p:blipFill>
        <p:spPr>
          <a:xfrm>
            <a:off x="530280" y="2155680"/>
            <a:ext cx="3502080" cy="392292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79640" y="1618920"/>
            <a:ext cx="5219640" cy="55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от имени древнегреческого божества, отвратителя зла Пеана, который был врачом олимпийских богов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до нашего времени семейство пионовых сохранилось, как монотипное — с единственным родом пион (Paeonia L.). Он включает в себя не более 40 видов.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20720" y="3236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e6e6ff"/>
                </a:solidFill>
                <a:latin typeface="Times New Roman"/>
              </a:rPr>
              <a:t>Джефферсония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900000" y="1800360"/>
            <a:ext cx="3132360" cy="2573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"/>
          <p:cNvPicPr/>
          <p:nvPr/>
        </p:nvPicPr>
        <p:blipFill>
          <a:blip r:embed="rId2"/>
          <a:stretch/>
        </p:blipFill>
        <p:spPr>
          <a:xfrm>
            <a:off x="900000" y="4587840"/>
            <a:ext cx="3203640" cy="232416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в память о Томасе Джефферсоне, борце за независимость и одного из президентов Соединенных Штатов Америки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небольшой род, включающий всего 2 вида.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85600" y="17928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e6e6ff"/>
                </a:solidFill>
                <a:latin typeface="Times New Roman"/>
              </a:rPr>
              <a:t>Вишня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900000" y="1619280"/>
            <a:ext cx="2933640" cy="25210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" descr=""/>
          <p:cNvPicPr/>
          <p:nvPr/>
        </p:nvPicPr>
        <p:blipFill>
          <a:blip r:embed="rId2"/>
          <a:stretch/>
        </p:blipFill>
        <p:spPr>
          <a:xfrm>
            <a:off x="720720" y="4587840"/>
            <a:ext cx="3112920" cy="250812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Небольшой город Керасунда (греч.</a:t>
            </a: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 , находившийся между Фарнакией и Трапезундом, прославился вишнями.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47640" y="1792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e6e6ff"/>
                </a:solidFill>
                <a:latin typeface="Times New Roman"/>
              </a:rPr>
              <a:t>Черешня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429" name="Picture 3" descr=""/>
          <p:cNvPicPr/>
          <p:nvPr/>
        </p:nvPicPr>
        <p:blipFill>
          <a:blip r:embed="rId1"/>
          <a:stretch/>
        </p:blipFill>
        <p:spPr>
          <a:xfrm>
            <a:off x="719280" y="2484360"/>
            <a:ext cx="3276360" cy="392292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679640" y="1440000"/>
            <a:ext cx="5219640" cy="58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Черешня — древесное растение, принадлежащее к деревьям первой величины. Характеризуется быстрым ростом, особенно в молодом возрасте. Крона яйцевидной формы, однако, в зависимости от условий роста, её форма может изменяться от яйцевидной к конусообразной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18920" y="250560"/>
            <a:ext cx="860724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e6e6ff"/>
                </a:solidFill>
                <a:latin typeface="Times New Roman"/>
              </a:rPr>
              <a:t>Клубника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432" name="Picture 2" descr=""/>
          <p:cNvPicPr/>
          <p:nvPr/>
        </p:nvPicPr>
        <p:blipFill>
          <a:blip r:embed="rId1"/>
          <a:stretch/>
        </p:blipFill>
        <p:spPr>
          <a:xfrm>
            <a:off x="719280" y="2340000"/>
            <a:ext cx="3465360" cy="396072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151600" y="2101680"/>
            <a:ext cx="43876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7000"/>
          </a:bodyPr>
          <a:p>
            <a:pPr marL="418680" indent="-31392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Многолетнее травянистое растение 15—35 сантиметров высотой. Стебель прямостоячий, железистоопушённый.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4186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Листья крупные, тройчатые, светло-зелёного цвета.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0T13:22:35Z</dcterms:created>
  <dc:creator/>
  <dc:description/>
  <dc:language>en-US</dc:language>
  <cp:lastModifiedBy>User</cp:lastModifiedBy>
  <dcterms:modified xsi:type="dcterms:W3CDTF">2013-10-08T17:53:24Z</dcterms:modified>
  <cp:revision>4</cp:revision>
  <dc:subject/>
  <dc:title>Сад</dc:title>
</cp:coreProperties>
</file>