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511-5094-4EF6-8705-BB626A7A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483-820A-42B4-A971-9553F1F8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B78A32-ECC2-4887-8AAD-DAC5599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DB106E-DBEC-4132-9C05-A34EC4FC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B46C98-46CC-4B55-B2DF-D2A44D4D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B36EA-C4E1-416D-B18A-23A8FD50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DD8A7-AEA3-4BC0-B044-D6CE1940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815E3F-FF42-4E49-AA1B-803D096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EB3C62-37CB-4BF6-8687-69C09102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2408AD-DBE8-4FAA-A456-D4104C73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2F872C-D5D0-4AC5-9DB9-94C2F3B0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777-D929-4310-B035-AFAC2117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22A-3B58-4749-ACF7-C94479EF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AD8EE-6430-4995-B1B1-4A5062A7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1EB34-96C4-46EC-9402-EF5D9FB6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46CA1-9351-4BDD-8619-6C7002BD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B677A-902A-408B-BBEA-F0A7B448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3E881-B214-43BC-A07F-C3C61F9C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CDD64-D99B-4D28-A1DC-CE589CE2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C5476-0F38-4B2E-B4C9-5DD8BAFE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99A-6676-4F46-BD9F-775C95D8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325CF-17BB-4A01-AE4B-2ABFC2E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3EC16-6CC6-4509-98F0-00644CAA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45051-E769-430A-9996-366BF826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90E9A-6D41-4921-87F6-21F64296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168CF-968C-4860-ACF6-9E6AFAA1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EE39E-3E93-45CC-B1D3-654BB88F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35C8-8274-4BCA-AAAB-BAE36B9A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608F-1EC5-493F-A32B-5F489612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9594-2B5F-4FED-A997-E87ECD9F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0B95-3B56-4A08-9D44-74D3337E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473-8629-45C4-A48C-3C7BD1A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F379-4F3C-472A-B398-351E208C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ECCDC-386D-4D1A-882D-DA6D7E6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C33F-A986-4C32-96B1-2D19BCD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A6F2-F235-4824-B09A-94A5326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726E-54A6-4EB2-8EC6-A7EFBFDB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CA23-38A6-4DEB-97CB-5E5A6026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5808-5714-4369-BE19-00E10C53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0984FF-EFD2-4002-BC34-D9A60A40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1BF52-BB81-43C0-A55B-885E48C4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6A851-C2AB-47F6-9A15-E8200C85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994-609B-4FB7-BC65-F8AD1F0D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C4FAD-7826-4B61-9837-6A4FF861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DDEFE-1F8F-4C54-B377-E8BCCC37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CC8DE-48B0-4194-A95F-E0804554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2E443-325F-439F-967B-8B416E6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8F44D-DD4B-4506-A57B-A49B5C9D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4F99B-B8D5-41B4-9F4A-8B48D2DB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88110-F20A-410E-9C13-26DEB330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E6CFD-2DF8-4DDC-B070-C745B6BB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AE50E7-09B5-4104-BF58-B9657FB0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FFD10-021D-40FC-ACE6-73CEE929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F5E-4887-4297-93D7-523B56DA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E960-7969-4977-A9AB-AFA00465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84023-4C26-4BEA-93DA-EB4A888D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51002-7D94-441F-B061-B447C1C1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60B26-A5B1-40C5-A161-C1ECEF7A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41160-B3B4-452D-A19B-D4F55D49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EC62A-AB86-409E-AF7C-B209EF1D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FC41-04B6-49EF-8BB6-1F31B5FD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92198-76A8-42D6-BE26-EA943CF0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D05C3-1A9B-4EDE-8160-B20B7563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8B0C9-918A-466F-85CF-D8637B8D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A85-107F-4ECC-804C-25F31F0F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B8908-21FF-4F44-91AF-56333116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3FD71-7B3F-45EF-BBA9-B9A1663F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4ED13-89E0-44DE-A676-35FE399B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C9FEC-4E14-414D-85F9-093D0FB5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59A39-7F3D-4AAD-BBA9-F3DC5D77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5920-F9C7-4293-A7C1-5E312199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9171A-8212-4689-820E-593C9A4E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ED6F-7A59-424B-BE65-CABC2B57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F624E-CD0A-4250-915E-EEBA5BC8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853F-6E9C-4E97-8A52-29CE651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777-3DF2-4648-A61C-F84E35A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65522-2D82-4891-9D5A-508FEEF7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D9064-58A5-41AB-83E6-D3805DCA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3D46B-CEE7-42DF-ACD7-49DB089C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C4658-E24E-4F9C-9B59-57DBE529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11AEE-D587-4C66-9465-2BE61252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D3E34-BD58-47B7-A96B-CF71E1C5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B881C-DA98-4C3E-9F58-D9FFD165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1C7D-3B8D-47E5-8A61-08E353F3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D7A7E-3CDA-4D18-806E-D17AE0BA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56CDE-75F6-48AF-B496-7642DC23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5ED-015A-46BA-B222-94D19272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D7E05-A3C5-4231-90C0-9C4A076C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F9EB8-34BD-4E84-AAD1-1CCB0F05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B0B8-981B-4124-9F77-6145F74D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CAC5-34BD-44BC-915F-08B970E8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0F7C3-E656-4269-8E46-C26C41AE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F1BD2-88CD-467F-80FE-DFDF136C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CAF4BE-B1B4-4C1C-B9B5-0E8FEA5B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7DFF3E-CA1F-4DF2-B863-B3F28DAC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FBB616-F572-47EF-9D12-74BA25CE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1D6640-8CB9-4E1B-8487-16821755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313-62CA-4B4B-B0D1-BD234EEC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AE66F1-860D-4C24-8FB3-37817EE7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5AB8FD-F401-438A-ABAF-AFE2A865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16473F-B336-4F24-889A-8D9F51D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FE98A-B6A6-49CB-B4F2-04A95DEF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9AD8B5-1053-428D-9BF5-D6F37210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3C1A1-E77E-4714-9B79-64FD05FA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E78564-4801-4005-AD57-A6CBA2C7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CD96D0-C949-4039-A0A5-B4D7D721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24C333-04ED-4779-AF90-08924C68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631BD5-0291-4790-BF64-A7520E76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88F2-6AD9-4E4C-8CD9-F99573735D63}" type="slidenum">
              <a:rPr b="0" lang="ru-RU" sz="16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58D9-5F0B-44BD-8FCA-8902A89FA4C9}" type="slidenum">
              <a:rPr b="0" lang="ru-RU" sz="16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1EAF-0B4B-4626-98A8-1EFEE238BB7E}" type="slidenum">
              <a:rPr b="0" lang="ru-RU" sz="16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E8AB-1CA3-441D-8D8B-EB9561A7A19F}" type="slidenum">
              <a:rPr b="0" lang="ru-RU" sz="16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2FC4-497E-408E-823F-D25D81715665}" type="slidenum">
              <a:rPr b="0" lang="ru-RU" sz="16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0DC6-B301-472E-BD8C-92EA8F16243B}" type="slidenum">
              <a:rPr b="0" lang="ru-RU" sz="16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3456-B2AC-4228-B23A-7EBD7F004A9E}" type="slidenum">
              <a:rPr b="0" lang="ru-RU" sz="16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F030-BEE5-45A2-A75F-367CE1444E97}" type="slidenum">
              <a:rPr b="0" lang="ru-RU" sz="16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9E2A-06E9-4EC3-B083-BBE0B48B5C55}" type="slidenum">
              <a:rPr b="0" lang="ru-RU" sz="16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hyperlink" Target="http://www.mypriroda.ru/animals_lug17.php" TargetMode="External"/><Relationship Id="rId5" Type="http://schemas.openxmlformats.org/officeDocument/2006/relationships/hyperlink" Target="http://www.mypriroda.ru/animals_lug19.php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Скругленный прямоугольник 4">
            <a:hlinkClick r:id="rId1"/>
          </p:cNvPr>
          <p:cNvSpPr/>
          <p:nvPr/>
        </p:nvSpPr>
        <p:spPr>
          <a:xfrm flipV="1">
            <a:off x="3898800" y="6831720"/>
            <a:ext cx="1346400" cy="412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Rockwel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250920" y="234936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приятно пройтись летом по цветущему лугу, поваляться в зеленой траве! Но, совершая такие прогулки, мы, как правило, не задумываемся о многообразии живых существ, окружающих нас. А ведь луг является домом для целого ряда насекомых, птиц, грызунов, земноводных. Прислушайтесь повнимательнее, и вы услышите стрекотание кузнечика, жужжание шмеля, пение жаворонка. Присмотритесь хорошенько, и заметите в траве лягушку, ящерицу или мышь. Животный мир лугов связан с растительностью. Луговые травы невысокие, крупным животным трудно найти в них убежище. Нет такого разнообразия пищи, как в лесах. Поэтому животный мир лугов значительно беднее животного мира лесов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ше всего здесь живет мелких животных: грызунов, птиц, насекомых. Большинство их питается соком цветов, семенами растений или поедает более мелких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http://razvitoy.ru/wp-content/uploads/druzhnaya-luzhajka.jpg"/>
          <p:cNvPicPr/>
          <p:nvPr/>
        </p:nvPicPr>
        <p:blipFill>
          <a:blip r:embed="rId2"/>
          <a:stretch/>
        </p:blipFill>
        <p:spPr>
          <a:xfrm>
            <a:off x="250920" y="333360"/>
            <a:ext cx="4249800" cy="199080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9" descr=""/>
          <p:cNvPicPr/>
          <p:nvPr/>
        </p:nvPicPr>
        <p:blipFill>
          <a:blip r:embed="rId3"/>
          <a:stretch/>
        </p:blipFill>
        <p:spPr>
          <a:xfrm>
            <a:off x="4516560" y="152280"/>
            <a:ext cx="4798800" cy="2365560"/>
          </a:xfrm>
          <a:prstGeom prst="rect">
            <a:avLst/>
          </a:prstGeom>
          <a:ln w="0">
            <a:noFill/>
          </a:ln>
        </p:spPr>
      </p:pic>
      <p:pic>
        <p:nvPicPr>
          <p:cNvPr id="398" name="muzika_dlya_relaksacii_-_zakat_u_kraya_vodi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4"/>
          <p:cNvSpPr txBox="1"/>
          <p:nvPr/>
        </p:nvSpPr>
        <p:spPr>
          <a:xfrm>
            <a:off x="1332000" y="2421000"/>
            <a:ext cx="6769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95280" y="322920"/>
            <a:ext cx="8569440" cy="4057920"/>
          </a:xfrm>
          <a:prstGeom prst="rect">
            <a:avLst/>
          </a:prstGeom>
          <a:gradFill rotWithShape="0">
            <a:gsLst>
              <a:gs pos="0">
                <a:srgbClr val="c4dbe2"/>
              </a:gs>
              <a:gs pos="100000">
                <a:srgbClr val="abd3de"/>
              </a:gs>
            </a:gsLst>
            <a:lin ang="5400000"/>
          </a:gradFill>
          <a:ln w="11520">
            <a:solidFill>
              <a:srgbClr val="a8cdd7"/>
            </a:solidFill>
            <a:miter/>
          </a:ln>
          <a:effectLst>
            <a:outerShdw dist="12600" dir="5400000" blurRad="0" rotWithShape="0">
              <a:srgbClr val="657c82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d3232"/>
                </a:solidFill>
                <a:latin typeface="Cambria"/>
                <a:ea typeface="Arial"/>
              </a:rPr>
              <a:t>Луг разный, но он не только ценный кладезь лекарственных трав, в нем строят свои дома маленькие и большие животные луга, которые считают это замечательное пространство своей территорией. Эта привычная для них среда обитания полна тайн и загадок. Многие из них только предстоит познать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d3232"/>
                </a:solidFill>
                <a:latin typeface="Cambria"/>
                <a:ea typeface="Arial"/>
              </a:rPr>
              <a:t>Животные луга – это приблизительно тридцать различных видов и все они живут тихо, для людей почти незаметно, но сообщество их строго упорядочено и очень интересно. Здесь для каждого найдется уютная норка или в зарослях совсем незаметное птичье гнездышко. А еще это может быть просто листик или выемка в небольшом бревнышке, где с удовольствием живет семья насеко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http://a18003.rimg.info/icon/15945270004458c9fcc674a79680dfac988d45ad88.jpg"/>
          <p:cNvPicPr/>
          <p:nvPr/>
        </p:nvPicPr>
        <p:blipFill>
          <a:blip r:embed="rId1"/>
          <a:stretch/>
        </p:blipFill>
        <p:spPr>
          <a:xfrm>
            <a:off x="395280" y="4292640"/>
            <a:ext cx="8569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6480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ru-RU" sz="1800" spc="-1" strike="noStrike">
                <a:solidFill>
                  <a:srgbClr val="7030a0"/>
                </a:solidFill>
                <a:latin typeface="Cambria"/>
              </a:rPr>
              <a:t>то самая  многочисленная группа животных, насчитывающая около 1,5 млн видов. У насекомых 6 ног(3 пары), а тело четко разделено на голову, грудь и брюшко.Величина насекомых очень различна: от 0,25 мм до 30 см. Насекомые очень устойчивы к неблагоприятным условиям среды: некоторые выживают даже после того, как замерзнут при температуре -30%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00" name="Picture 6" descr="гусеница-copy"/>
          <p:cNvPicPr/>
          <p:nvPr/>
        </p:nvPicPr>
        <p:blipFill>
          <a:blip r:embed="rId1"/>
          <a:stretch/>
        </p:blipFill>
        <p:spPr>
          <a:xfrm>
            <a:off x="7093080" y="189000"/>
            <a:ext cx="1873080" cy="640872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4" descr=""/>
          <p:cNvPicPr/>
          <p:nvPr/>
        </p:nvPicPr>
        <p:blipFill>
          <a:blip r:embed="rId2"/>
          <a:stretch/>
        </p:blipFill>
        <p:spPr>
          <a:xfrm>
            <a:off x="1901880" y="12600"/>
            <a:ext cx="6126120" cy="1535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Махаон"/>
          <p:cNvPicPr/>
          <p:nvPr/>
        </p:nvPicPr>
        <p:blipFill>
          <a:blip r:embed="rId3"/>
          <a:stretch/>
        </p:blipFill>
        <p:spPr>
          <a:xfrm>
            <a:off x="755640" y="4005360"/>
            <a:ext cx="3529080" cy="23241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6"/>
          <p:cNvSpPr/>
          <p:nvPr/>
        </p:nvSpPr>
        <p:spPr>
          <a:xfrm>
            <a:off x="4427640" y="5732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аха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muzika_dlya_relaksacii_-_zakat_u_kraya_vodi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стрек"/>
          <p:cNvPicPr/>
          <p:nvPr/>
        </p:nvPicPr>
        <p:blipFill>
          <a:blip r:embed="rId1"/>
          <a:stretch/>
        </p:blipFill>
        <p:spPr>
          <a:xfrm>
            <a:off x="5651640" y="4221000"/>
            <a:ext cx="2952720" cy="23767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1"/>
          <p:cNvSpPr/>
          <p:nvPr/>
        </p:nvSpPr>
        <p:spPr>
          <a:xfrm>
            <a:off x="3851280" y="5300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трек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" descr="o6813"/>
          <p:cNvPicPr/>
          <p:nvPr/>
        </p:nvPicPr>
        <p:blipFill>
          <a:blip r:embed="rId2"/>
          <a:stretch/>
        </p:blipFill>
        <p:spPr>
          <a:xfrm>
            <a:off x="504720" y="4495680"/>
            <a:ext cx="3168720" cy="22464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4"/>
          <p:cNvSpPr/>
          <p:nvPr/>
        </p:nvSpPr>
        <p:spPr>
          <a:xfrm>
            <a:off x="3635280" y="4508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9" descr="Серый кузнечик"/>
          <p:cNvPicPr/>
          <p:nvPr/>
        </p:nvPicPr>
        <p:blipFill>
          <a:blip r:embed="rId3"/>
          <a:stretch/>
        </p:blipFill>
        <p:spPr>
          <a:xfrm>
            <a:off x="4932360" y="333360"/>
            <a:ext cx="3240000" cy="16556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2"/>
          <p:cNvSpPr/>
          <p:nvPr/>
        </p:nvSpPr>
        <p:spPr>
          <a:xfrm>
            <a:off x="5219640" y="1844640"/>
            <a:ext cx="28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ерый кузне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1" descr="Навозник обыкновенный"/>
          <p:cNvPicPr/>
          <p:nvPr/>
        </p:nvPicPr>
        <p:blipFill>
          <a:blip r:embed="rId4"/>
          <a:stretch/>
        </p:blipFill>
        <p:spPr>
          <a:xfrm>
            <a:off x="468360" y="620640"/>
            <a:ext cx="3311640" cy="27050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24"/>
          <p:cNvSpPr/>
          <p:nvPr/>
        </p:nvSpPr>
        <p:spPr>
          <a:xfrm>
            <a:off x="468360" y="3357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авозник обыкно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3" descr="Могильщик погребальный"/>
          <p:cNvPicPr/>
          <p:nvPr/>
        </p:nvPicPr>
        <p:blipFill>
          <a:blip r:embed="rId5"/>
          <a:stretch/>
        </p:blipFill>
        <p:spPr>
          <a:xfrm>
            <a:off x="3851280" y="2492280"/>
            <a:ext cx="2381400" cy="16668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26"/>
          <p:cNvSpPr/>
          <p:nvPr/>
        </p:nvSpPr>
        <p:spPr>
          <a:xfrm>
            <a:off x="6516720" y="2708280"/>
            <a:ext cx="29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огильщик погреб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muzika_dlya_relaksacii_-_zakat_u_kraya_vodi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Голубянка-икар"/>
          <p:cNvPicPr/>
          <p:nvPr/>
        </p:nvPicPr>
        <p:blipFill>
          <a:blip r:embed="rId1"/>
          <a:stretch/>
        </p:blipFill>
        <p:spPr>
          <a:xfrm>
            <a:off x="5724360" y="189000"/>
            <a:ext cx="2381400" cy="1952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4"/>
          <p:cNvSpPr/>
          <p:nvPr/>
        </p:nvSpPr>
        <p:spPr>
          <a:xfrm>
            <a:off x="3780000" y="476280"/>
            <a:ext cx="18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Голубянка-ик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Совка-гамма"/>
          <p:cNvPicPr/>
          <p:nvPr/>
        </p:nvPicPr>
        <p:blipFill>
          <a:blip r:embed="rId2"/>
          <a:stretch/>
        </p:blipFill>
        <p:spPr>
          <a:xfrm>
            <a:off x="3059280" y="1484280"/>
            <a:ext cx="2381040" cy="1428840"/>
          </a:xfrm>
          <a:prstGeom prst="rect">
            <a:avLst/>
          </a:prstGeom>
          <a:ln w="0">
            <a:noFill/>
          </a:ln>
        </p:spPr>
      </p:pic>
      <p:sp>
        <p:nvSpPr>
          <p:cNvPr id="419" name="TextBox 6"/>
          <p:cNvSpPr/>
          <p:nvPr/>
        </p:nvSpPr>
        <p:spPr>
          <a:xfrm>
            <a:off x="5435640" y="2205000"/>
            <a:ext cx="31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Совка-г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9" descr="Блошка земляная"/>
          <p:cNvPicPr/>
          <p:nvPr/>
        </p:nvPicPr>
        <p:blipFill>
          <a:blip r:embed="rId3"/>
          <a:stretch/>
        </p:blipFill>
        <p:spPr>
          <a:xfrm>
            <a:off x="395280" y="476280"/>
            <a:ext cx="2381400" cy="15904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8"/>
          <p:cNvSpPr/>
          <p:nvPr/>
        </p:nvSpPr>
        <p:spPr>
          <a:xfrm flipH="1">
            <a:off x="826200" y="2060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Блошка</a:t>
            </a: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земля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1" descr="Луговой мотылек"/>
          <p:cNvPicPr/>
          <p:nvPr/>
        </p:nvPicPr>
        <p:blipFill>
          <a:blip r:embed="rId4"/>
          <a:stretch/>
        </p:blipFill>
        <p:spPr>
          <a:xfrm>
            <a:off x="5651640" y="3789360"/>
            <a:ext cx="2381040" cy="205740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10"/>
          <p:cNvSpPr/>
          <p:nvPr/>
        </p:nvSpPr>
        <p:spPr>
          <a:xfrm>
            <a:off x="5651640" y="3244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Луговой моты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3" descr="Щелкун полосатый"/>
          <p:cNvPicPr/>
          <p:nvPr/>
        </p:nvPicPr>
        <p:blipFill>
          <a:blip r:embed="rId5"/>
          <a:stretch/>
        </p:blipFill>
        <p:spPr>
          <a:xfrm>
            <a:off x="324000" y="3141720"/>
            <a:ext cx="2381040" cy="15145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12"/>
          <p:cNvSpPr/>
          <p:nvPr/>
        </p:nvSpPr>
        <p:spPr>
          <a:xfrm>
            <a:off x="2700360" y="3429000"/>
            <a:ext cx="29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Щелкун полоса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5" descr="Пчеловидка обыкновенная"/>
          <p:cNvPicPr/>
          <p:nvPr/>
        </p:nvPicPr>
        <p:blipFill>
          <a:blip r:embed="rId6"/>
          <a:stretch/>
        </p:blipFill>
        <p:spPr>
          <a:xfrm>
            <a:off x="2987640" y="4581360"/>
            <a:ext cx="2381400" cy="175284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14"/>
          <p:cNvSpPr/>
          <p:nvPr/>
        </p:nvSpPr>
        <p:spPr>
          <a:xfrm>
            <a:off x="900000" y="54608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Пчеловидка обыкно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6"/>
          <p:cNvSpPr/>
          <p:nvPr/>
        </p:nvSpPr>
        <p:spPr>
          <a:xfrm>
            <a:off x="250920" y="476280"/>
            <a:ext cx="41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75439"/>
                </a:solidFill>
                <a:latin typeface="Arial"/>
              </a:rPr>
              <a:t>Грызуны — один из самый многочисленных отрядов млекопитающих. Насчитывают свыше 30 семейств, включающих более 2200 видов. Населяют разнообразные жизненные пространства. </a:t>
            </a:r>
            <a:br>
              <a:rPr sz="1800"/>
            </a:br>
            <a:r>
              <a:rPr b="0" i="1" lang="ru-RU" sz="1800" spc="-1" strike="noStrike">
                <a:solidFill>
                  <a:srgbClr val="375439"/>
                </a:solidFill>
                <a:latin typeface="Arial"/>
              </a:rPr>
              <a:t>Большинство этих млекопитающих представляют собой мелких четвероногих животных с длинными хвостами, когтями, лапами, усами и зубами. Они обитают на земле, но некоторые виды приспособлены к обитанию на деревьях (белки), роют землю (слепыши) или же проводят полуводный образ жизни (бобры). Многие виды грызунов живут большими сообществами, а такие как сурки – поодино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Обыкновенная полевка"/>
          <p:cNvPicPr/>
          <p:nvPr/>
        </p:nvPicPr>
        <p:blipFill>
          <a:blip r:embed="rId1"/>
          <a:stretch/>
        </p:blipFill>
        <p:spPr>
          <a:xfrm>
            <a:off x="6156360" y="1052640"/>
            <a:ext cx="2381040" cy="18000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8"/>
          <p:cNvSpPr/>
          <p:nvPr/>
        </p:nvSpPr>
        <p:spPr>
          <a:xfrm>
            <a:off x="5580000" y="299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375439"/>
                </a:solidFill>
                <a:uFillTx/>
                <a:latin typeface="Arial"/>
              </a:rPr>
              <a:t>Обыкновенная поле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7" descr="Мышь-малютка"/>
          <p:cNvPicPr/>
          <p:nvPr/>
        </p:nvPicPr>
        <p:blipFill>
          <a:blip r:embed="rId2"/>
          <a:stretch/>
        </p:blipFill>
        <p:spPr>
          <a:xfrm>
            <a:off x="4284720" y="4149720"/>
            <a:ext cx="2448000" cy="17272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10"/>
          <p:cNvSpPr/>
          <p:nvPr/>
        </p:nvSpPr>
        <p:spPr>
          <a:xfrm>
            <a:off x="6732720" y="4292640"/>
            <a:ext cx="23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375439"/>
                </a:solidFill>
                <a:uFillTx/>
                <a:latin typeface="Arial"/>
              </a:rPr>
              <a:t>Мышь-малю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оугольник 7" descr=""/>
          <p:cNvPicPr/>
          <p:nvPr/>
        </p:nvPicPr>
        <p:blipFill>
          <a:blip r:embed="rId3"/>
          <a:stretch/>
        </p:blipFill>
        <p:spPr>
          <a:xfrm>
            <a:off x="2882880" y="55440"/>
            <a:ext cx="5578560" cy="1608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2" descr="Европейский крот"/>
          <p:cNvPicPr/>
          <p:nvPr/>
        </p:nvPicPr>
        <p:blipFill>
          <a:blip r:embed="rId1"/>
          <a:stretch/>
        </p:blipFill>
        <p:spPr>
          <a:xfrm>
            <a:off x="539640" y="692280"/>
            <a:ext cx="2381400" cy="1571400"/>
          </a:xfrm>
          <a:prstGeom prst="rect">
            <a:avLst/>
          </a:prstGeom>
          <a:ln w="0">
            <a:noFill/>
          </a:ln>
        </p:spPr>
      </p:pic>
      <p:sp>
        <p:nvSpPr>
          <p:cNvPr id="435" name="TextBox 11"/>
          <p:cNvSpPr/>
          <p:nvPr/>
        </p:nvSpPr>
        <p:spPr>
          <a:xfrm>
            <a:off x="468360" y="260280"/>
            <a:ext cx="51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d3232"/>
                </a:solidFill>
                <a:uFillTx/>
                <a:latin typeface="Arial"/>
              </a:rPr>
              <a:t>Европейский к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луговая собачка"/>
          <p:cNvPicPr/>
          <p:nvPr/>
        </p:nvPicPr>
        <p:blipFill>
          <a:blip r:embed="rId2"/>
          <a:stretch/>
        </p:blipFill>
        <p:spPr>
          <a:xfrm>
            <a:off x="0" y="3716280"/>
            <a:ext cx="3059280" cy="2668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539640" y="306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d3232"/>
                </a:solidFill>
                <a:uFillTx/>
                <a:latin typeface="Arial"/>
              </a:rPr>
              <a:t>Луговая соб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http://img-fotki.yandex.ru/get/35/smithiantha.8/0_13d12_9dea6d1a_XL"/>
          <p:cNvPicPr/>
          <p:nvPr/>
        </p:nvPicPr>
        <p:blipFill>
          <a:blip r:embed="rId3"/>
          <a:stretch/>
        </p:blipFill>
        <p:spPr>
          <a:xfrm>
            <a:off x="4751280" y="4365720"/>
            <a:ext cx="4392720" cy="28083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6"/>
          <p:cNvSpPr/>
          <p:nvPr/>
        </p:nvSpPr>
        <p:spPr>
          <a:xfrm>
            <a:off x="4932360" y="37162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d3232"/>
                </a:solidFill>
                <a:uFillTx/>
                <a:latin typeface="Arial"/>
              </a:rPr>
              <a:t>Водяная кры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3" descr="b6782"/>
          <p:cNvPicPr/>
          <p:nvPr/>
        </p:nvPicPr>
        <p:blipFill>
          <a:blip r:embed="rId4"/>
          <a:stretch/>
        </p:blipFill>
        <p:spPr>
          <a:xfrm>
            <a:off x="4211640" y="476280"/>
            <a:ext cx="3780000" cy="24480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8"/>
          <p:cNvSpPr/>
          <p:nvPr/>
        </p:nvSpPr>
        <p:spPr>
          <a:xfrm>
            <a:off x="4788000" y="299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d3232"/>
                </a:solidFill>
                <a:uFillTx/>
                <a:latin typeface="Arial"/>
              </a:rPr>
              <a:t>Сус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5"/>
          <p:cNvSpPr/>
          <p:nvPr/>
        </p:nvSpPr>
        <p:spPr>
          <a:xfrm>
            <a:off x="395280" y="1557360"/>
            <a:ext cx="64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говые птицы из-за отсутствия деревьев вынуждены устраивать гнезда на земле (жаворонки, перепела, дрофы, степные орлы, болотные совы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Прямоугольник 3" descr=""/>
          <p:cNvPicPr/>
          <p:nvPr/>
        </p:nvPicPr>
        <p:blipFill>
          <a:blip r:embed="rId1"/>
          <a:stretch/>
        </p:blipFill>
        <p:spPr>
          <a:xfrm>
            <a:off x="2816280" y="285840"/>
            <a:ext cx="3505320" cy="1592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Обыкновенный перепел"/>
          <p:cNvPicPr/>
          <p:nvPr/>
        </p:nvPicPr>
        <p:blipFill>
          <a:blip r:embed="rId2"/>
          <a:stretch/>
        </p:blipFill>
        <p:spPr>
          <a:xfrm>
            <a:off x="611280" y="2637000"/>
            <a:ext cx="2381040" cy="1962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Сорокопут-жулан"/>
          <p:cNvPicPr/>
          <p:nvPr/>
        </p:nvPicPr>
        <p:blipFill>
          <a:blip r:embed="rId3"/>
          <a:stretch/>
        </p:blipFill>
        <p:spPr>
          <a:xfrm>
            <a:off x="3492360" y="4653000"/>
            <a:ext cx="2381400" cy="1895400"/>
          </a:xfrm>
          <a:prstGeom prst="rect">
            <a:avLst/>
          </a:prstGeom>
          <a:ln w="0">
            <a:noFill/>
          </a:ln>
        </p:spPr>
      </p:pic>
      <p:sp>
        <p:nvSpPr>
          <p:cNvPr id="446" name="TextBox 6"/>
          <p:cNvSpPr/>
          <p:nvPr/>
        </p:nvSpPr>
        <p:spPr>
          <a:xfrm>
            <a:off x="5867280" y="5157720"/>
            <a:ext cx="32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d3232"/>
                </a:solidFill>
                <a:uFillTx/>
                <a:latin typeface="Arial"/>
              </a:rPr>
              <a:t>Сорокопут-жу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7"/>
          <p:cNvSpPr/>
          <p:nvPr/>
        </p:nvSpPr>
        <p:spPr>
          <a:xfrm>
            <a:off x="3195360" y="324468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b5353"/>
                </a:solidFill>
                <a:uFillTx/>
                <a:latin typeface="Arial"/>
                <a:hlinkClick r:id="rId4"/>
              </a:rPr>
              <a:t>Обыкновенный переп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8"/>
          <p:cNvSpPr/>
          <p:nvPr/>
        </p:nvSpPr>
        <p:spPr>
          <a:xfrm>
            <a:off x="6588000" y="1268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b5353"/>
                </a:solidFill>
                <a:uFillTx/>
                <a:latin typeface="Arial"/>
                <a:hlinkClick r:id="rId5"/>
              </a:rPr>
              <a:t>Чиб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8" descr="чибис"/>
          <p:cNvPicPr/>
          <p:nvPr/>
        </p:nvPicPr>
        <p:blipFill>
          <a:blip r:embed="rId6"/>
          <a:stretch/>
        </p:blipFill>
        <p:spPr>
          <a:xfrm>
            <a:off x="6300720" y="1773360"/>
            <a:ext cx="2381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Бекас"/>
          <p:cNvPicPr/>
          <p:nvPr/>
        </p:nvPicPr>
        <p:blipFill>
          <a:blip r:embed="rId1"/>
          <a:stretch/>
        </p:blipFill>
        <p:spPr>
          <a:xfrm>
            <a:off x="611280" y="836640"/>
            <a:ext cx="2381040" cy="232416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2"/>
          <p:cNvSpPr/>
          <p:nvPr/>
        </p:nvSpPr>
        <p:spPr>
          <a:xfrm>
            <a:off x="3059280" y="126828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d3232"/>
                </a:solidFill>
                <a:uFillTx/>
                <a:latin typeface="Arial"/>
              </a:rPr>
              <a:t>Бек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Коростель"/>
          <p:cNvPicPr/>
          <p:nvPr/>
        </p:nvPicPr>
        <p:blipFill>
          <a:blip r:embed="rId2"/>
          <a:stretch/>
        </p:blipFill>
        <p:spPr>
          <a:xfrm>
            <a:off x="5580000" y="620640"/>
            <a:ext cx="2381400" cy="252432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4"/>
          <p:cNvSpPr/>
          <p:nvPr/>
        </p:nvSpPr>
        <p:spPr>
          <a:xfrm>
            <a:off x="3924360" y="22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d3232"/>
                </a:solidFill>
                <a:uFillTx/>
                <a:latin typeface="Arial"/>
              </a:rPr>
              <a:t>Корос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Полевой жаворонок"/>
          <p:cNvPicPr/>
          <p:nvPr/>
        </p:nvPicPr>
        <p:blipFill>
          <a:blip r:embed="rId3"/>
          <a:stretch/>
        </p:blipFill>
        <p:spPr>
          <a:xfrm>
            <a:off x="684360" y="3860640"/>
            <a:ext cx="2381040" cy="24861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6"/>
          <p:cNvSpPr/>
          <p:nvPr/>
        </p:nvSpPr>
        <p:spPr>
          <a:xfrm>
            <a:off x="2843280" y="4437000"/>
            <a:ext cx="28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d3232"/>
                </a:solidFill>
                <a:uFillTx/>
                <a:latin typeface="Arial"/>
              </a:rPr>
              <a:t>Полевой жавор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8" descr="Луговой чекан"/>
          <p:cNvPicPr/>
          <p:nvPr/>
        </p:nvPicPr>
        <p:blipFill>
          <a:blip r:embed="rId4"/>
          <a:stretch/>
        </p:blipFill>
        <p:spPr>
          <a:xfrm>
            <a:off x="5651640" y="3645000"/>
            <a:ext cx="2381040" cy="17809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5796000" y="573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d3232"/>
                </a:solidFill>
                <a:latin typeface="Arial"/>
              </a:rPr>
              <a:t>Луговой че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Прямоугольник 1" descr=""/>
          <p:cNvPicPr/>
          <p:nvPr/>
        </p:nvPicPr>
        <p:blipFill>
          <a:blip r:embed="rId1"/>
          <a:stretch/>
        </p:blipFill>
        <p:spPr>
          <a:xfrm>
            <a:off x="1639800" y="274680"/>
            <a:ext cx="5857920" cy="1955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Зелёная жаба"/>
          <p:cNvPicPr/>
          <p:nvPr/>
        </p:nvPicPr>
        <p:blipFill>
          <a:blip r:embed="rId2"/>
          <a:stretch/>
        </p:blipFill>
        <p:spPr>
          <a:xfrm>
            <a:off x="539640" y="1413000"/>
            <a:ext cx="3600720" cy="2592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3"/>
          <p:cNvSpPr/>
          <p:nvPr/>
        </p:nvSpPr>
        <p:spPr>
          <a:xfrm>
            <a:off x="3059280" y="18446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елёная жа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Травяная лягушка"/>
          <p:cNvPicPr/>
          <p:nvPr/>
        </p:nvPicPr>
        <p:blipFill>
          <a:blip r:embed="rId3"/>
          <a:stretch/>
        </p:blipFill>
        <p:spPr>
          <a:xfrm>
            <a:off x="5940360" y="1773360"/>
            <a:ext cx="3024360" cy="239076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5"/>
          <p:cNvSpPr/>
          <p:nvPr/>
        </p:nvSpPr>
        <p:spPr>
          <a:xfrm>
            <a:off x="5867280" y="1341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авяная ляг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6"/>
          <p:cNvSpPr/>
          <p:nvPr/>
        </p:nvSpPr>
        <p:spPr>
          <a:xfrm>
            <a:off x="684360" y="4365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ыткая ящер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Прыткая ящерица"/>
          <p:cNvPicPr/>
          <p:nvPr/>
        </p:nvPicPr>
        <p:blipFill>
          <a:blip r:embed="rId4"/>
          <a:stretch/>
        </p:blipFill>
        <p:spPr>
          <a:xfrm>
            <a:off x="2771640" y="3860640"/>
            <a:ext cx="4176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4:54:56Z</dcterms:created>
  <dc:creator>User</dc:creator>
  <dc:description/>
  <dc:language>en-US</dc:language>
  <cp:lastModifiedBy>User</cp:lastModifiedBy>
  <dcterms:modified xsi:type="dcterms:W3CDTF">2013-10-08T17:26:42Z</dcterms:modified>
  <cp:revision>28</cp:revision>
  <dc:subject/>
  <dc:title>Слайд 1</dc:title>
</cp:coreProperties>
</file>