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172040"/>
            <a:ext cx="822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7204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17204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172040"/>
            <a:ext cx="264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172040"/>
            <a:ext cx="264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172040"/>
            <a:ext cx="264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17204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17204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72040"/>
            <a:ext cx="822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172040"/>
            <a:ext cx="822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7204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17204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172040"/>
            <a:ext cx="264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172040"/>
            <a:ext cx="264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172040"/>
            <a:ext cx="264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17204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17204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72040"/>
            <a:ext cx="822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FloraSlai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7" descr="Flora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nmoment.ru/beauty/health-body/chemical-compound-foodstuff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42960" y="500040"/>
            <a:ext cx="7772400" cy="31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митриевская средняя общеобразовательная школа</a:t>
            </a:r>
            <a:br>
              <a:rPr sz="1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ая работа</a:t>
            </a:r>
            <a:br>
              <a:rPr sz="4400"/>
            </a:br>
            <a:br>
              <a:rPr sz="44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словия, необходимые для прорастания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 выполнил: ученик 2 класса Чернов Макси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учитель начальных классов Снегирева Светлана Алексеевн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414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 не имеет большого значения для прорастания семян горох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IMG_1559"/>
          <p:cNvPicPr/>
          <p:nvPr/>
        </p:nvPicPr>
        <p:blipFill>
          <a:blip r:embed="rId1"/>
          <a:stretch/>
        </p:blipFill>
        <p:spPr>
          <a:xfrm>
            <a:off x="2195640" y="3645000"/>
            <a:ext cx="4248000" cy="23763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6443640" y="38854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све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6588000" y="523656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шкаф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4296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опы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1500120"/>
            <a:ext cx="64008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воды на прорастание сем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рудование: семена гороха, девять чашек Пет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хие семена гороха разделили на три ч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ую часть семян гороха обильно увлажняли во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ую часть семян увлажняли умеренным количеством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ью часть семян не увлажняли совс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е недели наблюдали за развитием и прорастанием сем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исследований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214280"/>
          <a:ext cx="8229600" cy="45021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447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лажн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начала опы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растания семя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наблюда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224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ильно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0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.0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ки появились на 3   день у 60 % семян. При чрезмерном, обильном увлажнении семена погиб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79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ен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0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.0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ки появились  на 3            день у 75% семян. Семя развивается хорош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96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увлажня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0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растание не произошл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№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563640" y="2599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 влияет на прорастание и развитие семени. При достаточном увлажнении  семя прорастает  быстро. А при чрезмерном или недостаточном – семя прорастает намного хуже или не прорастает вообщ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307008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 увлажня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IMG_1564"/>
          <p:cNvPicPr/>
          <p:nvPr/>
        </p:nvPicPr>
        <p:blipFill>
          <a:blip r:embed="rId1"/>
          <a:stretch/>
        </p:blipFill>
        <p:spPr>
          <a:xfrm>
            <a:off x="468360" y="1700280"/>
            <a:ext cx="2914560" cy="1224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IMG_1563"/>
          <p:cNvPicPr/>
          <p:nvPr/>
        </p:nvPicPr>
        <p:blipFill>
          <a:blip r:embed="rId2"/>
          <a:stretch/>
        </p:blipFill>
        <p:spPr>
          <a:xfrm>
            <a:off x="468360" y="3284640"/>
            <a:ext cx="2952720" cy="1296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IMG_1565"/>
          <p:cNvPicPr/>
          <p:nvPr/>
        </p:nvPicPr>
        <p:blipFill>
          <a:blip r:embed="rId3"/>
          <a:stretch/>
        </p:blipFill>
        <p:spPr>
          <a:xfrm>
            <a:off x="468360" y="5013360"/>
            <a:ext cx="2951280" cy="13683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0"/>
          <p:cNvSpPr/>
          <p:nvPr/>
        </p:nvSpPr>
        <p:spPr>
          <a:xfrm>
            <a:off x="468360" y="2942280"/>
            <a:ext cx="30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резмерное увлажн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611280" y="4644000"/>
            <a:ext cx="272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меренное увлажн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-387360"/>
            <a:ext cx="8229600" cy="59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уя влияние внешних условий на проращивание семян, мы провели ряд опытных работ, в результате которых на практике убедились в том, что благоприятными условиями на прорастание семян гороха являются: состояние семени, умеренное увлажнение. Но выявили, что свет на прорастание семян гороха не влияет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при возделывании культурных растений важно учитывать влияние окружающих факторов на проращивание семян, чтобы в последующем получить дружные всходы, красивые и сильные растения, высокий урожай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етаева И. А., Книга о растениях. «Колос». 199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эм Э.К. Растения  - М.: «Мир»,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ликян А. П., Николаева М. Г., Комар Г. А. Жизнь растений / -  М.: Просвещение, 199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хова Т.С., Строганов В.И. Природа: Введение в биологию и экологию. 5 класс – М.: Вентана-Граф, 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лова  Р. А., В мире растений - Л.: «Наука», 1997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.wikipedia.org/wiki/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ogis.ru/usloviya-prorastaniya-semy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9976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42960"/>
            <a:ext cx="77724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 работы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ссмотрение влияния внешних факторов на проращивание семян горох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403280" y="2133720"/>
            <a:ext cx="6400800" cy="34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следуя условия прорастания семян гороха, изучая влияние различных факторов на данный процесс, мы ставили перед собой следующи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 Собрать информацию о растении горо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Выделить основные условия, влияющие на проращивание семя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На практике установить, как влияет на проращивание семян наличие или отсутствие света и вла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выдвинул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ипотез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предположили, что для прорастания гороха необходим свет и тепло 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1999800"/>
            <a:ext cx="64008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ом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следования являлись семена  горох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ое применение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нной работы возможно на уроках окружающего мира, в кружковой работе, при работе на пришкольном участк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3143160" y="2857680"/>
            <a:ext cx="285768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87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х в России всегда был самым популярным из бобовых растений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его нетрудно выращивать, урожай он даёт богатый, насыщает отлично и не требует сложной кулинарной обработки. Кроме того, в нашей стране давно известны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бные свойства гороха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е обусловлены его богатым составом: в нём очень много полезных веществ, но особенно он отличается количеством </a:t>
            </a:r>
            <a:r>
              <a:rPr b="0" lang="ru-RU" sz="27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витаминов и минералов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том числе и очень редки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28760" y="1357200"/>
            <a:ext cx="321444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  опы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162828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Влияние состояния семени на прорастание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Оборудование: сухие и набухшие семена гороха, чашки Петр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ожили по десять сухих семян гороха в три чашки Петри и по  десять набухших семян гороха в 3 другие чашки Петри и смочили во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авнили, через какое время семена прораст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зультаты исследований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162828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лияние состояния семени на прорастани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000080" y="2786040"/>
          <a:ext cx="7358040" cy="3148200"/>
        </p:xfrm>
        <a:graphic>
          <a:graphicData uri="http://schemas.openxmlformats.org/drawingml/2006/table">
            <a:tbl>
              <a:tblPr/>
              <a:tblGrid>
                <a:gridCol w="2225880"/>
                <a:gridCol w="1738080"/>
                <a:gridCol w="1683000"/>
                <a:gridCol w="1711080"/>
              </a:tblGrid>
              <a:tr h="942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яние семе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     начала опы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    прорастания семя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наблюда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81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хо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0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.0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я проросло через    4      дня. Проросло 60% семя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2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ращенное сем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0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. 0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я проросло через    2   дня. Проросло 90% семя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6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ухшие семена гороха прорастают быстрее на  2  дня, чем сухие семе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"/>
          <p:cNvPicPr/>
          <p:nvPr/>
        </p:nvPicPr>
        <p:blipFill>
          <a:blip r:embed="rId1"/>
          <a:stretch/>
        </p:blipFill>
        <p:spPr>
          <a:xfrm>
            <a:off x="2411280" y="3716280"/>
            <a:ext cx="4346640" cy="19684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0"/>
          <p:cNvSpPr/>
          <p:nvPr/>
        </p:nvSpPr>
        <p:spPr>
          <a:xfrm>
            <a:off x="6877080" y="3860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хие сем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6877080" y="502272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бухшие сем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опы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71720" y="1857240"/>
            <a:ext cx="692928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света на прорастание семян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рудование: семена гороха, чашки Петр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или по десять сухих семян в шесть чашек Петр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чашки Петри  поставили в темный шкаф, а три другие чашки Петри поставили на солнечное мест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лажняли семена по мере необходим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исследований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00040" y="835200"/>
          <a:ext cx="8072640" cy="4860720"/>
        </p:xfrm>
        <a:graphic>
          <a:graphicData uri="http://schemas.openxmlformats.org/drawingml/2006/table">
            <a:tbl>
              <a:tblPr/>
              <a:tblGrid>
                <a:gridCol w="2017800"/>
                <a:gridCol w="2054160"/>
                <a:gridCol w="1982880"/>
                <a:gridCol w="2017800"/>
              </a:tblGrid>
              <a:tr h="68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де находились семе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начала опы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растания семя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наблюда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195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све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0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.0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а воздуха в помещении +22С. Увлажнение семян умеренное. Ростки появились на третий день у 80% семя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976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шкаф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0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.0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а воздуха в помещении +22С. Увлажнение семян умеренное. Ростки появились на третий день у 85% семя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1T04:48:41Z</dcterms:created>
  <dc:creator>Admin</dc:creator>
  <dc:description/>
  <dc:language>en-US</dc:language>
  <cp:lastModifiedBy>света</cp:lastModifiedBy>
  <dcterms:modified xsi:type="dcterms:W3CDTF">2013-10-08T09:32:47Z</dcterms:modified>
  <cp:revision>67</cp:revision>
  <dc:subject/>
  <dc:title>Муниципальное бюджетное общеобразовательное учреждение Дмитриевская средняя ощеообразовательная школа Исследовательская работа Условия, необходимые для прорастания семян.</dc:title>
</cp:coreProperties>
</file>