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2182-AD8D-4F14-913A-BC75124DD9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E984-01E2-422C-8D1A-2ADC3EDA8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3B1-0077-4597-9089-20AC02A1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375-B780-49D7-8CE6-CA2E249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75D-2B58-4AE0-85DF-24B69686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75D-6D51-4017-9D57-90DB1FCB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FC3-EE0D-45C7-828F-A8C13347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EF0D-3D8B-4693-821F-D6948C5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9125-A33B-4D3B-915D-3A59913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FF56-D6AB-4057-88CC-8BFC850D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CFF-D6EE-4433-B80D-4A95468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0C58-1CD9-41E2-9526-ADE614D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63A4-71FF-4FEF-AC77-7DBFEDC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EF8-F2A0-42EB-A980-6D6A1693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A8D5-D6D1-4C95-979D-51D7B6F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0CB-686C-45B8-8FBE-45AE2D2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263-D546-424E-AF16-6BBB0D5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BED3-DD10-486A-BD4B-9E5DE8CB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831-D766-4F4D-B042-5FFD8575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7E8-8625-4A6B-91C5-1611602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71A-DDB4-4F2A-B6F4-47B1E1A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0B3-E723-4515-86E0-10579389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2A3-C5D3-40F7-92A8-F2B6CE7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1B5-EF0E-455F-AD04-E248AFB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741-6950-4FD2-A358-38911D0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37F-FA51-4A73-BC86-4DEC7C2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80D-D41A-406A-A182-441141762AE4}" type="datetime5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 июл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251-842B-43C2-9DF4-A2AD44C2CF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7374-DF5A-4EEB-A40D-392076C7ACAF}" type="datetime5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 июл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923F-172F-49E3-A02C-A8486CFCD3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Monotype Corsiva"/>
              </a:rPr>
              <a:t>Адресаты лирики Пушкин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0920" y="3715920"/>
            <a:ext cx="640080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cc"/>
                </a:solidFill>
                <a:latin typeface="Bookman Old Style"/>
              </a:rPr>
              <a:t>«Звучал мне долго голос      нежный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Этап 3.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Поиск и исследов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Учащиеся –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нимаются подбором информации и проводят самостоятельное 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cc33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– консультирует детей и помогает в  подборе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j0205466"/>
          <p:cNvPicPr/>
          <p:nvPr/>
        </p:nvPicPr>
        <p:blipFill>
          <a:blip r:embed="rId1"/>
          <a:stretch/>
        </p:blipFill>
        <p:spPr>
          <a:xfrm>
            <a:off x="4932360" y="1843200"/>
            <a:ext cx="362736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Этап 4.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Выводы и результа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Monotype Corsiva"/>
              </a:rPr>
              <a:t>Творческий отчё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ывод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Georgia"/>
              </a:rPr>
              <a:t>1 групп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- письма Пушкина А. Ке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Georgia"/>
              </a:rPr>
              <a:t>2 групп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– письма А.П.Керн  А.С Пушк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Georgia"/>
              </a:rPr>
              <a:t>3 групп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– высказывания современников и  друзей Пушкина  о значении А.Керн для  поэ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Georgia"/>
              </a:rPr>
              <a:t>4 групп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– музыкальное сопровождение ( романс Глинки); художественное оформление (изображение А.П.Керн и А.С.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5672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Monotype Corsiva"/>
              </a:rPr>
              <a:t>Презентация</a:t>
            </a:r>
            <a:br>
              <a:rPr sz="6000"/>
            </a:br>
            <a:r>
              <a:rPr b="0" lang="ru-RU" sz="4800" spc="-1" strike="noStrike">
                <a:solidFill>
                  <a:srgbClr val="990099"/>
                </a:solidFill>
                <a:latin typeface="Monotype Corsiva"/>
              </a:rPr>
              <a:t>Литературно-музыкальная компози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3429000"/>
            <a:ext cx="7199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99"/>
                </a:solidFill>
                <a:latin typeface="Bookman Old Style"/>
              </a:rPr>
              <a:t>« Звучал мне долго голос нежный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99"/>
                </a:solidFill>
                <a:latin typeface="Comic Sans MS"/>
              </a:rPr>
              <a:t>Афиш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цене справа и слева два столика с креслами. За одним – </a:t>
            </a:r>
            <a:r>
              <a:rPr b="0" lang="ru-RU" sz="2800" spc="-1" strike="noStrike">
                <a:solidFill>
                  <a:srgbClr val="ff33cc"/>
                </a:solidFill>
                <a:latin typeface="Garamond"/>
              </a:rPr>
              <a:t>Исполнитель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(А.С.Пушкин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 другим – </a:t>
            </a:r>
            <a:r>
              <a:rPr b="0" lang="ru-RU" sz="2800" spc="-1" strike="noStrike">
                <a:solidFill>
                  <a:srgbClr val="ff33cc"/>
                </a:solidFill>
                <a:latin typeface="Garamond"/>
              </a:rPr>
              <a:t>Исполнительница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(А.П.Кер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цена тём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сполнители по очереди высвечиваются луч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оже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На экране изображение А.П.Ке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рет возникает каждый раз, когда звучат строфы стих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Monotype Corsiva"/>
              </a:rPr>
              <a:t>«Я помню чудное мгновен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33cc"/>
                </a:solidFill>
                <a:latin typeface="Monotype Corsiva"/>
              </a:rPr>
              <a:t>Вступление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Анна Петровна Керн…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ей посвятил Пушкин неумирающие строки о высокой любви, дарующей человеку «и божество, и вдохновенье, и жизнь, и слёзы, и любов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cc"/>
                </a:solidFill>
                <a:latin typeface="Monotype Corsiva"/>
              </a:rPr>
              <a:t>     </a:t>
            </a:r>
            <a:r>
              <a:rPr b="1" lang="ru-RU" sz="5100" spc="-1" strike="noStrike">
                <a:solidFill>
                  <a:srgbClr val="cc3399"/>
                </a:solidFill>
                <a:latin typeface="Monotype Corsiva"/>
              </a:rPr>
              <a:t>Пушкин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</a:t>
            </a:r>
            <a:r>
              <a:rPr b="1" lang="ru-RU" sz="2800" spc="-1" strike="noStrike">
                <a:solidFill>
                  <a:srgbClr val="cc99ff"/>
                </a:solidFill>
                <a:latin typeface="Monotype Corsiva"/>
              </a:rPr>
              <a:t>Хотите ли знать, что такое госпожа Кер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 неё гибкий ум, она понимает всё; она огорчается легко и так же легко утешается; она робка в манерах и смела в поступках; но она очень привлекательн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cc"/>
                </a:solidFill>
                <a:latin typeface="Monotype Corsiva"/>
              </a:rPr>
              <a:t>Первая встреч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В 1819 году я приехала в Петербург с мужем и отцом… На одном из вечеров у Олениных я встретила Пушкина и не заметила его… Вскоре он дал себя заметить. Он показался мне дерзк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скоре после ужина все стали разъезжаться. Когда я уезжала… Пушкин стоял на крыльце и провожал меня 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печатление его встречи со мною он выразил в  известных стихах :       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« Я помню чудное мгновен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cc"/>
                </a:solidFill>
                <a:latin typeface="Monotype Corsiva"/>
              </a:rPr>
              <a:t>Переписк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В течение шести лет я не видела Пушкина, но от многих слышала про него… Моя двоюродная сестра, Анна Николаевна Вульф, часто бывала в доме Пушкина и обо всём сообщала мне в своих пись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на писала: </a:t>
            </a:r>
            <a:r>
              <a:rPr b="0" lang="ru-RU" sz="2800" spc="-1" strike="noStrike">
                <a:solidFill>
                  <a:srgbClr val="cc66ff"/>
                </a:solidFill>
                <a:latin typeface="Bookman Old Style"/>
              </a:rPr>
              <a:t>«Ты произвела сильное впечатление на Пушкин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схищённая Пушкиным, я страстно хотела его увидеть, и это желание исполнилос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cc"/>
                </a:solidFill>
                <a:latin typeface="Monotype Corsiva"/>
              </a:rPr>
              <a:t>Вторая встреч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Душе настало пробуждень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И вот опять явилась 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 Мы сидели за обедом… вдруг вошёл Пушкин… но не сказал ни слова. Я тоже не нашлась ничего ему сказать , и мы не скоро ознакомились и заговорили… Вообще же надо сказать , что он не умел скрывать своих чувств, выражал их всегда искренно и был неописанно хорош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peach"/>
          <p:cNvPicPr/>
          <p:nvPr/>
        </p:nvPicPr>
        <p:blipFill>
          <a:blip r:embed="rId1"/>
          <a:stretch/>
        </p:blipFill>
        <p:spPr>
          <a:xfrm>
            <a:off x="4645080" y="2276640"/>
            <a:ext cx="40370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33cc"/>
                </a:solidFill>
                <a:latin typeface="Monotype Corsiva"/>
              </a:rPr>
              <a:t>Разлука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На другой день я должна была уехать в Ригу… Он пришёл утром и на прощанье принёс мне экземпляр второй главы «Онегина», в неразрезанных листках, между которыми я нашла вчетверо сложенный почтовый лист бумаги со стихами: « </a:t>
            </a: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Я помню чудное мгновен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гда я собралась спрятать поэтический подарок  … он судорожно выхватил его и не хотел возвращать; насилу выпросила я их… Стихи эти я сообщила барону Дельвигу, который их поместил в своих « Северных стихах», а М.И.Глинка сделал на них прекрасную музык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man Old Style"/>
              </a:rPr>
              <a:t>Автор</a:t>
            </a:r>
            <a:br>
              <a:rPr sz="34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Овчинникова Ирина Васильев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j0281904"/>
          <p:cNvPicPr/>
          <p:nvPr/>
        </p:nvPicPr>
        <p:blipFill>
          <a:blip r:embed="rId1"/>
          <a:stretch/>
        </p:blipFill>
        <p:spPr>
          <a:xfrm>
            <a:off x="2340000" y="1700280"/>
            <a:ext cx="467208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cc"/>
                </a:solidFill>
                <a:latin typeface="Monotype Corsiva"/>
              </a:rPr>
              <a:t>Переписк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Я имел слабость попросить у вас разрешения вам писать, а вы – легкомыслие или кокетство позволить мне это. Переписка ни к чему не ведёт, я знаю; но у меня нет сил противиться желанию получить хоть словечко, написанное вашей хорошенькой ру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нова берусь за перо, ибо умираю с тоски и могу думать только о вас . Надеюсь, вы прочтёте это письмо тайком,  - спрячете ли вы его у себя на гру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вы опасаетесь моей нескромности, измените почерк, подпишитесь вымышленным именем, -  сердце моё сумеет вас угадать…»  25 ию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 Перечитываю ваше письмо вдоль и поперёк и говорю: (милая! прелесть!) … а потом: (ах, мерзкая!) Простите, прекрасная и нежная, но это т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 способны привести меня в отчаяние…  Умоляю вас, божественная, снизойдите к моей слабости, пишите мне, любите меня, и тогда я постараюсь быть любезны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щайте – мне чудится, что я у ваших ног, сжимаю их, ощущаю ваши колени, я отдал бы всю жизнь за миг действительности. Прощайте, и верьте моему бреду: он смешон, но искренен.  21 авг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83520"/>
            <a:ext cx="795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 Скажите, можно ли быть столь ветреной? Каким образом письмо, адресованное вам, попало не в ваши ру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 правда ли, по почте я гораздо любезен, чем  при личном свидании; так вот, если вы приедете, я обещаю вам быть любезным до чрезвычайности – в понедельник я буду весел, во вторник  восторжен, в среду нежен, в четверг игрив, в пятницу, субботу и воскресенье буду чем вам угодно, и всю неделю  - у ваших ног.  Прощайте. 28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 Снова берусь за перо, чтобы сказать вам, что я у ваших ног, что по-прежнему люблю вас, что иногда вас ненавижу, что третьего дня говорил о вас гадости, что я целую ваши прелестные ручки и снова перецеловываю их, в ожидании лучшего, что больше сил моих нет, что вы божественны и т. д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mylove"/>
          <p:cNvPicPr/>
          <p:nvPr/>
        </p:nvPicPr>
        <p:blipFill>
          <a:blip r:embed="rId1"/>
          <a:stretch/>
        </p:blipFill>
        <p:spPr>
          <a:xfrm>
            <a:off x="5003640" y="2349360"/>
            <a:ext cx="3683160" cy="30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cc"/>
                </a:solidFill>
                <a:latin typeface="Bookman Old Style"/>
              </a:rPr>
              <a:t>Заключ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слание к А.Керн навсегда останется одной из вершин русской и мировой лирической поэзи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Она родилась на рубеже двух веков под зелёным штофным балдахином, шестнадцати лет была выдана замуж за старика генерала, в девятнадцать встретилась с Пушкиным  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ошла в бессмер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33cc"/>
                </a:solidFill>
                <a:latin typeface="Arial"/>
              </a:rPr>
              <a:t>Литератур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П. Керн. Воспоминания. Дневники. Переписка. М., «Худ. литература». 197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румкина А.С. Пушкинские вечера. Искусство звучащего слова. М., « Сов. Россия»,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 С. Пушкин в воспоминаниях современников. В 2-х т. М., «Худож. лит.»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шкинская тема в 9 классе центральная.  И не только потому, что обстоятельно изучается жизненный и творческий путь поэта. Потому и изучается, что Пушкин вобрал в своё творчество все предшествующие ему эпохи литературы и определил дальнейшие дороги искусства. Во все времена предпочтения пушкинских произведений поколениями были различны. Сейчас более всего людей привлекают драматизм судьбы поэта и «истина его страстей». Интерес к биографии необычайно велик, но часто и поверхно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ечера «Адресаты лирики Пушкина» предлагаю композицию. Принцип её составления – соединение лирических произведений поэта с эмоционально насыщенным мемуарным материалом, музыкой и показом на экране автопортретов и рисунков Пушкина, портретов адресатов его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рименяется  в 9 классе при рассмотрении темы «Любовная лирика Пушк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хотворение К*** («Я помню чудное мгновенье…») подсказал форму проекта «Звучал мне долго голос нежны…». Он выстроен так, что каждые две строфы стихотворения стали своеобразным эпиграфом к новой части воспоминаний А.П.Кер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нами постепенно, приобретая всё большую объёмность, возникает её образ, и давно знакомое стихотворение начинает звучать  как-то по-особ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Цель проек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FrizQuaBo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FrizQuaBol"/>
              </a:rPr>
              <a:t>Помочь ребятам понять точнее и глубже тон переписки и характер взаимоотношений А.С.Пушкина и А.П.Кер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Задачи проек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99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cc3399"/>
                </a:solidFill>
                <a:latin typeface="Bookman Old Style"/>
              </a:rPr>
              <a:t>1.</a:t>
            </a:r>
            <a:r>
              <a:rPr b="0" lang="ru-RU" sz="3600" spc="-1" strike="noStrike">
                <a:solidFill>
                  <a:srgbClr val="cc3399"/>
                </a:solidFill>
                <a:latin typeface="Bookman Old Style"/>
              </a:rPr>
              <a:t> </a:t>
            </a:r>
            <a:r>
              <a:rPr b="0" lang="ru-RU" sz="3600" spc="-1" strike="noStrike" u="sng">
                <a:solidFill>
                  <a:srgbClr val="cc3399"/>
                </a:solidFill>
                <a:uFillTx/>
                <a:latin typeface="Bookman Old Style"/>
              </a:rPr>
              <a:t>Образовате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познакомить с  характером взаимоотношений между Пушкиным и А.Керн; дать возможность почувствовать характер этой женщины, круг интересов, её жизненные принципы, мироощущение, всё обаяние её личности; выявить способность учащихся работать над собиранием и редактированием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35360"/>
            <a:ext cx="8137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3399"/>
                </a:solidFill>
                <a:uFillTx/>
                <a:latin typeface="Bookman Old Style"/>
              </a:rPr>
              <a:t>Воспитательная</a:t>
            </a:r>
            <a:r>
              <a:rPr b="0" lang="ru-RU" sz="3200" spc="-1" strike="noStrike">
                <a:solidFill>
                  <a:srgbClr val="cc3399"/>
                </a:solidFill>
                <a:latin typeface="Bookman Old Style"/>
              </a:rPr>
              <a:t>:</a:t>
            </a:r>
            <a:r>
              <a:rPr b="0" lang="ru-RU" sz="2800" spc="-1" strike="noStrike">
                <a:solidFill>
                  <a:srgbClr val="cc33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ь активное отношение к жизни; патриотизм; уважение к русск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c0099"/>
                </a:solidFill>
                <a:latin typeface="Bookman Old Style"/>
              </a:rPr>
              <a:t>3. </a:t>
            </a:r>
            <a:r>
              <a:rPr b="0" lang="ru-RU" sz="3200" spc="-1" strike="noStrike" u="sng">
                <a:solidFill>
                  <a:srgbClr val="cc0099"/>
                </a:solidFill>
                <a:uFillTx/>
                <a:latin typeface="Bookman Old Style"/>
              </a:rPr>
              <a:t>Развивающая</a:t>
            </a:r>
            <a:r>
              <a:rPr b="0" lang="ru-RU" sz="3200" spc="-1" strike="noStrike">
                <a:solidFill>
                  <a:srgbClr val="cc0099"/>
                </a:solidFill>
                <a:latin typeface="Bookman Old Style"/>
              </a:rPr>
              <a:t>:</a:t>
            </a:r>
            <a:r>
              <a:rPr b="0" lang="ru-RU" sz="2800" spc="-1" strike="noStrike">
                <a:solidFill>
                  <a:srgbClr val="cc00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речи учащихся и углублению знаний о личной жизни поэта для более точного понимания его произведений; расширять кругозор детей; развивать эмоциональную восприимчивость. Развивать  умение проводить исследовательскую работу с дополнительной литературой; повышать эрудицию и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Этапы работы над проектом.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Этап 1 - подготов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Arial Narrow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бирает тему проекта; продумывает цели и задачи; подбирает темы самостоятельного исследования учащихся; разрабатывает критерии оценки результатив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 Narrow"/>
              </a:rPr>
              <a:t>Учащиеся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-  актуализация базовых знаний, умений, навыков необходимых д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Этап 2.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Планиров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</a:rPr>
              <a:t>Учащиеся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лятся на  поисковые группы по 3-4 человека.  Распределяют обязанности  и разрабатывают план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j019538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719600" y="1913040"/>
            <a:ext cx="3870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6:58:05Z</dcterms:created>
  <dc:creator>Ирина</dc:creator>
  <dc:description/>
  <dc:language>en-US</dc:language>
  <cp:lastModifiedBy>User</cp:lastModifiedBy>
  <dcterms:modified xsi:type="dcterms:W3CDTF">2012-03-26T17:15:31Z</dcterms:modified>
  <cp:revision>9</cp:revision>
  <dc:subject/>
  <dc:title>Адресаты лирики Пушкина.</dc:title>
</cp:coreProperties>
</file>