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5C6-AB64-4564-97CB-B4F2F08DF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E6E-670B-421C-89E1-5CD3EE37C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2F99-D331-494C-8AC8-0315B6D83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D580-14C1-406B-8705-4F043C4EB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09BD-B904-44AB-BC3E-FB1AA56E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03C2-F9EC-45ED-8B35-F7FB6B9F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0BC6-7E17-4FCA-8146-167B329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AD7F-8909-4C0C-832F-76A65132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BEC-6357-4052-86BB-B5FCC833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0CD-EC81-4B0C-89E6-1FA34B1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C342-B0E1-4208-9E7A-E60BDA5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570E-6E0B-4313-99F4-3EA37808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92FD-5CCF-47C9-9672-A841735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1CD-3CB9-4473-BD9C-6718250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7200-15E0-41C0-B87E-8D178B1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F870-305A-46AC-9371-E527C6F9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C4A-A9C7-4A65-AFD0-2F2090B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DA3-AD27-416E-8373-45DE4A8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4CE-2ADE-4A9E-BACF-DDF18A59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74F-0756-4923-8FD7-5FA20182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72F-B022-4489-98CC-74B8B902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F99D-273B-46A7-AA26-79C799F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25C3-5753-4267-8321-7E87402E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4C43-3A0A-4724-9670-31C7920E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FEB6-70B4-4DBF-B90C-6D32B6DE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A0F7-4B83-41CF-A302-91BC218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D639-7E22-4D18-B6FC-CA8E200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BF8D-3B3E-4A91-9E04-110934F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DFBB-D6BB-458C-87E3-E3CBBF6ADC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781F-6B44-4C25-B747-B706A3EFC6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ализ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художественного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971800" y="50292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ОУ СОШ с.Калинино ,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BOOKS1"/>
          <p:cNvPicPr/>
          <p:nvPr/>
        </p:nvPicPr>
        <p:blipFill>
          <a:blip r:embed="rId1"/>
          <a:stretch/>
        </p:blipFill>
        <p:spPr>
          <a:xfrm>
            <a:off x="914400" y="43434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ительны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наиболее интересных и эффективных видов анализа, позволяющий именно в сравнении просле­дить и сделать наглядными особенности каждого текста, отдельно взят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технология относительно проста и имеет свой общеизвестный алгорит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явление образ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ов, художественных приемов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анализируемых текстов, и определение того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текст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лича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након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яснение выявленных различий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ющее интерпретации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равнительного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поставление разных текстов одного авто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огичных по тематике текстов разных художников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е к черновым редакциям того или и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OOKS1"/>
          <p:cNvPicPr/>
          <p:nvPr/>
        </p:nvPicPr>
        <p:blipFill>
          <a:blip r:embed="rId1"/>
          <a:stretch/>
        </p:blipFill>
        <p:spPr>
          <a:xfrm>
            <a:off x="6400800" y="4648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остны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всего под ним понимается многостороннее последовательное  рассмотрение аспектов литературного произвед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языка (лексики ,синтаксиса ,ИВС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ей построения сюжета и композиции произведения в це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тематики и идейного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след за автор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данного анализа - сюжет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а: естественный порядок разбора, следование за мыслью автора, эмоциональность, рассмотрение произведения во взаимосвязи формы и содерж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ки: сосредоточен в рамках эпизода, опасность растворения в тексте, дробность раз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эффективен в средних классах (5-7 особенно) - реализует потребность школьников к активному сопереживанию, в старших классах, когда низкий интеллектуальный фон и произведение требует целостного анали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о образа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ет деление героев на положительных и отрицательных, главных и второстеп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черт и иллюстрирование их цита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он был эффективным, надо: разрушить замкнутость анализа характеров, связать героя со всей сюжетной линией; найти ключ к каждому герою и наметить своеобразную структуру анализа кажд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анализ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литературного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литературного произведения в исторически культурном контексте, в контексте творчества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(исторически конкретная , «вечная», главная и побочн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(проблемат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book"/>
          <p:cNvPicPr/>
          <p:nvPr/>
        </p:nvPicPr>
        <p:blipFill>
          <a:blip r:embed="rId1"/>
          <a:stretch/>
        </p:blipFill>
        <p:spPr>
          <a:xfrm>
            <a:off x="5943600" y="4648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став и определенн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ей, элементов и образов произведения в некоторой значимой времен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композ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ейная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ургенев "Отцы и дет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ллельна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олстой "Война и мир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це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Гоголь "Мёртвые душ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мка в рамк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олохов "Судьба человека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художественной инверс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ермонтов "Герой нашего времени")- это композиция, когда нарушается хронологическая последовательность событий и их причина следственной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таж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Агата Кристи) – возникает с появлением кинематогра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обытий и действий, заключенная в произведении, его событийная цепь, причем именно в той последовательности, в которой она дана нам в произ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инамическая сторона художественной формы, он предполагает движение, развитие, из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сюжета: завязка, развитие действий, кульминация, развязка, пролог, эпилог, экспозиция, апофеоз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 художественного произведения в аспекте рода и жан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с(роман,повесть,рассаз,новелла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рика (элегия,ода,поэма,стансы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ама(комедия,трагедия,драма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27a151fc8c2a777db8c3a033f5229d4_full"/>
          <p:cNvPicPr/>
          <p:nvPr/>
        </p:nvPicPr>
        <p:blipFill>
          <a:blip r:embed="rId1"/>
          <a:stretch/>
        </p:blipFill>
        <p:spPr>
          <a:xfrm>
            <a:off x="304920" y="4038480"/>
            <a:ext cx="8153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фи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художественного образ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создания образа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графия, портрет, поступки, мировоззрение,речевая характеристика, авторская характеристика и характеристика персонажами, 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обра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ы животных, людей, фантастические персонажи, пейзаж, интерьер, лирический герой , образы-символы и аллег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образов по содерж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ероический, трагический, комический , гротеск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образов по компози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инамичные, стати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762120" y="762120"/>
            <a:ext cx="7400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есть чтение – как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адывание, толков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ение тайного, оставшегося 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ми, пределами слов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– прежде всего сотворче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итатель лишен воображения, ни одна книга не у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Цвет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BOOKS1"/>
          <p:cNvPicPr/>
          <p:nvPr/>
        </p:nvPicPr>
        <p:blipFill>
          <a:blip r:embed="rId1"/>
          <a:stretch/>
        </p:blipFill>
        <p:spPr>
          <a:xfrm>
            <a:off x="228600" y="45720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ые д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тр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 Разновидность портретной характеристики: портрет – описание, портрет – сравнение, портрет – впечатление, психологический портре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йзаж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Функция пейзажа: пейзаж как место действия, пейзаж как средство создания определённого настроения, пейзаж как действующее лицо художественного текста, психологический пейзаж, социальный пейз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р вещей в литератур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ещь как характеристика человека, отражение в мире вещей социальной среды и эпо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ая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пы и их разнови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еская фон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student01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447920" y="990720"/>
            <a:ext cx="6933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Picture 6" descr="FLOWRBOX"/>
          <p:cNvPicPr/>
          <p:nvPr/>
        </p:nvPicPr>
        <p:blipFill>
          <a:blip r:embed="rId1"/>
          <a:stretch/>
        </p:blipFill>
        <p:spPr>
          <a:xfrm>
            <a:off x="4648320" y="35053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(2004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владение умениями творче­ского чтения и анализа художественных произведений с привлечением базовых литературоведческих понятий и необходимых сведений по истории литературы» (основная школ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вершенствование умений анализа и интерпретации литературного произведения как художест­венного целого в его историко-литературной обусловленности с ис­пользованием теоретико-литературных знаний» (старшая школа, базовый уровен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15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65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27a151fc8c2a777db8c3a033f5229d4_full"/>
          <p:cNvPicPr/>
          <p:nvPr/>
        </p:nvPicPr>
        <p:blipFill>
          <a:blip r:embed="rId1"/>
          <a:stretch/>
        </p:blipFill>
        <p:spPr>
          <a:xfrm>
            <a:off x="533520" y="3276720"/>
            <a:ext cx="8153280" cy="337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352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из наших классов выйдут писатели и словесники, это хорошо, но не на это мы рассчитываем. Наше дело – подготовить ярко чувствующего и критически мыслящего Чит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ализ художественного произведения ставит в общем-то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два вопроса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Что?»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ак?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Что?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это не только тема произведения, но и его проблемы, его место в историческом и литературном контек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Как?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это художественная система произ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BOOKS1"/>
          <p:cNvPicPr/>
          <p:nvPr/>
        </p:nvPicPr>
        <p:blipFill>
          <a:blip r:embed="rId1"/>
          <a:stretch/>
        </p:blipFill>
        <p:spPr>
          <a:xfrm>
            <a:off x="7086600" y="4876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стины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тексте настоящего художественного произведения нет ни одного случайного слова, каждое что-то значит и для чего-то здесь нужно. К любому слову можно задать вопрос и получить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, о чем идет речь в произведении, имеет отношение к самому читателю, ибо настоящее произведение искусства всегда про то, что с нами всеми происходит каждый д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ую высказанную мысль надо доказывать самим текстом. Если есть в тексте доказательство, то мысль верна, если нет, то это профан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позволительно отыскивать в тексте некую основную идею. В произведении все взаимосвязано, все сцепл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2952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ко-литер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343400" y="12952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школьной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след за автор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 образ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BOOKS1"/>
          <p:cNvPicPr/>
          <p:nvPr/>
        </p:nvPicPr>
        <p:blipFill>
          <a:blip r:embed="rId1"/>
          <a:stretch/>
        </p:blipFill>
        <p:spPr>
          <a:xfrm>
            <a:off x="6095880" y="4648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ко-литературный 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  соотношение художественной реальности, изображённой в произведении, и действительной реа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ю этого анализа является уяснение отношения писателя к проблемам его времени и выражение их в художественных образах, их системе, в сюжетных коллизиях, во всём , что выводит читателя на идейное содержани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 В.Г.Бели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 возникновение вопросов при чтении, которые сами организуют процесс обучения и их ре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пная реакция- вопрос, разбор, построенный на соединении связанных друг с другом проблемных ситу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й анализ призван уяснить те или иные стороны содержания и формы литературного произведения,  понимание мастерства писателя, своеобразие его художественной ман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31T03:15:14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