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D94-F217-4F72-9736-D1C2620D0D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он Павлович Чехов родился в г. Таганроге 17 (29)января 186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88C-380E-46D9-B329-DCF3941E4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семья Чеховых долго, почти три года, живет в тяжкой бедности. Несмотря на это, все дети продолжали учиться, а Антон, зарабатывая на жизнь репетиторством, остается до окончания учебы в гимназии в Таганроге и приезжает в Москву только в 1879 году для того, чтобы сразу поступить на медицинский факультет Московского университета, где слушал лекции знаменитых профессоров — Н. Склифосовского, Г. Захарьи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4BE-17A5-4C62-AD45-A8167FDD7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BE6-55A0-41DF-89BE-569AF91DD7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ейчас м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CFC5-891B-480F-AB89-FA89ACD98C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— Павел Егорович Чехов был весьма интересной личностью. Он имел в Таганроге бакалейную лавку, будучи купцом 3-й гильдии, но занимался торговлей без особого рвения, больше уделяя внимание посещению церковных служб, пению и общественным делам. Обстановка в доме Чеховых была традиционно — патриархальной: дети воспитывались в строгости, часто применялись и телесные наказания, бездельничать никому не дозволялось. Помимо учебы в гимназии, сыновьям Павла Егоровича приходилось иногда замещать отца в лавке, конечно в ущерб занятиям. По вечерам пели хором. Отец прекрасно играл на скрипке, пел, Маша аккомпанировала на фортепиано, в общем, устраивались целые музыкальные семейные предст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5874-BD2C-4B7B-959E-0D2373653E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вка отца Чехова в Таганро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5942-35FA-49C4-B979-07BC14B97E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— Евгения Яковлевна, прекрасная хозяйка, очень заботливая и любящая, жила исключительно жизнью детей и мужа. Но, при этом, страстно любила театр, хотя и посещала его неча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D2F9-34E5-4BC9-B651-AE1319BA4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6 году произошел переезд семьи Чеховых в Москву. Торговля в Таганроге стала убыточной, Павел Егорович разорился и вынужден был бежать от кред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223A-CAB9-489A-947B-FF46A1304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-музей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1B00-7E5F-4C8D-8F25-DBB2F9533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22D-FE88-47FB-92B0-3FF8A105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066-702B-440A-8112-64DD0273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DA8-BC39-48D8-A164-513831A4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BB7-A432-495E-9D09-1537534F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5AD-6469-4D11-A6D7-6E421473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1A2-39D9-46AB-8850-08438FFD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CA8-E4EB-497A-845D-946F71C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6B2-63B6-4FD0-AA1A-773941A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E16-628C-4112-ACFF-BBDB6C3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00D-ADFD-4308-948C-7B67D0D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562-E859-46F6-AEEC-1E09B83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56E-52BF-4CC3-89A0-545B5F6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05A-4672-4E85-A56B-7EF73A5C2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4071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он Павлович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chehov.jpg"/>
          <p:cNvPicPr/>
          <p:nvPr/>
        </p:nvPicPr>
        <p:blipFill>
          <a:blip r:embed="rId1"/>
          <a:stretch/>
        </p:blipFill>
        <p:spPr>
          <a:xfrm>
            <a:off x="4143240" y="1285920"/>
            <a:ext cx="3932280" cy="4929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2960" y="2286000"/>
            <a:ext cx="271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г. Таганроге 17 (29)января 1860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тор Че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24360" y="1412640"/>
            <a:ext cx="49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 1884г. Че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заведующий больницей в Звенигороде, в качестве уездного врача принимает больных, ездит на вскрытия, является экспертом в су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едицин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пища для литературных опытов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 постели больног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алата №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лучай из практи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ёрный мона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Ионыч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..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трудничество с журналами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рекоз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ильник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рител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скол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верчок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дписывает свои рассказы псевдонима-ми: А.Ч-те, Ант. Чехонте, Человек без селезёнки, Г.Балдасаров,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 в 1883г. А.П.Чехов впервые поставил своё и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 1884г. Вышел первый сборник рассказ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казки Мельпомен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chehov_10"/>
          <p:cNvPicPr/>
          <p:nvPr/>
        </p:nvPicPr>
        <p:blipFill>
          <a:blip r:embed="rId1"/>
          <a:stretch/>
        </p:blipFill>
        <p:spPr>
          <a:xfrm>
            <a:off x="324000" y="1341360"/>
            <a:ext cx="33019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ха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ижническая работа была проведена Чеховым на Сахалине. Он произвел перепись населения острова, составив около 10 тысяч статистических карточек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возвращения с Сахалина Чехов систематизировал свои записи и написал книгу «Остров Сахалин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возвращение ч"/>
          <p:cNvPicPr/>
          <p:nvPr/>
        </p:nvPicPr>
        <p:blipFill>
          <a:blip r:embed="rId1"/>
          <a:stretch/>
        </p:blipFill>
        <p:spPr>
          <a:xfrm>
            <a:off x="4681440" y="1924200"/>
            <a:ext cx="397188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лих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92 году Чехов покупает имение в Мелихово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иховский период — это не только вдохновенный литературный труд Чехова и активная медицинская практика, это колоссальная общественная деятельность писателя. Во время холерной эпидемии Чехов работает земским врачом, обслуживает 25 деревень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хов строит три школы для крестьянских детей, колокольню и пожарный сарай для крестьян, участвует в прокладке шоссейной дороги на Лопасню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м1"/>
          <p:cNvPicPr/>
          <p:nvPr/>
        </p:nvPicPr>
        <p:blipFill>
          <a:blip r:embed="rId1"/>
          <a:stretch/>
        </p:blipFill>
        <p:spPr>
          <a:xfrm>
            <a:off x="395280" y="1773360"/>
            <a:ext cx="390672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м2"/>
          <p:cNvPicPr/>
          <p:nvPr/>
        </p:nvPicPr>
        <p:blipFill>
          <a:blip r:embed="rId1"/>
          <a:stretch/>
        </p:blipFill>
        <p:spPr>
          <a:xfrm>
            <a:off x="250920" y="1484280"/>
            <a:ext cx="4608360" cy="344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м3"/>
          <p:cNvPicPr/>
          <p:nvPr/>
        </p:nvPicPr>
        <p:blipFill>
          <a:blip r:embed="rId2"/>
          <a:stretch/>
        </p:blipFill>
        <p:spPr>
          <a:xfrm>
            <a:off x="4932360" y="1052640"/>
            <a:ext cx="3929040" cy="4371840"/>
          </a:xfrm>
          <a:prstGeom prst="rect">
            <a:avLst/>
          </a:prstGeom>
          <a:ln w="0">
            <a:noFill/>
          </a:ln>
        </p:spPr>
      </p:pic>
      <p:sp>
        <p:nvSpPr>
          <p:cNvPr id="85" name="WordArt 9"/>
          <p:cNvSpPr txBox="1"/>
          <p:nvPr/>
        </p:nvSpPr>
        <p:spPr>
          <a:xfrm>
            <a:off x="4013280" y="404640"/>
            <a:ext cx="513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ревянная церковь Рождества Христова в Мелихов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826920" y="5229360"/>
            <a:ext cx="367200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уд в усадьбе Чехов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л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хов приобретает участок земли в двух километрах от набережной в деревне Аутк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коре по проекту архитектора Шаповалова была построена прекрасная дача. (Чеховский сад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ялта"/>
          <p:cNvPicPr/>
          <p:nvPr/>
        </p:nvPicPr>
        <p:blipFill>
          <a:blip r:embed="rId1"/>
          <a:stretch/>
        </p:blipFill>
        <p:spPr>
          <a:xfrm>
            <a:off x="4788000" y="1628640"/>
            <a:ext cx="410364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хов в Ялте. Встречи. Общ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Чехов в Ялте (1901г"/>
          <p:cNvPicPr/>
          <p:nvPr/>
        </p:nvPicPr>
        <p:blipFill>
          <a:blip r:embed="rId1"/>
          <a:stretch/>
        </p:blipFill>
        <p:spPr>
          <a:xfrm>
            <a:off x="539640" y="1341360"/>
            <a:ext cx="2952720" cy="511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С Толстым в 1901г"/>
          <p:cNvPicPr/>
          <p:nvPr/>
        </p:nvPicPr>
        <p:blipFill>
          <a:blip r:embed="rId2"/>
          <a:stretch/>
        </p:blipFill>
        <p:spPr>
          <a:xfrm>
            <a:off x="3995640" y="1844640"/>
            <a:ext cx="4969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Леонардовна Книпп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ьга Леонардовна Книппер, ведущая актриса МХТ, первая исполнительница ролей в чеховских пьесах, с которой Чехов познакомился на репетициях в 1898 году. . 25 мая1901 года А.П.Чехов и О.Л. Книппер венчались. Ольга Леонардовна была занята в театре, а Чехов вынужден был находиться в Ялте по предписанию врачей. Разлуки эти были мучительны для обоих. Чехов писал жене: «Если мы теперь не вместе, то виноваты в этом не я и не ты, а бес, вложивший в меня бацилл, а в тебя любовь к искусству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жена"/>
          <p:cNvPicPr/>
          <p:nvPr/>
        </p:nvPicPr>
        <p:blipFill>
          <a:blip r:embed="rId1"/>
          <a:stretch/>
        </p:blipFill>
        <p:spPr>
          <a:xfrm>
            <a:off x="5300640" y="1557360"/>
            <a:ext cx="384336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Германия. Баденвейлер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В начале лета 1904г. А.П.Чехов вместе с женой О.Л.Книппер выезжает из России на курорт Баденвей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лер.Они поселились в отеле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Зоммер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2 июля 1904г. в 3 часа утра А.П.Чехова не стало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Баденвейлер"/>
          <p:cNvPicPr/>
          <p:nvPr/>
        </p:nvPicPr>
        <p:blipFill>
          <a:blip r:embed="rId1"/>
          <a:stretch/>
        </p:blipFill>
        <p:spPr>
          <a:xfrm>
            <a:off x="5219640" y="1125360"/>
            <a:ext cx="2857680" cy="1924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отель в Баденвейлере"/>
          <p:cNvPicPr/>
          <p:nvPr/>
        </p:nvPicPr>
        <p:blipFill>
          <a:blip r:embed="rId2"/>
          <a:stretch/>
        </p:blipFill>
        <p:spPr>
          <a:xfrm>
            <a:off x="4500720" y="3141720"/>
            <a:ext cx="439236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04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м2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е 1904 года Чехов покидает Ялту и вместе с женой едет в Баденвейлер, знаменитый курорт на юге Германии. Но о выздоровлении не могло быть речи, здесь Чехов только на время облегчил свои стр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июля (1-го по ст.стилю) во втором часу ночи Чехов почувствовал себя особенно плохо. Приехавшему на вызов доктору он сказал твердо: «Я умираю». Затем попросил принести шампанского, не торопясь осушил бокал, лег, повернувшись на левый бок, и вскоре скончал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chehov16.jpg"/>
          <p:cNvPicPr/>
          <p:nvPr/>
        </p:nvPicPr>
        <p:blipFill>
          <a:blip r:embed="rId1"/>
          <a:stretch/>
        </p:blipFill>
        <p:spPr>
          <a:xfrm>
            <a:off x="6786720" y="428760"/>
            <a:ext cx="1871640" cy="2484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p2.jpg"/>
          <p:cNvPicPr/>
          <p:nvPr/>
        </p:nvPicPr>
        <p:blipFill>
          <a:blip r:embed="rId2"/>
          <a:stretch/>
        </p:blipFill>
        <p:spPr>
          <a:xfrm>
            <a:off x="142920" y="3286080"/>
            <a:ext cx="2190600" cy="32101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149ru.jpg"/>
          <p:cNvPicPr/>
          <p:nvPr/>
        </p:nvPicPr>
        <p:blipFill>
          <a:blip r:embed="rId3"/>
          <a:stretch/>
        </p:blipFill>
        <p:spPr>
          <a:xfrm>
            <a:off x="2643120" y="285840"/>
            <a:ext cx="3868920" cy="53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ганрог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А.П.Чехов учился в классической гимн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9" descr="таганрог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46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таганрог2"/>
          <p:cNvPicPr/>
          <p:nvPr/>
        </p:nvPicPr>
        <p:blipFill>
          <a:blip r:embed="rId2"/>
          <a:stretch/>
        </p:blipFill>
        <p:spPr>
          <a:xfrm>
            <a:off x="4716360" y="3141720"/>
            <a:ext cx="403884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и А.П.Чех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п1"/>
          <p:cNvPicPr/>
          <p:nvPr/>
        </p:nvPicPr>
        <p:blipFill>
          <a:blip r:embed="rId1"/>
          <a:stretch/>
        </p:blipFill>
        <p:spPr>
          <a:xfrm>
            <a:off x="692280" y="1600200"/>
            <a:ext cx="35686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п2"/>
          <p:cNvPicPr/>
          <p:nvPr/>
        </p:nvPicPr>
        <p:blipFill>
          <a:blip r:embed="rId2"/>
          <a:stretch/>
        </p:blipFill>
        <p:spPr>
          <a:xfrm>
            <a:off x="5651640" y="1268280"/>
            <a:ext cx="1942920" cy="254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п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, где родился А.П.Чех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тагонрогии.jpg"/>
          <p:cNvPicPr/>
          <p:nvPr/>
        </p:nvPicPr>
        <p:blipFill>
          <a:blip r:embed="rId1"/>
          <a:stretch/>
        </p:blipFill>
        <p:spPr>
          <a:xfrm>
            <a:off x="395280" y="1844640"/>
            <a:ext cx="3672000" cy="30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табличка"/>
          <p:cNvPicPr/>
          <p:nvPr/>
        </p:nvPicPr>
        <p:blipFill>
          <a:blip r:embed="rId2"/>
          <a:stretch/>
        </p:blipFill>
        <p:spPr>
          <a:xfrm>
            <a:off x="4788000" y="1844640"/>
            <a:ext cx="38163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отец.jpg"/>
          <p:cNvPicPr/>
          <p:nvPr/>
        </p:nvPicPr>
        <p:blipFill>
          <a:blip r:embed="rId1"/>
          <a:stretch/>
        </p:blipFill>
        <p:spPr>
          <a:xfrm>
            <a:off x="714240" y="1071720"/>
            <a:ext cx="3772080" cy="4464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5508720" y="1125360"/>
            <a:ext cx="33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ец — Павел Егорович Чехов был весьма интересной личностью. Он имел в Таганроге бакалейную лавку, будучи купцом 3-й гиль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erents"/>
          <p:cNvPicPr/>
          <p:nvPr/>
        </p:nvPicPr>
        <p:blipFill>
          <a:blip r:embed="rId2"/>
          <a:stretch/>
        </p:blipFill>
        <p:spPr>
          <a:xfrm>
            <a:off x="324000" y="404640"/>
            <a:ext cx="49161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3000240" y="592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вка отца Чехова в Таганроге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имо учёбы в гимназии, сыновьям Павла Егоровича иногда приходилось замещать отца в лавке, конечно, в ущерб занят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лавка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вгения Яковлевна Чех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лась в частном пансионе благородных девиц, где обучалась манерам, танцам, языкам. А.П.Чехов говорил, что «талант в нас со стороны отца, а душа - со стороны матери». Она была заботливая жена и любящая м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мать"/>
          <p:cNvPicPr/>
          <p:nvPr/>
        </p:nvPicPr>
        <p:blipFill>
          <a:blip r:embed="rId1"/>
          <a:stretch/>
        </p:blipFill>
        <p:spPr>
          <a:xfrm>
            <a:off x="660240" y="1600200"/>
            <a:ext cx="3630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ети Чеховых были исключительно одарёнными, высокообразованными людьми. : Александр — литератор, лингвист; Николай — художник; Михаил — писатель, юрист; Иван — учитель (известный московский педагог); Мария — художница-пейзажистка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оспитывались в строгости, часто применялись и телесные наказания, бездельничать никому не дозволялос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семья"/>
          <p:cNvPicPr/>
          <p:nvPr/>
        </p:nvPicPr>
        <p:blipFill>
          <a:blip r:embed="rId1"/>
          <a:stretch/>
        </p:blipFill>
        <p:spPr>
          <a:xfrm>
            <a:off x="2050920" y="189000"/>
            <a:ext cx="489744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76 году семья Чеховых переезжает в Москву: торговля стала убыточной, Павел Егорович разорился и вынужден был бежать от кредиторов. Антон, зарабатывая на жизнь репетиторством, остается до окончания учебы в гимназии в Таганроге и приезжает в Москву только в 1879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москва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москва 2"/>
          <p:cNvPicPr/>
          <p:nvPr/>
        </p:nvPicPr>
        <p:blipFill>
          <a:blip r:embed="rId2"/>
          <a:stretch/>
        </p:blipFill>
        <p:spPr>
          <a:xfrm>
            <a:off x="5094360" y="3938760"/>
            <a:ext cx="3146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80019.jpg"/>
          <p:cNvPicPr/>
          <p:nvPr/>
        </p:nvPicPr>
        <p:blipFill>
          <a:blip r:embed="rId1"/>
          <a:stretch/>
        </p:blipFill>
        <p:spPr>
          <a:xfrm>
            <a:off x="214200" y="3000240"/>
            <a:ext cx="4751640" cy="3562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imgB.jpg"/>
          <p:cNvPicPr/>
          <p:nvPr/>
        </p:nvPicPr>
        <p:blipFill>
          <a:blip r:embed="rId2"/>
          <a:stretch/>
        </p:blipFill>
        <p:spPr>
          <a:xfrm>
            <a:off x="4000680" y="214200"/>
            <a:ext cx="497988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57:31Z</dcterms:created>
  <dc:creator>Use</dc:creator>
  <dc:description/>
  <dc:language>en-US</dc:language>
  <cp:lastModifiedBy>User</cp:lastModifiedBy>
  <dcterms:modified xsi:type="dcterms:W3CDTF">2012-03-26T17:00:11Z</dcterms:modified>
  <cp:revision>22</cp:revision>
  <dc:subject/>
  <dc:title>Антон Павлович  Чехов</dc:title>
</cp:coreProperties>
</file>