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4EE5-F961-4926-9484-C5029330B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6855-C046-42AF-9CB1-28A38A23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B50C-5964-4127-AADC-A30AB2060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E18C-3959-43BC-8DEA-E0E77D1B8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7DF1-65C6-49E4-A303-72E3FF31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BCBF-1365-49FA-9DAD-2FBC9BAF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D28B-0F0A-42D2-9A50-50A44AB3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DC0A-034C-4336-8BAC-774BE008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C1B7-B8C5-495C-8469-78795CA6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335C-8E8B-4574-A48F-8331064C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2DC4-FAFF-484E-9534-DC3CB90A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A596-950D-4A56-8649-F09546B9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E4AF-C101-42DE-98CE-02FDBB678A1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06472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ffff"/>
                </a:solidFill>
                <a:latin typeface="Arial"/>
              </a:rPr>
              <a:t>Гжельская роспись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35280" y="1700280"/>
            <a:ext cx="5472000" cy="4824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8592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 второй половины 20-х годов XIX века многие изделия расписывали только синей краской. Полуфаянс отличался грубым строением и малой прочност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3200400" cy="4762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wipe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34560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оспись не допускала поправок и переделок, так как велась по мягкому, не обожженному черепку, покрытому белой эмал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859280" y="1052640"/>
            <a:ext cx="3281400" cy="424800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040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жельцы выпускали отдельно и мелкую майоликовую пластику, которая часто отражала типичные </a:t>
            </a:r>
            <a:r>
              <a:rPr b="0" lang="ru-RU" sz="4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сценки их жизни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, наполненные юмором композиции, солдат, крестьянок, модниц и франтов, занятых теми или иными делам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4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34560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течение многих десятилетий гжельцы создавали изумительные по разнообразию росписи изразцы для оформления печей и каминов. Свыше 500 их образцов хранит теперь в своей коллекции Эрмитаж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24360" y="476280"/>
            <a:ext cx="4967280" cy="415296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3534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рестьяне-кустари трудились от зари до зари, имея дело с глиной и творя из нее необходимые в быту вещи. Каждый из них имел свою манеру и, создавая изделия, вносил собственное видение окружающего мир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4000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Поныне используют </a:t>
            </a:r>
            <a:r>
              <a:rPr b="0" lang="en-US" sz="6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гжельскую посуду</a:t>
            </a:r>
            <a:r>
              <a:rPr b="0" lang="en-US" sz="6000" spc="-1" strike="noStrike" u="sng">
                <a:solidFill>
                  <a:srgbClr val="ffffff"/>
                </a:solidFill>
                <a:uFillTx/>
                <a:latin typeface="Arial"/>
              </a:rPr>
              <a:t>, ведь это история, а историю нужно помнить, хранить и ценить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4000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627280" y="620640"/>
            <a:ext cx="4205160" cy="5411880"/>
          </a:xfrm>
          <a:prstGeom prst="rect">
            <a:avLst/>
          </a:prstGeom>
          <a:ln w="0">
            <a:noFill/>
          </a:ln>
        </p:spPr>
      </p:pic>
      <p:sp>
        <p:nvSpPr>
          <p:cNvPr id="74" name="">
            <a:hlinkClick r:id="rId2" action="ppaction://hlinksldjump"/>
          </p:cNvPr>
          <p:cNvSpPr/>
          <p:nvPr/>
        </p:nvSpPr>
        <p:spPr>
          <a:xfrm>
            <a:off x="684360" y="5589720"/>
            <a:ext cx="718920" cy="360360"/>
          </a:xfrm>
          <a:prstGeom prst="leftArrow">
            <a:avLst>
              <a:gd name="adj1" fmla="val 50000"/>
              <a:gd name="adj2" fmla="val 49875"/>
            </a:avLst>
          </a:prstGeom>
          <a:solidFill>
            <a:srgbClr val="000099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4000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627280" y="404640"/>
            <a:ext cx="3997440" cy="5950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342000" y="6207840"/>
            <a:ext cx="639360" cy="230400"/>
          </a:xfrm>
          <a:prstGeom prst="rect">
            <a:avLst/>
          </a:prstGeom>
          <a:solidFill>
            <a:srgbClr val="000099"/>
          </a:solidFill>
          <a:ln w="9360">
            <a:solidFill>
              <a:srgbClr val="cc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4000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68360" y="1052640"/>
            <a:ext cx="4526280" cy="4525920"/>
          </a:xfrm>
          <a:prstGeom prst="rect">
            <a:avLst/>
          </a:prstGeom>
          <a:ln w="0">
            <a:noFill/>
          </a:ln>
        </p:spPr>
      </p:pic>
      <p:sp>
        <p:nvSpPr>
          <p:cNvPr id="80" name="">
            <a:hlinkClick r:id="rId2" action="ppaction://hlinksldjump"/>
          </p:cNvPr>
          <p:cNvSpPr/>
          <p:nvPr/>
        </p:nvSpPr>
        <p:spPr>
          <a:xfrm>
            <a:off x="395280" y="623736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0099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4000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7201080" cy="5057640"/>
          </a:xfrm>
          <a:prstGeom prst="rect">
            <a:avLst/>
          </a:prstGeom>
          <a:ln w="0">
            <a:noFill/>
          </a:ln>
        </p:spPr>
      </p:pic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468360" y="6093000"/>
            <a:ext cx="790560" cy="431640"/>
          </a:xfrm>
          <a:prstGeom prst="leftArrow">
            <a:avLst>
              <a:gd name="adj1" fmla="val 50000"/>
              <a:gd name="adj2" fmla="val 45788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4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396072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вание Гжель имеет балтийское происхождение, вследствие чего наиболее близкие ему параллели находятся на запад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ое упоминание о Гжели было 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IV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еке в исторических документах (в "Духовной грамоте" Ивана Калиты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932360" y="765000"/>
            <a:ext cx="3389400" cy="508320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896000" y="333360"/>
            <a:ext cx="4248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лее Гжель упоминалась 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V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 завещании царя Ивана IV "Грозног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рез некоторое время продукция Гжели именуется "палевой и цветной посудой", "лучшею из всех делаемых в России сего рода посуд", а сама Гжельская волость "весьма славной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535280" cy="350676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23640" y="4436640"/>
            <a:ext cx="8497800" cy="22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о середины XVIII века Гжель делала обычную для того времени гончарную посуду, изготавливала кирпич, гончарные трубы, изразцы, а также примитивные детские игрушки, снабжая ими Москв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47640" y="404640"/>
            <a:ext cx="5715000" cy="388152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388764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лагают, что количество выпускаемых тогда игрушек должно было исчисляться сотнями тысяч штук в го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780000" y="765000"/>
            <a:ext cx="5364000" cy="493416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35344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истории русской керамики Гжель занимает особое место не только потому, что именно она стала центром народного керамического искусства, но и в силу того, что снабжала многие заводы глиной, поставляла превосходные кадры гончар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19280" y="2576520"/>
            <a:ext cx="5662440" cy="428148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38163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скольку Гжель является старинным центром производства фарфоровой, фаянсовой и глиняной посуды, ещё в прошлом веке появились попытки связать непонятное название местности с её специализаци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788000" y="549360"/>
            <a:ext cx="3809880" cy="566424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560" y="593280"/>
            <a:ext cx="8281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сле 1802 года, когда была найдена светлая серая глина близ деревни Минино, в Гжели возникло производство полуфаянса, из которого во множестве делали квасники, </a:t>
            </a:r>
            <a:r>
              <a:rPr b="0" lang="ru-RU" sz="42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кувшины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и кумганы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4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50560" y="4436640"/>
            <a:ext cx="84978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1812 году в Гжели насчитывается 25 заводов, выпускающих посуду. Среди них самыми популярными были заводы Ермила Иванова и Лаптевых в деревне Кузяе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5975640" cy="398448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5:02:34Z</dcterms:created>
  <dc:creator>Ученик</dc:creator>
  <dc:description/>
  <dc:language>en-US</dc:language>
  <cp:lastModifiedBy>Ученик</cp:lastModifiedBy>
  <dcterms:modified xsi:type="dcterms:W3CDTF">2013-10-09T08:55:40Z</dcterms:modified>
  <cp:revision>14</cp:revision>
  <dc:subject/>
  <dc:title>Гжельская роспись</dc:title>
</cp:coreProperties>
</file>