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7.wmf" ContentType="image/x-wmf"/>
  <Override PartName="/ppt/media/click.wav" ContentType="audio/x-wav"/>
  <Override PartName="/ppt/media/image6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pu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905-8704-41AF-95FB-BB5C8156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62B-165D-4A07-ABBE-62C02C75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E76-3ECB-4509-948A-9B842062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CB7-8DE2-400B-AE61-EC116CB9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36F-8D52-4C1F-9528-404DB4AD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107-A7D0-43E2-842D-7AF7CDB9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01E-0742-4F05-8998-15C67313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BCE-2888-445B-B479-13AB027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1C5-5F52-437A-937A-0195B5A5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EED-9923-4A09-8292-DAC2AD3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3A9-E965-4434-B62A-86BA3B02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0A8-D6DE-4B1B-95DE-94A7B7A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E1CD-E9D3-4C38-BBC1-70BBC6205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5080" y="738000"/>
            <a:ext cx="622764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 исследовательских рабо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ой академии наук школьник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о – образовательного центра СГПИ</a:t>
            </a: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можности использования операцио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LINUX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Шатько О., 9 «В»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Юхно А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. Полтавск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359000"/>
            <a:ext cx="2371680" cy="283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42362" b="-12830"/>
          <a:stretch/>
        </p:blipFill>
        <p:spPr>
          <a:xfrm>
            <a:off x="2556000" y="1133640"/>
            <a:ext cx="6588000" cy="21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680" y="1600200"/>
            <a:ext cx="880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информатики во время изучения темы «Операционные системы»  ученикам 10 «Б» класса было предложено выполнить практическое задание в О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pp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ечатать и отформатировать 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рисунок в растровом редак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тить любую программу из Главного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заданием ученики справились самостоятельно и ответили на вопросы анк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6920" y="3159000"/>
            <a:ext cx="8785080" cy="3224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метили ли вы различия в интерфейсе Linux по сравнению с интерфейсом Windows, если да, то 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3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6920" y="3159000"/>
            <a:ext cx="8785080" cy="258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звала ли работа в Linux у вас затруднения, если да, то 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3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езультатам практического задания и анкетирования можно сделать 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большинства учеников нет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затруднений при работе с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noppix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овательно, замена ОС 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ет проходить без принципиальных изменений в программе школьного курса инфор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итогам работы можно сделать вывод, что, благодаря понятному интерфейсу, ученики средней школы сравнительно легко адаптируются к работе в О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явил следующие преимущества О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платность распрост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ий выбор программн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обеспечения, поставляем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в комплекте с О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ДОЛЖЕНИЕ СЛЕДУ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607080" y="1755720"/>
            <a:ext cx="2374920" cy="2843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5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у своей работы я вижу в рассмотрении и установке более серьёзных и производительных дистрибутив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 Linu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х комплексном сравнении с О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лубоком анализе приложен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адаптации учащихся средней школы к работе в этой 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 моей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изучить возможности использования операционной систем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школе при изучении информатики и доказать, что данная ОС является полноценной альтернатив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визна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ключается в исследовании возможностей адаптации учащихся средней школы к работе в О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перационная система (О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― базовая составляющая ПО компьютера, без которой компьютер не может работать в принци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ые функции любой ОС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совместной работы всех устройств П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ение пользователю доступа к ресурсам П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 программ и управление их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ИЕ БЫВАЮ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85080" y="46080"/>
            <a:ext cx="1201680" cy="143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080" y="152280"/>
            <a:ext cx="1403280" cy="12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74358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на ПК используе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 Windows компании Microso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74358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74358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и альтернативных решений наиболее популярны ОС семейства Linux, которые относятся к свободно распространяемому 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4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NOPP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упрощения работы из ряда различных Linux-систем я выбрал особый дистрибутив ― Knoppix. От других Linux-систем Knoppix отличается тем, что записан на компактный диск и работает с дисковода без необходимости установки на жесткий диск и настройки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АВНЕНИЕ ИНТЕРФЕЙ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ую роль в адаптации учащих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овой ОС играют различия в графических интерфейсах нов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нее использовавшейся 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нтерфейсах Knoppix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дикальных различий нет. В этом можно убедиться, сравнив два рису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024760" y="4835520"/>
            <a:ext cx="1003320" cy="549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398"/>
              <a:gd name="adj5" fmla="val 116643"/>
              <a:gd name="adj6" fmla="val -72305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6469200"/>
            <a:ext cx="158112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-20680"/>
              <a:gd name="adj5" fmla="val -191226"/>
              <a:gd name="adj6" fmla="val -36944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нель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6469200"/>
            <a:ext cx="289404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-7953"/>
              <a:gd name="adj5" fmla="val -188870"/>
              <a:gd name="adj6" fmla="val -13268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нель быстрого за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280" y="6194520"/>
            <a:ext cx="1656000" cy="5490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107958"/>
              <a:gd name="adj5" fmla="val -57467"/>
              <a:gd name="adj6" fmla="val 111583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опка вызов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ого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47000" y="1359000"/>
            <a:ext cx="58572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-136314"/>
              <a:gd name="adj5" fmla="val 141490"/>
              <a:gd name="adj6" fmla="val -263634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77000" y="2529000"/>
            <a:ext cx="1332000" cy="823320"/>
          </a:xfrm>
          <a:prstGeom prst="borderCallout2">
            <a:avLst>
              <a:gd name="adj1" fmla="val 18750"/>
              <a:gd name="adj2" fmla="val -8333"/>
              <a:gd name="adj3" fmla="val 13611"/>
              <a:gd name="adj4" fmla="val -16685"/>
              <a:gd name="adj5" fmla="val -92828"/>
              <a:gd name="adj6" fmla="val -27745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опки управления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200" y="3564000"/>
            <a:ext cx="909720" cy="5490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159861"/>
              <a:gd name="adj5" fmla="val 126407"/>
              <a:gd name="adj6" fmla="val 217087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о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200" y="1989000"/>
            <a:ext cx="90972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144675"/>
              <a:gd name="adj5" fmla="val -104578"/>
              <a:gd name="adj6" fmla="val 184254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л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0" t="0" r="38973" b="6038"/>
          <a:stretch/>
        </p:blipFill>
        <p:spPr>
          <a:xfrm>
            <a:off x="1062000" y="1179360"/>
            <a:ext cx="6975360" cy="179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  <p:sndAc>
      <p:stSnd>
        <p:snd r:embed="rId3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24760" y="4827600"/>
            <a:ext cx="1003320" cy="5490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-40666"/>
              <a:gd name="adj5" fmla="val 69986"/>
              <a:gd name="adj6" fmla="val -75000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6469200"/>
            <a:ext cx="158112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-20680"/>
              <a:gd name="adj5" fmla="val -181935"/>
              <a:gd name="adj6" fmla="val -36944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нель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6469200"/>
            <a:ext cx="289404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-7953"/>
              <a:gd name="adj5" fmla="val -173949"/>
              <a:gd name="adj6" fmla="val -13268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нель быстрого за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47000" y="1359000"/>
            <a:ext cx="58572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-138481"/>
              <a:gd name="adj5" fmla="val 121333"/>
              <a:gd name="adj6" fmla="val -268240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77000" y="2529000"/>
            <a:ext cx="1332000" cy="823320"/>
          </a:xfrm>
          <a:prstGeom prst="borderCallout2">
            <a:avLst>
              <a:gd name="adj1" fmla="val 18750"/>
              <a:gd name="adj2" fmla="val -8333"/>
              <a:gd name="adj3" fmla="val 13611"/>
              <a:gd name="adj4" fmla="val -17638"/>
              <a:gd name="adj5" fmla="val -103055"/>
              <a:gd name="adj6" fmla="val -29773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опки управления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200" y="3564000"/>
            <a:ext cx="909720" cy="5490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156893"/>
              <a:gd name="adj5" fmla="val 91152"/>
              <a:gd name="adj6" fmla="val 210953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о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200" y="1989000"/>
            <a:ext cx="909720" cy="274680"/>
          </a:xfrm>
          <a:prstGeom prst="borderCallout2">
            <a:avLst>
              <a:gd name="adj1" fmla="val 18750"/>
              <a:gd name="adj2" fmla="val -8333"/>
              <a:gd name="adj3" fmla="val 39342"/>
              <a:gd name="adj4" fmla="val 144675"/>
              <a:gd name="adj5" fmla="val -99342"/>
              <a:gd name="adj6" fmla="val 184254"/>
            </a:avLst>
          </a:pr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л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5920" y="6173640"/>
            <a:ext cx="1711440" cy="54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62" y="4369"/>
                </a:moveTo>
                <a:lnTo>
                  <a:pt x="23624" y="4369"/>
                </a:lnTo>
                <a:lnTo>
                  <a:pt x="23624" y="4369"/>
                </a:lnTo>
                <a:lnTo>
                  <a:pt x="20796" y="-6851"/>
                </a:lnTo>
              </a:path>
            </a:pathLst>
          </a:custGeom>
          <a:noFill/>
          <a:ln w="15840">
            <a:solidFill>
              <a:srgbClr val="0000ff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опка вызов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ого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NOPP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0" t="0" r="38973" b="6038"/>
          <a:stretch/>
        </p:blipFill>
        <p:spPr>
          <a:xfrm>
            <a:off x="1062000" y="1179360"/>
            <a:ext cx="6975360" cy="179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  <p:sndAc>
      <p:stSnd>
        <p:snd r:embed="rId3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СТРОЕННЫ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26293" b="-13962"/>
          <a:stretch/>
        </p:blipFill>
        <p:spPr>
          <a:xfrm>
            <a:off x="395280" y="1413000"/>
            <a:ext cx="8424720" cy="217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сутствуют такие необходимые для обучения программы как текстовый процессор, электронные таблицы, редактор презентаций, векторный графический редактор, среда программирования и СУБД (их необходимо приобретать отдель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Knoppix все такие программы присутствуют и часто даже в нескольких вариантах (от разных разработчи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4:43:50Z</dcterms:created>
  <dc:creator>Hohanovs</dc:creator>
  <dc:description/>
  <dc:language>en-US</dc:language>
  <cp:lastModifiedBy>1</cp:lastModifiedBy>
  <dcterms:modified xsi:type="dcterms:W3CDTF">2010-03-27T07:41:27Z</dcterms:modified>
  <cp:revision>12</cp:revision>
  <dc:subject/>
  <dc:title>Школьная научно-практическая конференция «Северное сияние»  LINUX КАК ОПЕРАЦИОННАЯ СИСТЕМА ДЛЯ ИЗУЧЕНИЯ ШКОЛЬНОГО КУРСА ИНФОРМАТИКИ</dc:title>
</cp:coreProperties>
</file>