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85D-F67F-4356-9F34-6F80ABE0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6A5-E0CB-452F-B136-E51FB8B7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864-64F4-4E19-BC7D-BBD97E9B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E31-303D-4B7D-9258-2336882E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092-87DB-4DE3-94CD-7D2DB084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1A6-23C1-4E33-BC8B-5E0B54FF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AE9-3339-40EC-9228-A0B25278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F44B-8C65-4566-BA51-2E1E01FB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FA3-9A74-4268-887E-D57D662E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5A61-A448-4A88-B2FF-67B16A6E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620-AD3D-4DC8-82FC-C292A086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4743-922D-4C79-B051-F645E982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9D79-2BC3-4428-8B97-210CBBA9E8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8a8472"/>
                </a:solidFill>
                <a:latin typeface="Arial"/>
              </a:rPr>
              <a:t>Северный олень</a:t>
            </a:r>
            <a:endParaRPr b="0" lang="en-US" sz="8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42" name="Picture 8" descr="j0202109"/>
          <p:cNvPicPr/>
          <p:nvPr/>
        </p:nvPicPr>
        <p:blipFill>
          <a:blip r:embed="rId1"/>
          <a:stretch/>
        </p:blipFill>
        <p:spPr>
          <a:xfrm>
            <a:off x="1066680" y="1679400"/>
            <a:ext cx="6553440" cy="51786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3657600" y="593424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ученица 8 класса МОУ «СОШ с.Сухой Карабулак» Андриянова И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Андриянова Ю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1680" y="228240"/>
            <a:ext cx="41940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228240"/>
            <a:ext cx="41940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верный олен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иболее ценное животное тундры. Он дает жителям Севера пищу и одежду, а также  является средством передвижения и зимой и летом. Олень спокойное, неприхотливое, послушное живот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thumbnail[6]"/>
          <p:cNvPicPr/>
          <p:nvPr/>
        </p:nvPicPr>
        <p:blipFill>
          <a:blip r:embed="rId1"/>
          <a:stretch/>
        </p:blipFill>
        <p:spPr>
          <a:xfrm>
            <a:off x="152280" y="685800"/>
            <a:ext cx="4648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419400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380880"/>
            <a:ext cx="419400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м, когда корма много, олени нагуливают жир. Олени едят не только лишайник ягель, который еще называют оленьем мхом, летом олени едят грибы, и морошку, и листья осоки, а некоторые и птичьими яйцами лакомя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Image(188)[1]"/>
          <p:cNvPicPr/>
          <p:nvPr/>
        </p:nvPicPr>
        <p:blipFill>
          <a:blip r:embed="rId1"/>
          <a:stretch/>
        </p:blipFill>
        <p:spPr>
          <a:xfrm>
            <a:off x="152280" y="990720"/>
            <a:ext cx="4724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419400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457200"/>
            <a:ext cx="419400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когда тундра покрывается снегом, начинается борьба за выживание. В поисках пищи олени пробегают десятки километ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thumbnail[7]"/>
          <p:cNvPicPr/>
          <p:nvPr/>
        </p:nvPicPr>
        <p:blipFill>
          <a:blip r:embed="rId1"/>
          <a:stretch/>
        </p:blipFill>
        <p:spPr>
          <a:xfrm>
            <a:off x="457200" y="533520"/>
            <a:ext cx="39528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8a8472"/>
                </a:solidFill>
                <a:latin typeface="Arial"/>
              </a:rPr>
              <a:t>Мех у оленя жесткий и очень плотный. Одежда из оленей шкуры спасает ненцев, чукчей от ветров и жестокого холода.</a:t>
            </a:r>
            <a:br>
              <a:rPr sz="4000"/>
            </a:b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DSC00308"/>
          <p:cNvPicPr/>
          <p:nvPr/>
        </p:nvPicPr>
        <p:blipFill>
          <a:blip r:embed="rId1"/>
          <a:stretch/>
        </p:blipFill>
        <p:spPr>
          <a:xfrm>
            <a:off x="1600200" y="251460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419400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380880"/>
            <a:ext cx="419400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ени никогда не живут под крышей, как многие домашние животные и сами добывают корм. Иногда самки (их называют важенки) могут отбиться от стада и уйти за диким оленем, тогда они могут стать добычей вол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thumbnail[2]"/>
          <p:cNvPicPr/>
          <p:nvPr/>
        </p:nvPicPr>
        <p:blipFill>
          <a:blip r:embed="rId1"/>
          <a:stretch/>
        </p:blipFill>
        <p:spPr>
          <a:xfrm>
            <a:off x="228600" y="1371600"/>
            <a:ext cx="4572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0-09T10:22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