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2CE-B6E4-47DD-9E26-CB247BFB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8D5-293E-4BF6-B96E-E5C0C2F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0D6-7036-4D63-B1F7-17C6B52A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8F9-9DCA-4F26-BE7B-B9305532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0B6D-5A70-4D3A-9A4D-6CD13435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38AA-45A8-4533-93A3-2103DBE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59C8-79D2-410E-992B-104BC2DC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98F8-5794-4D42-B9A5-1BF12CDC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6B9A-22D3-47C6-8062-75FF4C68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D45B-3909-4A07-8677-FDE93DC0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73E7-D924-4920-8C1D-AA5EF7B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C37-AE3D-47CC-AB8E-FA02B67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5437-4C52-472D-9D2F-F25A3F9A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707E-6E4D-49E5-8B8E-F148D12A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4F87-C4AD-405B-87AE-19DBDD6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206B-420E-4A6A-B41C-4E5D4771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8B03-1EAF-48E4-8D5F-1834CD97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396-DCF3-40B6-8DF2-C9F73E61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FFF-382F-499B-BAFE-6FCED482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4FA-94A4-4AB4-941F-E65EDF75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6A9-9872-4FF1-9705-56ABC1A7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C5C-E1B7-47E1-8187-A49E9B24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00F-C3BD-4C64-AFE3-977C05A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573-2608-4309-AD39-62C2BEA1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D84-D860-43FC-85DD-46397D4D89A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CBA-55CA-43FB-929A-29CA9C60A93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som.fio.ru/" TargetMode="External"/><Relationship Id="rId2" Type="http://schemas.openxmlformats.org/officeDocument/2006/relationships/hyperlink" Target="http://som.fio.ru/" TargetMode="External"/><Relationship Id="rId3" Type="http://schemas.openxmlformats.org/officeDocument/2006/relationships/hyperlink" Target="http://som.fio.ru/" TargetMode="External"/><Relationship Id="rId4" Type="http://schemas.openxmlformats.org/officeDocument/2006/relationships/hyperlink" Target="http://som.fio.ru/" TargetMode="External"/><Relationship Id="rId5" Type="http://schemas.openxmlformats.org/officeDocument/2006/relationships/hyperlink" Target="http://som.fio.ru/" TargetMode="External"/><Relationship Id="rId6" Type="http://schemas.openxmlformats.org/officeDocument/2006/relationships/hyperlink" Target="http://som.fio.ru/" TargetMode="External"/><Relationship Id="rId7" Type="http://schemas.openxmlformats.org/officeDocument/2006/relationships/hyperlink" Target="http://som.fio.ru/" TargetMode="External"/><Relationship Id="rId8" Type="http://schemas.openxmlformats.org/officeDocument/2006/relationships/hyperlink" Target="http://www.nsk.fio.ru/" TargetMode="External"/><Relationship Id="rId9" Type="http://schemas.openxmlformats.org/officeDocument/2006/relationships/hyperlink" Target="http://www.nsk.fio.ru/" TargetMode="External"/><Relationship Id="rId10" Type="http://schemas.openxmlformats.org/officeDocument/2006/relationships/hyperlink" Target="http://www.nsk.fio.ru/" TargetMode="External"/><Relationship Id="rId11" Type="http://schemas.openxmlformats.org/officeDocument/2006/relationships/hyperlink" Target="http://www.nsk.fio.ru/" TargetMode="External"/><Relationship Id="rId12" Type="http://schemas.openxmlformats.org/officeDocument/2006/relationships/hyperlink" Target="http://www.nsk.fio.ru/" TargetMode="External"/><Relationship Id="rId13" Type="http://schemas.openxmlformats.org/officeDocument/2006/relationships/hyperlink" Target="http://www.nsk.fio.ru/" TargetMode="External"/><Relationship Id="rId14" Type="http://schemas.openxmlformats.org/officeDocument/2006/relationships/hyperlink" Target="http://www.nsk.fio.ru/" TargetMode="External"/><Relationship Id="rId15" Type="http://schemas.openxmlformats.org/officeDocument/2006/relationships/hyperlink" Target="http://www.nsk.fio.ru/" TargetMode="External"/><Relationship Id="rId16" Type="http://schemas.openxmlformats.org/officeDocument/2006/relationships/hyperlink" Target="http://www.nsk.fio.ru/" TargetMode="External"/><Relationship Id="rId17" Type="http://schemas.openxmlformats.org/officeDocument/2006/relationships/hyperlink" Target="http://school.edu.ru/" TargetMode="External"/><Relationship Id="rId18" Type="http://schemas.openxmlformats.org/officeDocument/2006/relationships/hyperlink" Target="http://school.edu.ru/" TargetMode="External"/><Relationship Id="rId19" Type="http://schemas.openxmlformats.org/officeDocument/2006/relationships/hyperlink" Target="http://school.edu.ru/" TargetMode="External"/><Relationship Id="rId20" Type="http://schemas.openxmlformats.org/officeDocument/2006/relationships/hyperlink" Target="http://school.edu.ru/" TargetMode="External"/><Relationship Id="rId21" Type="http://schemas.openxmlformats.org/officeDocument/2006/relationships/hyperlink" Target="http://school.edu.ru/" TargetMode="External"/><Relationship Id="rId22" Type="http://schemas.openxmlformats.org/officeDocument/2006/relationships/hyperlink" Target="http://school.edu.ru/" TargetMode="External"/><Relationship Id="rId23" Type="http://schemas.openxmlformats.org/officeDocument/2006/relationships/hyperlink" Target="http://school.edu.ru/" TargetMode="External"/><Relationship Id="rId24" Type="http://schemas.openxmlformats.org/officeDocument/2006/relationships/hyperlink" Target="http://www.eidos.ru/" TargetMode="External"/><Relationship Id="rId25" Type="http://schemas.openxmlformats.org/officeDocument/2006/relationships/hyperlink" Target="http://www.eidos.ru/" TargetMode="External"/><Relationship Id="rId26" Type="http://schemas.openxmlformats.org/officeDocument/2006/relationships/hyperlink" Target="http://www.eidos.ru/" TargetMode="External"/><Relationship Id="rId27" Type="http://schemas.openxmlformats.org/officeDocument/2006/relationships/hyperlink" Target="http://www.eidos.ru/" TargetMode="External"/><Relationship Id="rId28" Type="http://schemas.openxmlformats.org/officeDocument/2006/relationships/hyperlink" Target="http://www.eidos.ru/" TargetMode="External"/><Relationship Id="rId29" Type="http://schemas.openxmlformats.org/officeDocument/2006/relationships/hyperlink" Target="http://www.eidos.ru/" TargetMode="External"/><Relationship Id="rId30" Type="http://schemas.openxmlformats.org/officeDocument/2006/relationships/hyperlink" Target="http://www.eidos.ru/" TargetMode="External"/><Relationship Id="rId3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рганизация проектной деятельности при обучении математик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1160" y="3733560"/>
            <a:ext cx="7134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Целенаправленна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деятельность, ориентированная на достижение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тторгаемог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ключа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улировку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ретизацию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деятельности и ее распределение между субъектам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ждение способа решения проблемы через решение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торгаем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ектная пап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едство организации деятельности уча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едство самоорганизации и само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9232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сточники информации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традиционные (учебник, тетрадь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традиционные (собственный опыт, дополнительная литература, СМИ, ЦОР-ы, Интернет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Технология поис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родукт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7275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торгаемый результат 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меченный результат (продукт), обладающий системной целостность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 Unicode MS"/>
              </a:rPr>
              <a:t>Презентац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лад, выступление, отчет, дисплей про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07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ллекция работ учащегося за определенный период време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Может рассматривать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точки зрения образовательного прогресса обучающего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точки зрения соответствия учебной программе и стандартам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Учебный проект с точки зрения учащегося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80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зможность делать что-то интересное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ятельность, позволяющая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роявить себ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анс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убличн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емонстрировать достигнутый результа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ятельность, направленная на решение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интересной проблем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уть почувствовать себя самостоятельным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«творцом иде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Учебный проект с точки зрения учител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гративное дидактическое средство развития, обучения и воспитания, которое позволяет вырабатывать и развивать компетентности старшеклассн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Умения старшеклассника, формируемые в проектной деятель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425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улировка цели и постановка задач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ование деятель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иск необходимой информации, ее систематизации и структуриз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следовательские ум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менение знаний, умений и навыков в различных, в том числе и нестандартных ситуация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Умения старшеклассника, формируемые в проектной деятель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3516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, освоение и использование технологии адекватной проблемной ситуации и конечному продукту проектир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анализ и рефлекс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зентация деятельности и ее результа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готовка материалов для проведения през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ие основные требования предъявляются к учебным проектам?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7994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ичие значимой проблемы/задачи (исследовательской, информационной, практической), требующей интегрированного знания, исследовательского поиска её реш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актическая, теоретическая, познавательная значимость предполагаем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лан семинар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5120" y="1817280"/>
            <a:ext cx="8318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день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Лекция – презент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 при обучении матема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день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актические заня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ение темы проекта и его в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рганизация проектной деятель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день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астерск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митация деятельности по выполнению учебного про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ие основные требования предъявляются к учебным проектам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560" y="1904760"/>
            <a:ext cx="79930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стоятельная деятельность учащих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руктурирование содержательной части проекта (с указанием поэтапных результатов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е исследовательских метод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ие виды учебных проектов существуют в образовательной практик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534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характеру доминирующей в проекте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предметно-содержательно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характеру координации 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характеру контак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количеству участников про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продолжительности проект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 характеру доминирующей в проекте деятель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следовательский про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ормационный про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левой /игровой/ про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актико-ориентированный про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 характеру доминирующей в проекте деятель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905120"/>
            <a:ext cx="8208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сследовательский про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язательное выдвижение гипотезы с последующей ее проверкой, обсуждение полученных результа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е методов современной науки: лабораторный эксперимент, моделирование, социологический опрос и друг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 характеру доминирующей в проекте деятельност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424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формационный проек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правлен на сбор информации о каком-то объекте, явлении с целью ее анализа, обобщения и представления для широкой аудитор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орческий проек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редполагает максимально свободный и нетрадиционный подход к оформлению результатов. Это могут быть альманахи, театрализации, произведения изобразительного или декоративно-прикладного искусства, видеофильмы и т. 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 характеру доминирующей в проекте деятельност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49636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олевой /игровой/ проект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Участвуя в нем, проектанты берут на себя роли литературных или исторических персонажей, выдуманных героев и т.п. Результат проекта остается открытым до самого окончания. Чем завершится судебное заседание? Будет ли разрешен конфликт и заключен договор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3692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 характеру доминирующей в проекте деятель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актико-ориентированный проек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нацелен на социальные интересы самих участников проекта или внешнего заказчика. Продукт заранее определен и может быть использован в жизни класса, школы, микрорайона, города, государ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о предметно-содержательной област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нутрипредмет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в рамках одной области зн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жпредметн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й проект, на стыке различных обла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о характеру координации прое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непосредственной координаци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ст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б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 скрытой координаци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о характеру контактов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еди участников одной школы, класс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ород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гион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ран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ных стран ми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Метод проектов в истор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Феррьер, О. Декрол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ж. Дью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Килпатрик, Е.Коллин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Т. Шац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.М. Пистра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.П. Блонский, А.С. Макаренко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о количеству участников проект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905120"/>
            <a:ext cx="76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дивидуальны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рны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руппов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ллективны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ссов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о продолжительности проект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ини-проект (на 1 урок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аткосрочный (4-6 уроков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ительный (месяц, четверть, учебный год и т.п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организовать проектную деятельност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аршеклассников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ехнология организация проектной деятельности старшеклассник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 подх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готовка и реализация проекта включает в себя следующие этап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этап - ориентир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этап - разрабо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этап - реализации про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этап - презентации результатов про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этап - оценки про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Этап ориентирова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аза индивидуального и коллективного обсуж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аза создания групп общения, в которых обсуждаются различные, проблемные ситуации, темы и проекты и могут быть введены новые формы рабо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аза анализа личного опы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Этап разработк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920" y="1905120"/>
            <a:ext cx="7491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аза разработки индивидуальных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аза анализа личного опыта уча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аза разработки коллективных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ение ц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ение ресур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Этап реализации прое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1905120"/>
            <a:ext cx="763452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суждение и выбор методов исследования и поиска инфор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стоятельная работа учащихся над задач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межуточные обсуждения достигнут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формление 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Этап презентации результатов прое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готовка презент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щита 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ехнология организация проектной деятельности старшеклассник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под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этап  - погружение в проблем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этап - организация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этап -  осуществление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этап – презентация результатов, самооценка и самоанали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 этап  - погружение в проблему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ятельность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ормулиру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блему проек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южетную ситуаци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2920" y="1905120"/>
            <a:ext cx="4249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ятельность учащ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уществляю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ичностное присвоение пробл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живание в ситуаци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нятие, уточнение и конкретизацию цели и задач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имеры из истор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Исследовать индивидуально или в группах по 2 – 3 человека  формы тех кусков картона, бумаги, материи, с которыми приходится иметь дело при выполнении работы в мастерс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пробовать ответить на вопрос, сколько понадобилось картона, бумаги, материи для того, чтобы переплести данную кни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делать расчет материалов и стоимости для определенного заказа, сделать соответствующие чертежи, ввести буквенные обозначения и составить формулу для решения подоб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 этап - организация деятельност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4680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ятельность учи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лаг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ланировать деятельность по решению задач проекта (установить «рабочий график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организации групповой работы- распределить амплуа и обязанности в группах (например, аналитик, инициатор, генератор идей и/или новатор, реалист, оптимист, пессимист и т.п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ые формы представления результатов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03280" y="19162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ятельность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уществляю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ланирование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бивку на группы и распределение ролей в груп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бор формы и способа представления информ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3 этап -  осуществление деятельност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7736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ятельность учи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 участвует, 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сультирует по необходимости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навязчиво контролиру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риентирует в поле необходимой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сультирует по презентации результа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8000" y="1904760"/>
            <a:ext cx="41767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ятельность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ботают активно и самостоятель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поиску, сбору и структурированию  необходимой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сультируются по необход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готавливают презентацию результа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 этап – презентация результатов, самооценка и самоанализ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41767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ятельность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нимает итоговый отч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общает и резюмирует полученные результ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водит итоги обу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ценива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24000" y="1905120"/>
            <a:ext cx="5219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ь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монстрирую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проблемы, цели и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ланировать и осуществлять рабо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енный способ решения пробл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лексию деятельности и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оценку деятельности и ее результатив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 может быть представлен «конечный продукт» проектной деятельности учащихся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сай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из данных социологического опрос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лас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изнес-пла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еофильм;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еоклип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ая газе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ый журн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онопроек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р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лек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 может быть представлен «конечный продукт» проектной деятельности учащихся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зайн - маке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ел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зыкальное произвед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льтимедийный продук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кет рекомендац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исьмо в ...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ноз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блика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теводител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кламный проспек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ия иллюстрац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 может быть представлен «конечный продукт» проектной деятельности учащихся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каз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равочни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овар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равнительно-сопоставительный анализ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ать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ценар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иртуальная экскурс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борник сочин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невник путешеств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авы из несуществующего учебни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Что ещ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Как оценить проектные работы учащихся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ценка «продукта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едполагает ответы на вопросы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ученик узнал нового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ученик узнал нов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это использовать в будуще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Как оценить проектные работы учащихся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полагается ли включение самооценки участников проекта в общую оценку проек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полагается ли присуждение мест (I, II, III) или номинаций (за лучшее исследование, за лучшую презентацию и т.д.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Требования к оценк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итерии оценки должны быть выбраны исходя из принципов оптимальности по числу (не более 7-10) и доступности для учащих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итерии должны быть известны всем проектантам задолго до защи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Критерии  оценки проект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начимость и актуальность выдвинутых проблем, адекватность их изучаемой тематике; корректность используемых методов исследования и обработки получаемых результат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ивность каждого участника проекта в соответствии с его индивидуальными возможностям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лективный характер принимаемых решений (при групповой проекте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арактер общения и взаимопомощи, взаимодополняемости участников проект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имеры из истор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1392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Рассмотреть геометрические соотношения в токарном станке, в точильном, в ножной швейной машине и т.д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Рассмотреть ременные и зубчатые передачи, сделать соответствующие обмеры, чертежи, расчеты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Познакомиться с решением соответствующих задач по «Практической арифметике» Норриса и Сми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Критерии оценки проект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обходимая и достаточная глубина проникновения в проблему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влечение знаний из других област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оказательность принимаемых решений, умение аргументировать свои заключения, вывод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стетика оформления результатов проведенного проект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мение отвечать на вопросы оппонентов, лаконичность и аргументированность отве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озможные  перечни критериев оценки проектных рабо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0661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самостоятельность работы над проект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актуальность и значимость т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полнота раскрытия т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оригинальность решения пробл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презентация содержания проек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) использование средств наглядности, технических сред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) ответы на вопрос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озможные  перечни критериев оценки проектных рабо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важность темы проек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глубина исследования проблем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оригинальность предложенных реш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качество выполнения продук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) убедительность през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Экспертный лист для оценки проектов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4247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проекта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Авторы проекта (ФИО, класс) 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истема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 каждому  критерию выражено в следующих бал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иболее пол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данному критерию - 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статочно пол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ответствует данному критерию – 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ич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данному критерию –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 соответству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ому критерию – 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Экспертиза текст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Экспертиза процесса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Экспертиза защиты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Главные достоинства проекта: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лабые стороны проекта: _______________________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Основной вывод эксперта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Экспертиза текста прое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628640"/>
          <a:ext cx="8066160" cy="5430600"/>
        </p:xfrm>
        <a:graphic>
          <a:graphicData uri="http://schemas.openxmlformats.org/drawingml/2006/table">
            <a:tbl>
              <a:tblPr/>
              <a:tblGrid>
                <a:gridCol w="5894280"/>
                <a:gridCol w="217188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Критерии оценки разработанного проект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1. Значимость и актуальность выдвинутой проблем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. Необходимая и достаточная глубина проникновения в проблему и привлечение  для её решения знаний из разных областей науки и практики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3. Полнота и содержательность представленного проект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4. Оригинальность решения проблем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5. Оформление проект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Общая сумма баллов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Экспертиза процесса реализации прое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11280" y="1905120"/>
          <a:ext cx="7922880" cy="4547880"/>
        </p:xfrm>
        <a:graphic>
          <a:graphicData uri="http://schemas.openxmlformats.org/drawingml/2006/table">
            <a:tbl>
              <a:tblPr/>
              <a:tblGrid>
                <a:gridCol w="5748120"/>
                <a:gridCol w="217476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ки процесса реализации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AutoNum type="arabicPeriod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реализации задуманному проекту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мение внести коррективы в реализацию проект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мение взаимодействовать с различными людьми в процессе реализации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ктивность каждого автора проект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баллов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Экспертиза защиты прое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24000" y="1905120"/>
          <a:ext cx="8210160" cy="4691880"/>
        </p:xfrm>
        <a:graphic>
          <a:graphicData uri="http://schemas.openxmlformats.org/drawingml/2006/table">
            <a:tbl>
              <a:tblPr/>
              <a:tblGrid>
                <a:gridCol w="5956560"/>
                <a:gridCol w="22536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ки защиты проект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AutoNum type="arabicPeriod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скрыть сущность реализованного проекта и его основные результаты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Форма представления проект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мение отвечать на вопросы: лаконичность и аргументированность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баллов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Возможные номинации награждения  проектов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642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 «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Комар носу не подточит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победитель тот, кто лучше всех  продумал, разработал и реализовал  проек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Вместе дружная семья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победитель тот, кто реализовал самый масштабный проек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На злобу дня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победитель тот, кто в своем проекте разрешает наиболее актуальную на сегодняшний день проблем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Веер инициатив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победитель тот, кто разработал и реализовал несколько прое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5. «Школьная жемчужина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победитель тот, кто проявил активное участие в разных видах деятельности (организационной, экспертной, проектной, практической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6.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Зрительские симпатии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победитель тот, чей проект особенно понравился присутствующим на публичной презентации-защите проектов и набрал большее количество голосов при Интернет-голосован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меры проектов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Практико-ориентированный проек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8281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: «Звездчатые многогранни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ебный предмет: геомет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олжительность: 1 у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ель: изготовление моделей звездчатых многогран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бходимые материалы: (развертки многогранников) теоретические сведения о предмете, материалы для изгото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укт: мод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меры проектов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Практико-ориентированный проек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78544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ма: «Справочник по методам решения (иррациональных неравенств) в электронном вид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ые предметы: алгебра, информат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должительность: 1,5 меся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ь: обобщить знания учащихся о методах решения неравенств, в частности, иррациональных неравенств и представить результаты обобщения в виде таблиц в электронном ви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дукт: электронное пособие по методам реш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80040" y="246240"/>
            <a:ext cx="6898320" cy="10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то такое метод учебного проект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то такое учебный проект с точки зрения учащегося? Учител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ие умения необходимы для осуществления проектной деятельности и формируются в не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ие основные требования предъявляются к учебным проекта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ие виды учебных проектов существуют в образовательной практике? в практике обучения математик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 организовать проектную деятельность старшекласснико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 может быть представлен «конечный продукт» проектной деятельности учащих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 оценить проектные работы учащих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ры проектов по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то такое телекоммуникационный проек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меры проектов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Информационный проек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69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: Роль Леонарда Эйлера (…) в развитии математ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ы: математика, история, литерат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: подготовить иллюстрированные материалы дл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сайта, посвященного жизни и творчеству великого матема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жительность: 1 меся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укт: материалы дл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сай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имеры проектов</a:t>
            </a:r>
            <a:br>
              <a:rPr sz="4200"/>
            </a:b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Творческий проек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856944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: карта математических открыт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меты: математика, история, 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ель: создать карту, на которой отмечены самые существенные математические открытия выбранного периода с поясне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олжительность: 1 четвер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укт: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меры проектов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Исследовательский проек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0661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: «Эпициклоид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меты: математика, астрономия, география, информатика (программирова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ель: разработать демонстрационную программу, позволяющую моделировать траектории движения планет Солнечной 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олжительность: 1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укт: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имерные темы проектных рабо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79280" y="1905120"/>
          <a:ext cx="8713800" cy="3890880"/>
        </p:xfrm>
        <a:graphic>
          <a:graphicData uri="http://schemas.openxmlformats.org/drawingml/2006/table">
            <a:tbl>
              <a:tblPr/>
              <a:tblGrid>
                <a:gridCol w="1440000"/>
                <a:gridCol w="3538440"/>
                <a:gridCol w="1390680"/>
                <a:gridCol w="2344680"/>
              </a:tblGrid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Подпроект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Межпредметные связи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рение размеров и расстояний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осмосе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Эратосфен – измерение размеров Земли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. Аристарх – измерение размеров Луны и Солнц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. Гиппарх – разработка систем эпициклов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. Птолемей – исследование «пяти блуждающих звезд» - план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сь времени»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может быть в электронном виде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трономия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нформатика)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190440"/>
            <a:ext cx="7632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то такое телекоммуникационный проект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53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вместная учебно-познавательная, исследовательская, творческая или игровая деятельность, организованна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 основе компьютерной телекоммуник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имеющую общую проблему, цель, согласованные методы и способы решения проблемы, направленную на достижение совместного результ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ные цели выполнения ТК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3534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чение навыков использования Интернет для поиска и отбора информации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менение компьютерных технологий для подготовки информации в электронном виде для передачи остальным участника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сновные цели выполнения ТКП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чение опыта использования возможностей Интернет для обмена мнениями и опытом с другими группами участников, получения консультаций научного руководител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обретение опыта работы "в команде" (планирование, распределение функций, взаимопомощь и взаимоконтроль) с использованием дистанционных технолог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28036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ерация Интернет-образования (ФИО) –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som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fio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нет-фестиваль -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://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www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nsk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4"/>
              </a:rPr>
              <a:t>fio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6"/>
              </a:rPr>
              <a:t>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ссийский общеобразовательный портал -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18"/>
              </a:rPr>
              <a:t>://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9"/>
              </a:rPr>
              <a:t>school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20"/>
              </a:rPr>
              <a:t>.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21"/>
              </a:rPr>
              <a:t>edu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22"/>
              </a:rPr>
              <a:t>.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23"/>
              </a:rPr>
              <a:t>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ssoudarev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Проект "Разговор с компьютером" для учащихся 9-10 класс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тр дистанционного образования «Эйдос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» - </a:t>
            </a:r>
            <a:r>
              <a:rPr b="1" lang="en-US" sz="2600" spc="-1" strike="noStrike" u="sng">
                <a:solidFill>
                  <a:srgbClr val="006666"/>
                </a:solidFill>
                <a:uFillTx/>
                <a:latin typeface="Arial"/>
                <a:hlinkClick r:id="rId24"/>
              </a:rPr>
              <a:t>htpp</a:t>
            </a:r>
            <a:r>
              <a:rPr b="1" lang="ru-RU" sz="2600" spc="-1" strike="noStrike" u="sng">
                <a:solidFill>
                  <a:srgbClr val="006666"/>
                </a:solidFill>
                <a:uFillTx/>
                <a:latin typeface="Arial"/>
                <a:hlinkClick r:id="rId25"/>
              </a:rPr>
              <a:t>://</a:t>
            </a:r>
            <a:r>
              <a:rPr b="1" lang="en-US" sz="2600" spc="-1" strike="noStrike" u="sng">
                <a:solidFill>
                  <a:srgbClr val="006666"/>
                </a:solidFill>
                <a:uFillTx/>
                <a:latin typeface="Arial"/>
                <a:hlinkClick r:id="rId26"/>
              </a:rPr>
              <a:t>www</a:t>
            </a:r>
            <a:r>
              <a:rPr b="1" lang="ru-RU" sz="2600" spc="-1" strike="noStrike" u="sng">
                <a:solidFill>
                  <a:srgbClr val="006666"/>
                </a:solidFill>
                <a:uFillTx/>
                <a:latin typeface="Arial"/>
                <a:hlinkClick r:id="rId27"/>
              </a:rPr>
              <a:t>.</a:t>
            </a:r>
            <a:r>
              <a:rPr b="1" lang="en-US" sz="2600" spc="-1" strike="noStrike" u="sng">
                <a:solidFill>
                  <a:srgbClr val="006666"/>
                </a:solidFill>
                <a:uFillTx/>
                <a:latin typeface="Arial"/>
                <a:hlinkClick r:id="rId28"/>
              </a:rPr>
              <a:t>eidos</a:t>
            </a:r>
            <a:r>
              <a:rPr b="1" lang="ru-RU" sz="2600" spc="-1" strike="noStrike" u="sng">
                <a:solidFill>
                  <a:srgbClr val="006666"/>
                </a:solidFill>
                <a:uFillTx/>
                <a:latin typeface="Arial"/>
                <a:hlinkClick r:id="rId29"/>
              </a:rPr>
              <a:t>.</a:t>
            </a:r>
            <a:r>
              <a:rPr b="1" lang="en-US" sz="2600" spc="-1" strike="noStrike" u="sng">
                <a:solidFill>
                  <a:srgbClr val="006666"/>
                </a:solidFill>
                <a:uFillTx/>
                <a:latin typeface="Arial"/>
                <a:hlinkClick r:id="rId30"/>
              </a:rPr>
              <a:t>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7850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Гузеев В.В. Образовательные технологии: от приема до философии. –М., Изд-во «Сибирь», 1996, 112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Заир-Бек Е.С. Основы педагогического проектирования. - СПб., 1995, 23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Новые педагогические и  информационные технологии в системе образования/ под. ред. Е.С. Полат. М,2001 – 272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Пахомова Н.Ю. Метод учебного проекта в образовательном учреждении. М., 2005 –112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Полат Е.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6. Прутченков А.С. Шаг за шагом. технология разработки и реализации социального проекта, М., 200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7. Сергеев И.С. Как организовать проектную деятельность учащихся. М.,2005 – 80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тод учебного проекта - основа организации проектной деятельности учащихся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97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а из личностно ориентированных технологий, способ организации самостоятельной деятельности учащихся, направленный на решение задачи реализации учебного проекта, интегрирующий в себе проблемный, исследовательский, поисковый подходы, групповые методы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77788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ект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совокупность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«шести П»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ектиро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904760"/>
            <a:ext cx="777708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оретический или практический вопрос, требующий изучения и разре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язательное 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тиворечие между исходными данными и требованием найти неизвестн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23:14Z</dcterms:created>
  <dc:creator>Alex</dc:creator>
  <dc:description/>
  <dc:language>en-US</dc:language>
  <cp:lastModifiedBy>Alex</cp:lastModifiedBy>
  <dcterms:modified xsi:type="dcterms:W3CDTF">2007-12-05T11:44:53Z</dcterms:modified>
  <cp:revision>24</cp:revision>
  <dc:subject/>
  <dc:title>Технология организации проектной деятельности при обучении математике </dc:title>
</cp:coreProperties>
</file>