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0AC-1DF0-4FCA-A94E-D1A803A4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5B9-B2D2-4775-AC5A-75439C8D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1A1-8FF3-4011-9D7B-129D340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41D-C989-4A51-A3B3-EFA0F0B1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444A-8F63-4FEF-AC02-4E8FC94F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584-0AE9-4D7F-938A-5662A40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B312-120F-47AE-B07C-8743858C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F8E7-49A2-467E-8E2F-691826B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0941-1B55-4551-B6B9-452EFC3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39D3-2A9A-4EEC-9151-9EAC9F9D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7508-3895-4991-BE97-1FB8DFD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E13-4748-4C2E-A9F9-C024945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200F-3BC0-4234-8356-5E42366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AAE0-FF97-43E2-BEE7-B51944F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A05-C162-4ADA-AC34-B4ED553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314C-073B-4D25-8DA8-ACBA584C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EE3-674F-4CC6-9F2C-8ABB55A7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583-7764-4974-80C3-0D461D6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A6B-893C-471A-B257-775B164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D3E-9A4A-41FE-94A4-BCE0EEA2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E15-6EDB-4B70-A9E9-32FEE06D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CDE-FC07-40AE-9D3E-C3D87388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A4B-2BAF-4A62-B42E-45C989B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6AE-A55B-4A33-9050-6D449A3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F3B-7B85-4298-8F90-099AA1EE0F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1094-7F9A-47C8-A892-E59F385CF6D7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6%20&#1082;&#1083;&#1072;&#1089;&#1089;/&#1082;&#1086;&#1083;&#1099;&#1073;&#1077;&#1083;&#1100;&#1085;&#1072;&#1103;.mp3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ля чего нужна музы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открывает путь к Бог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колокольный звон.mp3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kupol hrama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64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Благослови, душе моя , Господа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благослови.mp3" descr=""/>
          <p:cNvPicPr/>
          <p:nvPr/>
        </p:nvPicPr>
        <p:blipFill>
          <a:blip r:embed="rId3"/>
          <a:stretch/>
        </p:blipFill>
        <p:spPr>
          <a:xfrm>
            <a:off x="4495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4278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18489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сближает, объединяе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.Митяев «Как здорово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4" descr="200px-Mityaev1bw"/>
          <p:cNvPicPr/>
          <p:nvPr/>
        </p:nvPicPr>
        <p:blipFill>
          <a:blip r:embed="rId1"/>
          <a:stretch/>
        </p:blipFill>
        <p:spPr>
          <a:xfrm>
            <a:off x="2333520" y="2590920"/>
            <a:ext cx="3762360" cy="4267080"/>
          </a:xfrm>
          <a:prstGeom prst="rect">
            <a:avLst/>
          </a:prstGeom>
          <a:ln w="0">
            <a:noFill/>
          </a:ln>
        </p:spPr>
      </p:pic>
      <p:pic>
        <p:nvPicPr>
          <p:cNvPr id="388" name="Как здорово ....mp3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90616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помогает в проведении обрядов и праздни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ождеств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Свят вечер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4" descr="rojdestvo001"/>
          <p:cNvPicPr/>
          <p:nvPr/>
        </p:nvPicPr>
        <p:blipFill>
          <a:blip r:embed="rId1"/>
          <a:stretch/>
        </p:blipFill>
        <p:spPr>
          <a:xfrm>
            <a:off x="5257800" y="1676520"/>
            <a:ext cx="3395520" cy="5181480"/>
          </a:xfrm>
          <a:prstGeom prst="rect">
            <a:avLst/>
          </a:prstGeom>
          <a:ln w="0">
            <a:noFill/>
          </a:ln>
        </p:spPr>
      </p:pic>
      <p:pic>
        <p:nvPicPr>
          <p:cNvPr id="392" name="свят вечер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30376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в неумелых руках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калечит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итмические звуки вызывают в мозг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процессы, провоцирующие выработку организмом эндогенного алкого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верхмощная акустика вызывает «слуховой стресс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это может способствовать возникновению патологическо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висимост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myzuka.ru_10_bring_back_the_rhythm.mp3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37955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ак изменилась структура воды при воздействии на неё музыки, такой, как тяжёлый метал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398" name="myzuka.ru_10_bring_back_the_rhythm.mp3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3795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ой можно контузи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сле 40 минут, проведенных в зале с мощностью звука 120-140 децибел, люди получают звуковую контузи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Шум, громкостью 110 децибел, вызывает болевые ощущен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лечит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Музыкотерап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Лечебные свойства музы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еансы музыкальной терапии успокаивают, снижают стрессы и  улучшают психологическое состояние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Шуберт «Аве, Мария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сследователи обнаружили, что периодическое прослушивание классической музыки снижает артериальное давлени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ендельсон «Свадебный марш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5" descr="бабочка"/>
          <p:cNvPicPr/>
          <p:nvPr/>
        </p:nvPicPr>
        <p:blipFill>
          <a:blip r:embed="rId1"/>
          <a:stretch/>
        </p:blipFill>
        <p:spPr>
          <a:xfrm>
            <a:off x="6880320" y="4869000"/>
            <a:ext cx="1452600" cy="1466640"/>
          </a:xfrm>
          <a:prstGeom prst="rect">
            <a:avLst/>
          </a:prstGeom>
          <a:ln w="0">
            <a:noFill/>
          </a:ln>
        </p:spPr>
      </p:pic>
      <p:pic>
        <p:nvPicPr>
          <p:cNvPr id="406" name="19 F Chubert - Ave Maria.mp3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7" name="43 Mendel'son  - Svadebniy march.mp3" descr=""/>
          <p:cNvPicPr/>
          <p:nvPr/>
        </p:nvPicPr>
        <p:blipFill>
          <a:blip r:embed="rId3"/>
          <a:stretch/>
        </p:blipFill>
        <p:spPr>
          <a:xfrm>
            <a:off x="5638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314776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86067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Лечебные свойства музы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едативные препараты и антидепрессанты  с успехом  заменяют классической музыко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айдн «Симфония при свечах»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ециальные музыкальные композиции  позволяют снизить уровень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одержания стрессовых гормонов в кров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Бетховен «Адажио кантабиле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0" name="12 I Gaydn - Simfonia pri svechax.mp3" descr=""/>
          <p:cNvPicPr/>
          <p:nvPr/>
        </p:nvPicPr>
        <p:blipFill>
          <a:blip r:embed="rId1"/>
          <a:stretch/>
        </p:blipFill>
        <p:spPr>
          <a:xfrm>
            <a:off x="75438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1" name="18 L Beethoven - Adajio kontabile.mp3" descr=""/>
          <p:cNvPicPr/>
          <p:nvPr/>
        </p:nvPicPr>
        <p:blipFill>
          <a:blip r:embed="rId2"/>
          <a:stretch/>
        </p:blipFill>
        <p:spPr>
          <a:xfrm>
            <a:off x="73915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511765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23057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Так выглядит структура воды после прослушивания 40-й симфонии Моцар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414" name="10.mp3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492596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прославляет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День Победы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Picture 2" descr="\\Server\общая\Учителя\Горожанцева Е.П\конкурс\52.jpg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  <p:pic>
        <p:nvPicPr>
          <p:cNvPr id="353" name="004 Л.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3509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бодри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. Высоц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Утренняя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имнастик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1"/>
          <a:stretch/>
        </p:blipFill>
        <p:spPr>
          <a:xfrm>
            <a:off x="5786280" y="1981080"/>
            <a:ext cx="3357720" cy="4876920"/>
          </a:xfrm>
          <a:prstGeom prst="rect">
            <a:avLst/>
          </a:prstGeom>
          <a:ln w="0">
            <a:noFill/>
          </a:ln>
        </p:spPr>
      </p:pic>
      <p:pic>
        <p:nvPicPr>
          <p:cNvPr id="357" name="#4_3_Utrennyaya gimnastika.mp3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3473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расслабляет, успокаивает –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колыбельные </a:t>
            </a:r>
            <a:br>
              <a:rPr sz="4000"/>
            </a:br>
            <a:r>
              <a:rPr b="0" lang="ru-RU" sz="4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(«Спи, моя , радость, усни»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Picture 4" descr="мать с ребенком efb27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0" name="колыбельная.mp3" descr=""/>
          <p:cNvPicPr/>
          <p:nvPr/>
        </p:nvPicPr>
        <p:blipFill>
          <a:blip r:embed="rId3"/>
          <a:stretch/>
        </p:blipFill>
        <p:spPr>
          <a:xfrm>
            <a:off x="11430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7784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3. Музыка призывает к действи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Священная война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6" descr="мать зовёт"/>
          <p:cNvPicPr/>
          <p:nvPr/>
        </p:nvPicPr>
        <p:blipFill>
          <a:blip r:embed="rId1"/>
          <a:stretch/>
        </p:blipFill>
        <p:spPr>
          <a:xfrm>
            <a:off x="5210280" y="1600200"/>
            <a:ext cx="4048200" cy="5410080"/>
          </a:xfrm>
          <a:prstGeom prst="rect">
            <a:avLst/>
          </a:prstGeom>
          <a:ln w="0">
            <a:noFill/>
          </a:ln>
        </p:spPr>
      </p:pic>
      <p:pic>
        <p:nvPicPr>
          <p:cNvPr id="364" name="03 - Краснознаменный ансамбль - Священная война.mp3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447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помогает в труд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Эй, ухнем!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repin-burlaki-na-volge"/>
          <p:cNvPicPr/>
          <p:nvPr/>
        </p:nvPicPr>
        <p:blipFill>
          <a:blip r:embed="rId1"/>
          <a:stretch/>
        </p:blipFill>
        <p:spPr>
          <a:xfrm>
            <a:off x="0" y="2604960"/>
            <a:ext cx="9524880" cy="4430880"/>
          </a:xfrm>
          <a:prstGeom prst="rect">
            <a:avLst/>
          </a:prstGeom>
          <a:ln w="0">
            <a:noFill/>
          </a:ln>
        </p:spPr>
      </p:pic>
      <p:pic>
        <p:nvPicPr>
          <p:cNvPr id="368" name="Федор_Шаляпин_-_Эй,_ухнем_(audiopoisk.com).mp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3865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узыка помогает выражать мысли и убеждени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.Высоцкий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Кони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ривередливые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1"/>
          <a:stretch/>
        </p:blipFill>
        <p:spPr>
          <a:xfrm>
            <a:off x="5576760" y="1676520"/>
            <a:ext cx="3567240" cy="5181480"/>
          </a:xfrm>
          <a:prstGeom prst="rect">
            <a:avLst/>
          </a:prstGeom>
          <a:ln w="0">
            <a:noFill/>
          </a:ln>
        </p:spPr>
      </p:pic>
      <p:pic>
        <p:nvPicPr>
          <p:cNvPr id="372" name="21-Кони привередливые-Высоцкий Владимир.mp3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12272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помогает изучать истори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Марсельеза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марсельеза.mp3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марсельеза"/>
          <p:cNvPicPr/>
          <p:nvPr/>
        </p:nvPicPr>
        <p:blipFill>
          <a:blip r:embed="rId2"/>
          <a:stretch/>
        </p:blipFill>
        <p:spPr>
          <a:xfrm>
            <a:off x="762120" y="2666880"/>
            <a:ext cx="7467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6008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Синий платочек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Picture 2" descr="\\Server\общая\Учителя\Горожанцева Е.П\конкурс\дети.jpg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379" name="синий платочек.mp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6056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7T14:12:1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